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529888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620E-30E5-4F5A-A0DB-A986F9985206}" type="datetime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49320" y="744120"/>
            <a:ext cx="489888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0397-8061-4896-B913-A1ED7BF4B3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743B-F414-4FF0-ACA6-67C5632AA0CF}" type="datetime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D14A-B58C-495C-ADE3-A0D332FBF8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49320" y="744480"/>
            <a:ext cx="489888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27200" y="4427640"/>
            <a:ext cx="941040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272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494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08880" y="176832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090560" y="176832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27200" y="442764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08880" y="442764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090560" y="442764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27200" y="39240"/>
            <a:ext cx="9410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272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494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27200" y="4427640"/>
            <a:ext cx="941040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9"/>
          <p:cNvGraphicFramePr/>
          <p:nvPr/>
        </p:nvGraphicFramePr>
        <p:xfrm>
          <a:off x="800280" y="7569360"/>
          <a:ext cx="1800000" cy="17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280" y="7569360"/>
                    <a:ext cx="1800000" cy="1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Text Box 7"/>
          <p:cNvSpPr/>
          <p:nvPr/>
        </p:nvSpPr>
        <p:spPr>
          <a:xfrm>
            <a:off x="-2224080" y="0"/>
            <a:ext cx="2095560" cy="87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封面英文标题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Arial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47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黑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反白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封面中文标题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黑体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40-47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黑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反白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英文内页标题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Arial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30-35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 R153 G0 B0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英文内页正文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 Ar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18-24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R0 G0 B0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中文内页标题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黑体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35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 R153 G0 B0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中文内页正文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细黑体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22-24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R0 G0 B0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</p:txBody>
      </p:sp>
      <p:pic>
        <p:nvPicPr>
          <p:cNvPr id="3" name="Picture 11" descr="海思-修"/>
          <p:cNvPicPr/>
          <p:nvPr/>
        </p:nvPicPr>
        <p:blipFill>
          <a:blip r:embed="rId4"/>
          <a:stretch/>
        </p:blipFill>
        <p:spPr>
          <a:xfrm>
            <a:off x="8504280" y="7481880"/>
            <a:ext cx="1728720" cy="35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33192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4080" indent="-265320">
              <a:spcBef>
                <a:spcPts val="601"/>
              </a:spcBef>
              <a:buClr>
                <a:srgbClr val="808080"/>
              </a:buClr>
              <a:buSzPct val="12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52560" indent="-264960">
              <a:spcBef>
                <a:spcPts val="601"/>
              </a:spcBef>
              <a:buClr>
                <a:srgbClr val="3333ff"/>
              </a:buClr>
              <a:buFont typeface="Wingdings" charset="2"/>
              <a:buChar char="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382840" indent="-2649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382840" indent="-26496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382840" indent="-26496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E6957F17-CDC5-41DA-97F8-CE1459AE7F43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0" y="1336680"/>
            <a:ext cx="10528200" cy="71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333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8" name="Rectangle 19"/>
          <p:cNvSpPr/>
          <p:nvPr/>
        </p:nvSpPr>
        <p:spPr>
          <a:xfrm>
            <a:off x="0" y="7313760"/>
            <a:ext cx="10528200" cy="71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333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DD9210E4-FF5D-4378-B63E-AC9A6ECBA360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3" name="Rectangle 39"/>
          <p:cNvSpPr/>
          <p:nvPr/>
        </p:nvSpPr>
        <p:spPr>
          <a:xfrm>
            <a:off x="0" y="0"/>
            <a:ext cx="10528200" cy="800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pic>
        <p:nvPicPr>
          <p:cNvPr id="54" name="Picture 69" descr="海思-修"/>
          <p:cNvPicPr/>
          <p:nvPr/>
        </p:nvPicPr>
        <p:blipFill>
          <a:blip r:embed="rId1"/>
          <a:stretch/>
        </p:blipFill>
        <p:spPr>
          <a:xfrm>
            <a:off x="0" y="0"/>
            <a:ext cx="10528200" cy="790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Object 14"/>
          <p:cNvGraphicFramePr/>
          <p:nvPr/>
        </p:nvGraphicFramePr>
        <p:xfrm>
          <a:off x="655560" y="7313760"/>
          <a:ext cx="2448000" cy="14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560" y="7313760"/>
                    <a:ext cx="2448000" cy="1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Picture 51" descr="海思-修"/>
          <p:cNvPicPr/>
          <p:nvPr/>
        </p:nvPicPr>
        <p:blipFill>
          <a:blip r:embed="rId4"/>
          <a:stretch/>
        </p:blipFill>
        <p:spPr>
          <a:xfrm>
            <a:off x="7856640" y="7169040"/>
            <a:ext cx="1985760" cy="4111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0"/>
          <p:cNvSpPr/>
          <p:nvPr/>
        </p:nvSpPr>
        <p:spPr>
          <a:xfrm>
            <a:off x="2239920" y="2921040"/>
            <a:ext cx="8209080" cy="1743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216000" bIns="21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CA" sz="2600" spc="-1" strike="noStrike">
                <a:solidFill>
                  <a:srgbClr val="000000"/>
                </a:solidFill>
                <a:latin typeface="Arial"/>
              </a:rPr>
              <a:t>Clean up on DBBP location derivation</a:t>
            </a: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Xu Chen, Xiaozhen Zheng, Yongbing Lin, Jianhua Zheng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9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3565110E-1319-48E7-B2F7-69B3A6F4A98D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83920" y="1768320"/>
            <a:ext cx="95043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et alignment with HTM and text of 3D-HEVC(proposed 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 location derivation(proposed 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r minor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ding gain for synthesized views on C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 to be adop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矩形 4"/>
          <p:cNvSpPr/>
          <p:nvPr/>
        </p:nvSpPr>
        <p:spPr>
          <a:xfrm>
            <a:off x="3247920" y="6087960"/>
            <a:ext cx="6912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for cross-check by MediaTek </a:t>
            </a: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FFBD1A1D-016D-4744-B4BB-F8990189C0F4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0" y="0"/>
            <a:ext cx="10528200" cy="8001000"/>
          </a:xfrm>
          <a:prstGeom prst="rect">
            <a:avLst/>
          </a:prstGeom>
          <a:solidFill>
            <a:srgbClr val="a7a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824280" y="47214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Thank you!</a:t>
            </a:r>
            <a:endParaRPr b="0" lang="en-US" sz="4400" spc="-1" strike="noStrike">
              <a:solidFill>
                <a:srgbClr val="6699ff"/>
              </a:solidFill>
              <a:latin typeface="Arial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3763800" y="2122560"/>
            <a:ext cx="3197520" cy="2442960"/>
            <a:chOff x="3763800" y="2122560"/>
            <a:chExt cx="3197520" cy="2442960"/>
          </a:xfrm>
        </p:grpSpPr>
        <p:pic>
          <p:nvPicPr>
            <p:cNvPr id="111" name="Picture 5" descr="风车"/>
            <p:cNvPicPr/>
            <p:nvPr/>
          </p:nvPicPr>
          <p:blipFill>
            <a:blip r:embed="rId1"/>
            <a:srcRect l="17909" t="40828" r="0" b="0"/>
            <a:stretch/>
          </p:blipFill>
          <p:spPr>
            <a:xfrm>
              <a:off x="3816360" y="2173320"/>
              <a:ext cx="3105000" cy="23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Rectangle 6"/>
            <p:cNvSpPr/>
            <p:nvPr/>
          </p:nvSpPr>
          <p:spPr>
            <a:xfrm>
              <a:off x="3763800" y="2122560"/>
              <a:ext cx="3197520" cy="2442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spcBef>
                  <a:spcPts val="649"/>
                </a:spcBef>
                <a:buClr>
                  <a:srgbClr val="cc0000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6699ff"/>
                </a:solidFill>
                <a:latin typeface="Arial"/>
              </a:endParaRPr>
            </a:p>
          </p:txBody>
        </p:sp>
      </p:grpSp>
      <p:sp>
        <p:nvSpPr>
          <p:cNvPr id="113" name="Text Box 7"/>
          <p:cNvSpPr/>
          <p:nvPr/>
        </p:nvSpPr>
        <p:spPr>
          <a:xfrm>
            <a:off x="4400640" y="55134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www.hisilicon.com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AED0EC5D-0795-41E4-8F27-AD85F0B96D12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79200" y="1623960"/>
            <a:ext cx="1022544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860400" indent="-33192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华文细黑"/>
              </a:rPr>
              <a:t>Current HTM, location of top-left luma sample of the corresponded depth block is calculated with limitation: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华文细黑"/>
              </a:rPr>
              <a:t>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华文细黑"/>
              </a:rPr>
              <a:t>Clip3(0, PictureWidth(Heigh) - BlockWidth(Heigh), xTb(yTb) + ((mvDisp[ 0 ]+2) &gt;&gt;2))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华文细黑"/>
              </a:rPr>
              <a:t>Current text of 3D-HEVC, location of luma sample of the corresponded depth block is calculated with limitation: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华文细黑"/>
              </a:rPr>
              <a:t>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华文细黑"/>
              </a:rPr>
              <a:t>Clip3(0, PictureWidth(Heigh) - 1, xTb(yTb) + ((mvDisp[ 0 ]+2) &gt;&gt;2))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4" name="Rectangle 39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pic>
        <p:nvPicPr>
          <p:cNvPr id="65" name="Picture 49" descr=""/>
          <p:cNvPicPr/>
          <p:nvPr/>
        </p:nvPicPr>
        <p:blipFill>
          <a:blip r:embed="rId1"/>
          <a:stretch/>
        </p:blipFill>
        <p:spPr>
          <a:xfrm>
            <a:off x="1735200" y="4145040"/>
            <a:ext cx="73627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0A1F3AB1-AECF-4458-84FC-4B7D54188850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roposed 1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68280" y="1623960"/>
            <a:ext cx="95760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860400" indent="-3319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Set HTM align with text of 3D-HEVC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华文细黑"/>
              </a:rPr>
              <a:t>  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2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华文细黑"/>
              </a:rPr>
              <a:t>                 </a:t>
            </a:r>
            <a:endParaRPr b="0" lang="en-US" sz="2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71" name="Rectangle 68"/>
          <p:cNvSpPr/>
          <p:nvPr/>
        </p:nvSpPr>
        <p:spPr>
          <a:xfrm>
            <a:off x="0" y="0"/>
            <a:ext cx="1052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pic>
        <p:nvPicPr>
          <p:cNvPr id="73" name="Picture 10" descr=""/>
          <p:cNvPicPr/>
          <p:nvPr/>
        </p:nvPicPr>
        <p:blipFill>
          <a:blip r:embed="rId1"/>
          <a:stretch/>
        </p:blipFill>
        <p:spPr>
          <a:xfrm>
            <a:off x="3435480" y="2647800"/>
            <a:ext cx="365760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D4205E77-0629-4705-8DFA-D85EA40166F0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roposed 2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pic>
        <p:nvPicPr>
          <p:cNvPr id="77" name="Rectangle 3" descr=""/>
          <p:cNvPicPr/>
          <p:nvPr/>
        </p:nvPicPr>
        <p:blipFill>
          <a:blip r:embed="rId1"/>
          <a:stretch/>
        </p:blipFill>
        <p:spPr>
          <a:xfrm>
            <a:off x="360360" y="1579680"/>
            <a:ext cx="9947160" cy="51451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79" name="Rectangle 68"/>
          <p:cNvSpPr/>
          <p:nvPr/>
        </p:nvSpPr>
        <p:spPr>
          <a:xfrm>
            <a:off x="0" y="0"/>
            <a:ext cx="1052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E743655F-8774-4D73-98BA-8314311BA5B5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roposed 2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pic>
        <p:nvPicPr>
          <p:cNvPr id="83" name="Rectangle 3" descr=""/>
          <p:cNvPicPr/>
          <p:nvPr/>
        </p:nvPicPr>
        <p:blipFill>
          <a:blip r:embed="rId1"/>
          <a:stretch/>
        </p:blipFill>
        <p:spPr>
          <a:xfrm>
            <a:off x="115920" y="1579680"/>
            <a:ext cx="10266480" cy="60768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85" name="Rectangle 68"/>
          <p:cNvSpPr/>
          <p:nvPr/>
        </p:nvSpPr>
        <p:spPr>
          <a:xfrm>
            <a:off x="0" y="0"/>
            <a:ext cx="1052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37C172D5-D5E5-44C1-8669-4476FBE3B438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Result proposed 1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26840" y="1695600"/>
            <a:ext cx="87138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11 Test condition: C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447920" y="2705040"/>
          <a:ext cx="7665840" cy="2763720"/>
        </p:xfrm>
        <a:graphic>
          <a:graphicData uri="http://schemas.openxmlformats.org/drawingml/2006/table">
            <a:tbl>
              <a:tblPr/>
              <a:tblGrid>
                <a:gridCol w="1123920"/>
                <a:gridCol w="755640"/>
                <a:gridCol w="757080"/>
                <a:gridCol w="755640"/>
                <a:gridCol w="755640"/>
                <a:gridCol w="757440"/>
                <a:gridCol w="755640"/>
                <a:gridCol w="668160"/>
                <a:gridCol w="668520"/>
                <a:gridCol w="668160"/>
              </a:tblGrid>
              <a:tr h="466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0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1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PSNR / video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PSNR / total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ynth PSNR / total bitrate 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en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de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ren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Balloons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7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8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8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Kendo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7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.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Newspaper_CC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.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GT_Fly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Poznan_Hall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.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8.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8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Poznan_Street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4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.7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Undo_Dancer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1.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2.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hark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7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2.9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24x76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.9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7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920x108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8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verage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15928D26-69C8-43E7-99B9-42A3D4C079E5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Result proposed 2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6840" y="1695600"/>
            <a:ext cx="87138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11 Test condition: C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447920" y="2705040"/>
          <a:ext cx="7665840" cy="2849760"/>
        </p:xfrm>
        <a:graphic>
          <a:graphicData uri="http://schemas.openxmlformats.org/drawingml/2006/table">
            <a:tbl>
              <a:tblPr/>
              <a:tblGrid>
                <a:gridCol w="1123920"/>
                <a:gridCol w="755640"/>
                <a:gridCol w="757080"/>
                <a:gridCol w="755640"/>
                <a:gridCol w="755640"/>
                <a:gridCol w="757440"/>
                <a:gridCol w="755640"/>
                <a:gridCol w="668160"/>
                <a:gridCol w="668520"/>
                <a:gridCol w="668160"/>
              </a:tblGrid>
              <a:tr h="449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0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1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PSNR / video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PSNR / total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ynth PSNR / total bitrate 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en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de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ren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216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Balloons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8.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6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Kendo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7.8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Newspaper_CC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.8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GT_Fly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Poznan_Hall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.8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8.9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.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Poznan_Street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8.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8.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Undo_Dancer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1.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1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hark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.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8.7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24x76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.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.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920x108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.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.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verage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.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.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FEB92748-BF6A-40F2-90EE-639BDF2A38DF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Result proposed 2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6840" y="1695600"/>
            <a:ext cx="87138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11 Test condition: CTC (DepthRefineflag of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447920" y="2705040"/>
          <a:ext cx="7665840" cy="2849760"/>
        </p:xfrm>
        <a:graphic>
          <a:graphicData uri="http://schemas.openxmlformats.org/drawingml/2006/table">
            <a:tbl>
              <a:tblPr/>
              <a:tblGrid>
                <a:gridCol w="1123920"/>
                <a:gridCol w="755640"/>
                <a:gridCol w="757080"/>
                <a:gridCol w="755640"/>
                <a:gridCol w="755640"/>
                <a:gridCol w="757440"/>
                <a:gridCol w="755640"/>
                <a:gridCol w="668160"/>
                <a:gridCol w="668520"/>
                <a:gridCol w="668160"/>
              </a:tblGrid>
              <a:tr h="449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0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1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PSNR / video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PSNR / total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ynth PSNR / total bitrate 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en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de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ren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216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Balloons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7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7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.7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6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Kendo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1.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Newspaper_CC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7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.9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1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GT_Fly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8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.9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8.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7.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Poznan_Hall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7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.8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.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Poznan_Street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2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3.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Undo_Dancer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2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.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hark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8.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7.9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3.7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24x76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7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920x108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8.9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verage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.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.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.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B977A403-B324-482F-B455-C535CB70AF28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Result proposed 1+2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26840" y="1695600"/>
            <a:ext cx="87138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11 Test condition: CTC (DepthRefineflag of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447920" y="2705040"/>
          <a:ext cx="7665840" cy="2763720"/>
        </p:xfrm>
        <a:graphic>
          <a:graphicData uri="http://schemas.openxmlformats.org/drawingml/2006/table">
            <a:tbl>
              <a:tblPr/>
              <a:tblGrid>
                <a:gridCol w="1123920"/>
                <a:gridCol w="755640"/>
                <a:gridCol w="757080"/>
                <a:gridCol w="755640"/>
                <a:gridCol w="755640"/>
                <a:gridCol w="757440"/>
                <a:gridCol w="755640"/>
                <a:gridCol w="668160"/>
                <a:gridCol w="668520"/>
                <a:gridCol w="668160"/>
              </a:tblGrid>
              <a:tr h="466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0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1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PSNR / video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PSNR / total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ynth PSNR / total bitrate 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en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de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ren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Balloons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7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8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99.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97.9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100.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8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Kendo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2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98.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101.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99.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Newspaper_CC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8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100.8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104.7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101.8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GT_Fly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101.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102.7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103.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Poznan_Hall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1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8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99.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101.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95.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8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Poznan_Street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8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99.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96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96.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Undo_Dancer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7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101.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96.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101.9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hark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98.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97.9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94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24x76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7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99.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101.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100.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7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920x108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100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98.9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98.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verage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99.8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99.8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99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Rectangle 1"/>
          <p:cNvSpPr/>
          <p:nvPr/>
        </p:nvSpPr>
        <p:spPr>
          <a:xfrm>
            <a:off x="942840" y="5802120"/>
            <a:ext cx="3673440" cy="3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40000"/>
              </a:lnSpc>
              <a:spcBef>
                <a:spcPts val="275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s: time results are not accurate as test not by same server)</a:t>
            </a:r>
            <a:endParaRPr b="0" lang="en-US" sz="11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08:10:34Z</dcterms:created>
  <dc:creator>guopeng</dc:creator>
  <dc:description/>
  <dc:language>en-US</dc:language>
  <cp:lastModifiedBy>c00232985</cp:lastModifiedBy>
  <dcterms:modified xsi:type="dcterms:W3CDTF">2015-02-12T14:07:03Z</dcterms:modified>
  <cp:revision>8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9)Bj+sktepairdCGqLyl2ZiwO62A4MjsHrHFbk5XxRqLAT3kV7n46YzeGaiHfFERg1GacBBHNC
BRD5C9bHjb2ltMWbTaPmzGEsyLWjFQ2/z0vij8g/zsKpHd6QoZCwQPNbrXBLgY8XFscIbDlf
Jc7+fJRvCjoFAEYg3PAoM8D3d8wxIvBRX45s1ANydHMf2ixa+/ySXCnw/ngG4jFmsg9WYQmL
7VtNv0w2YJxIZUxQOA</vt:lpwstr>
  </property>
  <property fmtid="{D5CDD505-2E9C-101B-9397-08002B2CF9AE}" pid="3" name="_ms_pID_7253431">
    <vt:lpwstr>ac2qiqRZsCxAO8b3r5j3j5TyHJ/lePmk1WSfEJcACdj0Jili6KjQyq
9vmBRFKwuqxjvGc5o2PrT4rRnfQNFJNTgrtGWbasBdetzRAcNTc3c0ORBL+i8Z1Wp68T/Up3
60ATI6zrAV/f7Vf5tbRksK0tr+OewkHImP6Kfv949rjucx74QGKf4GUnf2KCmaObJFWnXdaH
mAXutwHKYmdcwF2+TsI2ruQdA6tfxYy9QQ6Y</vt:lpwstr>
  </property>
  <property fmtid="{D5CDD505-2E9C-101B-9397-08002B2CF9AE}" pid="4" name="_ms_pID_7253431_00">
    <vt:lpwstr>_ms_pID_7253431</vt:lpwstr>
  </property>
  <property fmtid="{D5CDD505-2E9C-101B-9397-08002B2CF9AE}" pid="5" name="_ms_pID_7253432">
    <vt:lpwstr>EWwO3K69pjkvcR1B4XkoWCa6mE48ef8suqMj
hi9Ys064Cc2htWQeBHlRULYQSwShTEoU02CVI2ZqlkES2yzI89eH9yy35W+L8VL6X8mHYJHA
rpkVhH2ImVzPc7LV93JfdItEB4DeZu5vX4wan8Taqhtir9SxBCkxFKmTWB5/66k6GhMfDCXS
DGthQvx3o0nsOkITrncCaaxxeOISt93ccWUHJqLbecfWVtcVnCh8L3</vt:lpwstr>
  </property>
  <property fmtid="{D5CDD505-2E9C-101B-9397-08002B2CF9AE}" pid="6" name="_ms_pID_7253432_00">
    <vt:lpwstr>_ms_pID_7253432</vt:lpwstr>
  </property>
  <property fmtid="{D5CDD505-2E9C-101B-9397-08002B2CF9AE}" pid="7" name="_ms_pID_7253433">
    <vt:lpwstr>EDEwz25e+Gorj00/EB
1JO/RCH33HwUkxB/2LQ4vE3cdVcXv0OPYutdASdZt47FkcDsdPYwGO4wskcMSodnI7oHfpRJ
w4shJHNs50bTudPJutic/CCwGzNVoO2jhiBQVwNUeF1vZSjxNpoPq+2ntaGqt4ZGz/eVyhI2
BUktQNFLzAWRfGIbK2TVbj+cL544+6sf/FWdvZzCWyaN+2SzKMWhRRTTtT2ss99awS7uADfd</vt:lpwstr>
  </property>
  <property fmtid="{D5CDD505-2E9C-101B-9397-08002B2CF9AE}" pid="8" name="_ms_pID_7253433_00">
    <vt:lpwstr>_ms_pID_7253433</vt:lpwstr>
  </property>
  <property fmtid="{D5CDD505-2E9C-101B-9397-08002B2CF9AE}" pid="9" name="_ms_pID_7253434">
    <vt:lpwstr>
aOClOucmggBadIO//IycxPWmZH6fDehZJEV4nQ1YnNe/4YL0x/Q8xktqvN7lgiEhec7BsKHr
LRNrUX/uaNs/vNEa5YATUTmt3SfKZ/JsQjulN3gLQUfLPJvCZ+LJ9jIlzA1uOJ/p0YEA2fMl
wu31yrE9XHRibEfpe4i5AvkfvbqSB3ACHpbbuFsYC2yAaLcKuqzwiSRdwZr+dOeJ9fa0cw7A
FsGOUchTlTa8j1FL</vt:lpwstr>
  </property>
  <property fmtid="{D5CDD505-2E9C-101B-9397-08002B2CF9AE}" pid="10" name="_ms_pID_7253434_00">
    <vt:lpwstr>_ms_pID_7253434</vt:lpwstr>
  </property>
  <property fmtid="{D5CDD505-2E9C-101B-9397-08002B2CF9AE}" pid="11" name="_ms_pID_7253435">
    <vt:lpwstr>aEB5nL2jvHE28UyLVr+buZ0HiNjTQyyfA9yxuL3fQHX9qYqBvwK/hO/G
dXo2t2f2B91zFS7pnNgwe41AiVb1WMjw97IFG+usXmtnsGEHZwzC26MiuCBt9WFqOpeQ9HzF
icSjA8jOm2mLl1+bQ84OOEKvTHeVA6imnnfm1FIgAEjzMxJF5icMha8IJMzuR77WfeVXs0UD
bWhso3FYdHOo6S6JJdkfSAHFuKuDYNxP+o</vt:lpwstr>
  </property>
  <property fmtid="{D5CDD505-2E9C-101B-9397-08002B2CF9AE}" pid="12" name="_ms_pID_7253435_00">
    <vt:lpwstr>_ms_pID_7253435</vt:lpwstr>
  </property>
  <property fmtid="{D5CDD505-2E9C-101B-9397-08002B2CF9AE}" pid="13" name="_ms_pID_7253436">
    <vt:lpwstr>ZTsHu+C+yXIlPVlO4QXqGFnQkvepPatGrAKcjo
ZQsG1DM8k5MLD/iv0hltpvFdiwPhmLFFtS+Tq6BKBfu1IE/pR62yquSIfr0VMWIHBUpPXzgk
5T+FCaz4XFVSzgH0E36iw9INB2IGTuMj4JK0k5TwWC8p9Z10/fkynlitjtPORHw1A4IIwiO9
Fc8PMhwD+NvzxsLcNDtHOKY9X3kbG53FJXZG1C6fQItnnZtmoNkW</vt:lpwstr>
  </property>
  <property fmtid="{D5CDD505-2E9C-101B-9397-08002B2CF9AE}" pid="14" name="_ms_pID_7253436_00">
    <vt:lpwstr>_ms_pID_7253436</vt:lpwstr>
  </property>
  <property fmtid="{D5CDD505-2E9C-101B-9397-08002B2CF9AE}" pid="15" name="_ms_pID_7253437">
    <vt:lpwstr>VfKdnHLV1v7OmCnJHLWS
HV5kB+/zSNGX6Rcf65lyJ/PrFewyiAIJCSHWEuU2qL0r0SsEn8w32CKWmN3eUMo20ibQAaJz
x1u2AsWQ9z0BmRAR0zyGUxCcIFL5HE7P/4mwsKnNyKiNQdXA4nExHxnmBlYwX8YO7Mz8TJmf
hinie3WPF58qenoplRp93Fp3z3oAwnCBu8Is9AhkHp1bgbMYWjiNV/g4hnvoFV+chhFR4Q</vt:lpwstr>
  </property>
  <property fmtid="{D5CDD505-2E9C-101B-9397-08002B2CF9AE}" pid="16" name="_ms_pID_7253437_00">
    <vt:lpwstr>_ms_pID_7253437</vt:lpwstr>
  </property>
  <property fmtid="{D5CDD505-2E9C-101B-9397-08002B2CF9AE}" pid="17" name="_ms_pID_7253438">
    <vt:lpwstr>HZ
YhSYB1W1COT/7nvJBdg/TCjZ1k77Tmut1sZ9rWOQHytNRw8l0enw6hoAveZOcnLgJEirGg==</vt:lpwstr>
  </property>
  <property fmtid="{D5CDD505-2E9C-101B-9397-08002B2CF9AE}" pid="18" name="_ms_pID_7253438_00">
    <vt:lpwstr>_ms_pID_7253438</vt:lpwstr>
  </property>
  <property fmtid="{D5CDD505-2E9C-101B-9397-08002B2CF9AE}" pid="19" name="_ms_pID_725343_00">
    <vt:lpwstr>_ms_pID_725343</vt:lpwstr>
  </property>
  <property fmtid="{D5CDD505-2E9C-101B-9397-08002B2CF9AE}" pid="20" name="_new_ms_pID_72543">
    <vt:lpwstr>(3)4XDk2rNgHXyvv2iFnTuhQ6/xzpG/JwxEe3EOgYvunyGfqig+GGd44EzJ9UYqMJPxKf82qHb2
LRyUW10cOPFcTm+M9iWzXVnVBPZRHjQXdGYr9d/jff0rUSqV9AaIYtDzM4GjBq0bc/pbN1Bk
fLOCIWtAVBb/cfPXOfQMdEw+Q6rqNrFd+NeabPTM1hAdpcP3kStD7SUGf1VxGdbZ5BhJ8KUR
HzgTBobmmHk5JQtof4</vt:lpwstr>
  </property>
  <property fmtid="{D5CDD505-2E9C-101B-9397-08002B2CF9AE}" pid="21" name="_new_ms_pID_725431">
    <vt:lpwstr>uwFtUZyH9qR27VXiHe00R0JZtwfgm6lAfWjuRIJ17FSv/lbBpVJAcs
Zfb45PL/PUYsXEHSAMifeuPoonktKh05K3Jo8e8jLSNOeMC9q9MyNaQt+x/A4cGaJk+QZk9e
1ApZWXa2XztBGnTP6K0MgT8ZnzR/To+AA5ZGojKy3EDXWJmpjeD4P9bbPbi53UU1JiwfZqo6
w3egbiR6Jt837Jlm8P7Cxp0f3DJ9cUdbCr/3</vt:lpwstr>
  </property>
  <property fmtid="{D5CDD505-2E9C-101B-9397-08002B2CF9AE}" pid="22" name="_new_ms_pID_725431_00">
    <vt:lpwstr>_new_ms_pID_725431</vt:lpwstr>
  </property>
  <property fmtid="{D5CDD505-2E9C-101B-9397-08002B2CF9AE}" pid="23" name="_new_ms_pID_725432">
    <vt:lpwstr>t7FUJY9slRgV+19S93qNSRRFj3bOOk9kNotl
qJYXucKlEaBZezR6Z/w1zQWH+jFa55Eo1zTfQ5Qp2+elEdyBLq8M7AA1Y9oDjeE3P7ihECwk
UJ0VVdbn65Blb3UpMBTsqw==</vt:lpwstr>
  </property>
  <property fmtid="{D5CDD505-2E9C-101B-9397-08002B2CF9AE}" pid="24" name="_new_ms_pID_725432_00">
    <vt:lpwstr>_new_ms_pID_725432</vt:lpwstr>
  </property>
  <property fmtid="{D5CDD505-2E9C-101B-9397-08002B2CF9AE}" pid="25" name="_new_ms_pID_72543_00">
    <vt:lpwstr>_new_ms_pID_72543</vt:lpwstr>
  </property>
  <property fmtid="{D5CDD505-2E9C-101B-9397-08002B2CF9AE}" pid="26" name="sflag">
    <vt:lpwstr>1423749930</vt:lpwstr>
  </property>
</Properties>
</file>