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9E28-521C-429B-86A1-CD5A0B4A9425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49320" y="744120"/>
            <a:ext cx="4898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7E3C-2B47-445F-AB96-75E0CA2EF5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4C15-BC16-4BBE-91B7-CD5C18C3553B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0976-7D59-40C3-A972-C857CB5E02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89888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Text Box 7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英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中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0-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0-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18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细黑体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22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3" name="Picture 11" descr="海思-修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4080" indent="-265320">
              <a:spcBef>
                <a:spcPts val="60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52560" indent="-264960">
              <a:spcBef>
                <a:spcPts val="601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2840" indent="-264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2840" indent="-264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2840" indent="-264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D2C53190-971E-43F5-A319-6F3253500E77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2C5676BA-5EE9-4964-8024-DE087F374232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54" name="Picture 69" descr="海思-修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4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51" descr="海思-修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0"/>
          <p:cNvSpPr/>
          <p:nvPr/>
        </p:nvSpPr>
        <p:spPr>
          <a:xfrm>
            <a:off x="2239920" y="2921040"/>
            <a:ext cx="8209080" cy="204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Lookup Table Size Reduction for DMM1</a:t>
            </a: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Xu Chen, Ce Zhu, Shuying Ma, Xiaozhen Zheng,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ngbing Lin, Jianhua Zheng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041A582-D105-4EB9-B76B-F009995C4032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 proposed 1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7920" y="2705040"/>
          <a:ext cx="7665840" cy="276372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66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7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6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5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7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6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2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5973F808-3A7A-4E68-B124-C2A4B8DDEC65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 proposed 2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C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47920" y="2705040"/>
          <a:ext cx="7665840" cy="276372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66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4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2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6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2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4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2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2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4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7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2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10E3B262-B304-4717-A04A-84D1B034EDA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 proposed 2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47920" y="2705040"/>
          <a:ext cx="7665840" cy="276372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66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5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9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4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2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3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2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6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6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8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9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6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5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2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6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1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4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4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2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5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3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4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AF0574A1-9A4C-4D5F-A0CB-AF8D265E2C3D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 proposed 3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C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47920" y="2705040"/>
          <a:ext cx="7665840" cy="276372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66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2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5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4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5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7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5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1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7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5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3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1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4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4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1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5.5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4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7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5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7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5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7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6DD61D2A-0FC1-4269-95C6-6720ECAA08E5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 proposed 3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2705040"/>
          <a:ext cx="7665840" cy="276372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66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4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3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6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5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3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2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1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4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2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8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6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1D8AE0F-FA46-4055-B0D0-4C838D32EB5C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83920" y="1768320"/>
            <a:ext cx="9504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wer DMM wedgelet patte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down sample process(method 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r negligibl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oding loss for synthesized views on CTC and 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to be ado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3824280" y="6087960"/>
            <a:ext cx="6335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cross-check by Sharp </a:t>
            </a: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6388C865-6F14-4327-8750-FCCC9CC0D3B7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4400" spc="-1" strike="noStrike">
              <a:solidFill>
                <a:srgbClr val="6699ff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142" name="Picture 5" descr="风车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6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spcBef>
                  <a:spcPts val="649"/>
                </a:spcBef>
                <a:buClr>
                  <a:srgbClr val="cc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6699ff"/>
                </a:solidFill>
                <a:latin typeface="Arial"/>
              </a:endParaRPr>
            </a:p>
          </p:txBody>
        </p:sp>
      </p:grpSp>
      <p:sp>
        <p:nvSpPr>
          <p:cNvPr id="144" name="Text Box 7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www.hisilicon.com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BBD42DB9-EE33-4137-874E-58EF76D036F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79200" y="1623960"/>
            <a:ext cx="986508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华文细黑"/>
              </a:rPr>
              <a:t>Current 3D-HEVC, DMM1 mode constructs the lookup table for blocks of different size.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4" name="Rectangle 39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54280" y="3110040"/>
          <a:ext cx="7018200" cy="1780920"/>
        </p:xfrm>
        <a:graphic>
          <a:graphicData uri="http://schemas.openxmlformats.org/drawingml/2006/table">
            <a:tbl>
              <a:tblPr/>
              <a:tblGrid>
                <a:gridCol w="1003320"/>
                <a:gridCol w="1001520"/>
                <a:gridCol w="1003320"/>
                <a:gridCol w="1001880"/>
                <a:gridCol w="1003320"/>
                <a:gridCol w="1003320"/>
                <a:gridCol w="1001520"/>
              </a:tblGrid>
              <a:tr h="7743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U size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umber of wedgelet pattern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Bins for decoding the index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umber of bits for one wedgelet pattern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tal Table Size(bits)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ccumulated Table Size (bits)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bits ratio [%]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5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×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37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37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70%=1376/18096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×8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6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,02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0,40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.1%=49024/18096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&gt;=16×1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1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5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30,56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80,96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2.2%=130560/18096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EAFC013F-9229-438B-A691-8F14EA6E8832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1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68280" y="1623960"/>
            <a:ext cx="9576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Down sample the starting point positio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</a:t>
            </a: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1" name="Rectangle 68"/>
          <p:cNvSpPr/>
          <p:nvPr/>
        </p:nvSpPr>
        <p:spPr>
          <a:xfrm>
            <a:off x="0" y="0"/>
            <a:ext cx="1052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73" name="Object 8"/>
          <p:cNvGraphicFramePr/>
          <p:nvPr/>
        </p:nvGraphicFramePr>
        <p:xfrm>
          <a:off x="2239920" y="2344680"/>
          <a:ext cx="5761080" cy="38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920" y="2344680"/>
                    <a:ext cx="576108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E8421006-9C27-43DF-B458-57E8AA25BB71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1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1"/>
          <a:stretch/>
        </p:blipFill>
        <p:spPr>
          <a:xfrm>
            <a:off x="360360" y="1579680"/>
            <a:ext cx="9947160" cy="5145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0" y="0"/>
            <a:ext cx="1052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168640" y="4432320"/>
          <a:ext cx="5991120" cy="1574640"/>
        </p:xfrm>
        <a:graphic>
          <a:graphicData uri="http://schemas.openxmlformats.org/drawingml/2006/table">
            <a:tbl>
              <a:tblPr/>
              <a:tblGrid>
                <a:gridCol w="642960"/>
                <a:gridCol w="718920"/>
                <a:gridCol w="638280"/>
                <a:gridCol w="733320"/>
                <a:gridCol w="685800"/>
                <a:gridCol w="1085760"/>
                <a:gridCol w="1486080"/>
              </a:tblGrid>
              <a:tr h="8380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U size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umber of wedgelet pattern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Bins for decoding the index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umber of bits for one wedgelet pattern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tal Table Size(bits)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ccumulated Table Size (bits)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able size saving [%]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00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4×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7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,37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,37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0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) 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=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×8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2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8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&gt;=16×1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51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9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5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30,56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0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4ED79029-28EF-4891-90C1-75A1C03D8105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2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68280" y="1623960"/>
            <a:ext cx="9576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Similar as current method that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华文细黑"/>
              </a:rPr>
              <a:t>reuse wedgelet pattern of 16x16 block for 32x32 block, it’s proposed to reuse wedgelet pattern of 16x16 block for 8x8 block. 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</a:t>
            </a: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7" name="Rectangle 68"/>
          <p:cNvSpPr/>
          <p:nvPr/>
        </p:nvSpPr>
        <p:spPr>
          <a:xfrm>
            <a:off x="0" y="0"/>
            <a:ext cx="1052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54280" y="3311640"/>
          <a:ext cx="7018200" cy="1376280"/>
        </p:xfrm>
        <a:graphic>
          <a:graphicData uri="http://schemas.openxmlformats.org/drawingml/2006/table">
            <a:tbl>
              <a:tblPr/>
              <a:tblGrid>
                <a:gridCol w="1003320"/>
                <a:gridCol w="1001520"/>
                <a:gridCol w="1003320"/>
                <a:gridCol w="1001880"/>
                <a:gridCol w="1003320"/>
                <a:gridCol w="1003320"/>
                <a:gridCol w="1001520"/>
              </a:tblGrid>
              <a:tr h="7747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U size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umber of wedgelet pattern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Bins for decoding the index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umber of bits for one wedgelet pattern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tal Table Size(bits)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ccumulated Table Size (bits)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able size saving [%]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98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4×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7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,37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,37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1%=49024/18096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×8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&gt;=16×1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51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9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5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30,56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FFDCE265-27B4-434E-BB5B-D208F61D0AF3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2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93" name="Rectangle 3" descr=""/>
          <p:cNvPicPr/>
          <p:nvPr/>
        </p:nvPicPr>
        <p:blipFill>
          <a:blip r:embed="rId1"/>
          <a:stretch/>
        </p:blipFill>
        <p:spPr>
          <a:xfrm>
            <a:off x="328680" y="1579680"/>
            <a:ext cx="9978840" cy="82231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5" name="Rectangle 68"/>
          <p:cNvSpPr/>
          <p:nvPr/>
        </p:nvSpPr>
        <p:spPr>
          <a:xfrm>
            <a:off x="0" y="0"/>
            <a:ext cx="1052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C7768BAE-BC69-42DB-AEE3-67CD453FD90C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3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23920" y="1623960"/>
            <a:ext cx="972036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Modify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华文细黑"/>
              </a:rPr>
              <a:t>patIdenticalFl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condition in wedgelet pattern list insertion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process.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Compare with current wedge pattern and the wedge pattern in the table. If the case that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华文细黑"/>
              </a:rPr>
              <a:t>wedgePattern[x][y] not equal to WedgePatternTable[k][x][y] is larger than ( log2BlkSize &gt; 3 ) ? 7 : 0. patIdenticalFlag is set to 0. 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</a:t>
            </a: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1" name="Rectangle 68"/>
          <p:cNvSpPr/>
          <p:nvPr/>
        </p:nvSpPr>
        <p:spPr>
          <a:xfrm>
            <a:off x="0" y="0"/>
            <a:ext cx="1052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384280" y="4432320"/>
          <a:ext cx="5991480" cy="1440000"/>
        </p:xfrm>
        <a:graphic>
          <a:graphicData uri="http://schemas.openxmlformats.org/drawingml/2006/table">
            <a:tbl>
              <a:tblPr/>
              <a:tblGrid>
                <a:gridCol w="720720"/>
                <a:gridCol w="641520"/>
                <a:gridCol w="638280"/>
                <a:gridCol w="733320"/>
                <a:gridCol w="685800"/>
                <a:gridCol w="1085760"/>
                <a:gridCol w="1486080"/>
              </a:tblGrid>
              <a:tr h="8380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U size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umber of wedgelet pattern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Bins for decoding the index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umber of bits for one wedgelet pattern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tal Table Size(bits)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ccumulated Table Size (bits)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able size saving [%]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00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4×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7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,37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,37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) 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=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×8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76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024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50,40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&gt;=16×1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95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9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56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2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0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49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A4687AE-2BAF-440F-80E2-DC4673B509B6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1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328680" y="1579680"/>
            <a:ext cx="10004400" cy="7173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9" name="Rectangle 68"/>
          <p:cNvSpPr/>
          <p:nvPr/>
        </p:nvSpPr>
        <p:spPr>
          <a:xfrm>
            <a:off x="0" y="0"/>
            <a:ext cx="1052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3EB5BD6-B071-4752-B83D-A823420DA2E6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 proposed 1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 Test condition: C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2705040"/>
          <a:ext cx="7665840" cy="2763720"/>
        </p:xfrm>
        <a:graphic>
          <a:graphicData uri="http://schemas.openxmlformats.org/drawingml/2006/table">
            <a:tbl>
              <a:tblPr/>
              <a:tblGrid>
                <a:gridCol w="1123920"/>
                <a:gridCol w="755640"/>
                <a:gridCol w="757080"/>
                <a:gridCol w="755640"/>
                <a:gridCol w="755640"/>
                <a:gridCol w="757440"/>
                <a:gridCol w="755640"/>
                <a:gridCol w="668160"/>
                <a:gridCol w="668520"/>
                <a:gridCol w="668160"/>
              </a:tblGrid>
              <a:tr h="466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0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0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0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9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8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7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2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9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3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9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3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99.9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2.6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8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0.4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7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2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0.3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101.1%</a:t>
                      </a:r>
                      <a:endParaRPr b="0" lang="en-US" sz="11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c00232985</cp:lastModifiedBy>
  <dcterms:modified xsi:type="dcterms:W3CDTF">2015-02-11T20:16:14Z</dcterms:modified>
  <cp:revision>8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9)Bj+sktepairdCGqLyl2ZiwO62A4MjsHrHFbk5XxRqLAT3kV7n46YzeGaiHfFERg1GacBBHNC
BRD5C9bHjb2ltMWbTaPmzGEsyLWjFQ2/z0vij8g/zsKpHd6QoZCwQPNbrXBLgY8XFscIbDlf
Jc7+fJRvCjoFAEYg3PAoM8D3d8wxIvBRX45s1ANydHMf2ixa+/ySXCnw/ngG4jFmsg9WYQmL
7VtNv0w2YJxIZUxQOA</vt:lpwstr>
  </property>
  <property fmtid="{D5CDD505-2E9C-101B-9397-08002B2CF9AE}" pid="3" name="_ms_pID_7253431">
    <vt:lpwstr>ac2qiqRZsCxAO8b3r5j3j5TyHJ/lePmk1WSfEJcACdj0Jili6KjQyq
9vmBRFKwuqxjvGc5o2PrT4rRnfQNFJNTgrtGWbasBdetzRAcNTc3c0ORBL+i8Z1Wp68T/Up3
60ATI6zrAV/f7Vf5tbRksK0tr+OewkHImP6Kfv949rjucx74QGKf4GUnf2KCmaObJFWnXdaH
mAXutwHKYmdcwF2+TsI2ruQdA6tfxYy9QQ6Y</vt:lpwstr>
  </property>
  <property fmtid="{D5CDD505-2E9C-101B-9397-08002B2CF9AE}" pid="4" name="_ms_pID_7253431_00">
    <vt:lpwstr>_ms_pID_7253431</vt:lpwstr>
  </property>
  <property fmtid="{D5CDD505-2E9C-101B-9397-08002B2CF9AE}" pid="5" name="_ms_pID_7253432">
    <vt:lpwstr>EWwO3K69pjkvcR1B4XkoWCa6mE48ef8suqMj
hi9Ys064Cc2htWQeBHlRULYQSwShTEoU02CVI2ZqlkES2yzI89eH9yy35W+L8VL6X8mHYJHA
rpkVhH2ImVzPc7LV93JfdItEB4DeZu5vX4wan8Taqhtir9SxBCkxFKmTWB5/66k6GhMfDCXS
DGthQvx3o0nsOkITrncCaaxxeOISt93ccWUHJqLbecfWVtcVnCh8L3</vt:lpwstr>
  </property>
  <property fmtid="{D5CDD505-2E9C-101B-9397-08002B2CF9AE}" pid="6" name="_ms_pID_7253432_00">
    <vt:lpwstr>_ms_pID_7253432</vt:lpwstr>
  </property>
  <property fmtid="{D5CDD505-2E9C-101B-9397-08002B2CF9AE}" pid="7" name="_ms_pID_7253433">
    <vt:lpwstr>EDEwz25e+Gorj00/EB
1JO/RCH33HwUkxB/2LQ4vE3cdVcXv0OPYutdASdZt47FkcDsdPYwGO4wskcMSodnI7oHfpRJ
w4shJHNs50bTudPJutic/CCwGzNVoO2jhiBQVwNUeF1vZSjxNpoPq+2ntaGqt4ZGz/eVyhI2
BUktQNFLzAWRfGIbK2TVbj+cL544+6sf/FWdvZzCWyaN+2SzKMWhRRTTtT2ss99awS7uADfd</vt:lpwstr>
  </property>
  <property fmtid="{D5CDD505-2E9C-101B-9397-08002B2CF9AE}" pid="8" name="_ms_pID_7253433_00">
    <vt:lpwstr>_ms_pID_7253433</vt:lpwstr>
  </property>
  <property fmtid="{D5CDD505-2E9C-101B-9397-08002B2CF9AE}" pid="9" name="_ms_pID_7253434">
    <vt:lpwstr>
aOClOucmggBadIO//IycxPWmZH6fDehZJEV4nQ1YnNe/4YL0x/Q8xktqvN7lgiEhec7BsKHr
LRNrUX/uaNs/vNEa5YATUTmt3SfKZ/JsQjulN3gLQUfLPJvCZ+LJ9jIlzA1uOJ/p0YEA2fMl
wu31yrE9XHRibEfpe4i5AvkfvbqSB3ACHpbbuFsYC2yAaLcKuqzwiSRdwZr+dOeJ9fa0cw7A
FsGOUchTlTa8j1FL</vt:lpwstr>
  </property>
  <property fmtid="{D5CDD505-2E9C-101B-9397-08002B2CF9AE}" pid="10" name="_ms_pID_7253434_00">
    <vt:lpwstr>_ms_pID_7253434</vt:lpwstr>
  </property>
  <property fmtid="{D5CDD505-2E9C-101B-9397-08002B2CF9AE}" pid="11" name="_ms_pID_7253435">
    <vt:lpwstr>aEB5nL2jvHE28UyLVr+buZ0HiNjTQyyfA9yxuL3fQHX9qYqBvwK/hO/G
dXo2t2f2B91zFS7pnNgwe41AiVb1WMjw97IFG+usXmtnsGEHZwzC26MiuCBt9WFqOpeQ9HzF
icSjA8jOm2mLl1+bQ84OOEKvTHeVA6imnnfm1FIgAEjzMxJF5icMha8IJMzuR77WfeVXs0UD
bWhso3FYdHOo6S6JJdkfSAHFuKuDYNxP+o</vt:lpwstr>
  </property>
  <property fmtid="{D5CDD505-2E9C-101B-9397-08002B2CF9AE}" pid="12" name="_ms_pID_7253435_00">
    <vt:lpwstr>_ms_pID_7253435</vt:lpwstr>
  </property>
  <property fmtid="{D5CDD505-2E9C-101B-9397-08002B2CF9AE}" pid="13" name="_ms_pID_7253436">
    <vt:lpwstr>ZTsHu+C+yXIlPVlO4QXqGFnQkvepPatGrAKcjo
ZQsG1DM8k5MLD/iv0hltpvFdiwPhmLFFtS+Tq6BKBfu1IE/pR62yquSIfr0VMWIHBUpPXzgk
5T+FCaz4XFVSzgH0E36iw9INB2IGTuMj4JK0k5TwWC8p9Z10/fkynlitjtPORHw1A4IIwiO9
Fc8PMhwD+NvzxsLcNDtHOKY9X3kbG53FJXZG1C6fQItnnZtmoNkW</vt:lpwstr>
  </property>
  <property fmtid="{D5CDD505-2E9C-101B-9397-08002B2CF9AE}" pid="14" name="_ms_pID_7253436_00">
    <vt:lpwstr>_ms_pID_7253436</vt:lpwstr>
  </property>
  <property fmtid="{D5CDD505-2E9C-101B-9397-08002B2CF9AE}" pid="15" name="_ms_pID_7253437">
    <vt:lpwstr>VfKdnHLV1v7OmCnJHLWS
HV5kB+/zSNGX6Rcf65lyJ/PrFewyiAIJCSHWEuU2qL0r0SsEn8w32CKWmN3eUMo20ibQAaJz
x1u2AsWQ9z0BmRAR0zyGUxCcIFL5HE7P/4mwsKnNyKiNQdXA4nExHxnmBlYwX8YO7Mz8TJmf
hinie3WPF58qenoplRp93Fp3z3oAwnCBu8Is9AhkHp1bgbMYWjiNV/g4hnvoFV+chhFR4Q</vt:lpwstr>
  </property>
  <property fmtid="{D5CDD505-2E9C-101B-9397-08002B2CF9AE}" pid="16" name="_ms_pID_7253437_00">
    <vt:lpwstr>_ms_pID_7253437</vt:lpwstr>
  </property>
  <property fmtid="{D5CDD505-2E9C-101B-9397-08002B2CF9AE}" pid="17" name="_ms_pID_7253438">
    <vt:lpwstr>HZ
YhSYB1W1COT/7nvJBdg/TCjZ1k77Tmut1sZ9rWOQHytNRw8l0enw6hoAveZOcnLgJEirGg==</vt:lpwstr>
  </property>
  <property fmtid="{D5CDD505-2E9C-101B-9397-08002B2CF9AE}" pid="18" name="_ms_pID_7253438_00">
    <vt:lpwstr>_ms_pID_7253438</vt:lpwstr>
  </property>
  <property fmtid="{D5CDD505-2E9C-101B-9397-08002B2CF9AE}" pid="19" name="_ms_pID_725343_00">
    <vt:lpwstr>_ms_pID_725343</vt:lpwstr>
  </property>
  <property fmtid="{D5CDD505-2E9C-101B-9397-08002B2CF9AE}" pid="20" name="_new_ms_pID_72543">
    <vt:lpwstr>(3)MyNFCMifahup7QgyBrFZ2KHOn/4x5KorJYbY5QNT1eRev8FAIn9Yw8DtaGtqTWhf4f9AyAT7
ehtGvg1DT/0fTpRzGsgxByGMCCIDSvgrEeLjIDqnlKehyusiV1o362eIcBEtlwNc5biz9wcN
s5uQQBv3M8zOzZOd+eoAKMTYeNhpqhs4+3/btOulbhDzzhA4eU3wRmaIeBY6egBc2edcQKIK
mcJcqK8bu/ZO/8dlju</vt:lpwstr>
  </property>
  <property fmtid="{D5CDD505-2E9C-101B-9397-08002B2CF9AE}" pid="21" name="_new_ms_pID_725431">
    <vt:lpwstr>JRotT7DKR4c00T0jP8wsbLH+H2pWnEAimGzfUETEfEPChJp4RTHppx
jWRPvQHG6sQYfR4fB7eJjgg3uuyxJhlQThtc5Mw4RKYLOVhmatjezFAaggaFpTMj/zBQaG7V
lIl44HEpoVdvYD2QCeJxd+rlPFBq6equzRM/q839QsW8mnX774X0GdF8AD7QvFBgC/VV8vXQ
WZ/rsQ10fTxvDKJNY/1dEkKRq0sxwNFrbgvj</vt:lpwstr>
  </property>
  <property fmtid="{D5CDD505-2E9C-101B-9397-08002B2CF9AE}" pid="22" name="_new_ms_pID_725431_00">
    <vt:lpwstr>_new_ms_pID_725431</vt:lpwstr>
  </property>
  <property fmtid="{D5CDD505-2E9C-101B-9397-08002B2CF9AE}" pid="23" name="_new_ms_pID_725432">
    <vt:lpwstr>j7r6a+ewtFDe2ICBFONOrn83gs8288HvqiZc
Z/JXfN8nT3Pe0BTsEhL1VA2BjRc+acbIY5MnF+DGjn2jYN2fYha9ffgjlU738hcSA+Ujnib1
VFgYouFd/88Y19QJnVa85Q==</vt:lpwstr>
  </property>
  <property fmtid="{D5CDD505-2E9C-101B-9397-08002B2CF9AE}" pid="24" name="_new_ms_pID_725432_00">
    <vt:lpwstr>_new_ms_pID_725432</vt:lpwstr>
  </property>
  <property fmtid="{D5CDD505-2E9C-101B-9397-08002B2CF9AE}" pid="25" name="_new_ms_pID_72543_00">
    <vt:lpwstr>_new_ms_pID_72543</vt:lpwstr>
  </property>
  <property fmtid="{D5CDD505-2E9C-101B-9397-08002B2CF9AE}" pid="26" name="sflag">
    <vt:lpwstr>1423685547</vt:lpwstr>
  </property>
</Properties>
</file>