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442D-22E4-4B6E-B5C1-6C8138AC754C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2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6372-D68F-4AB9-8A8B-024225453E1A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3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C2E6-400E-4610-8226-001E654C8E38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E0BF-F50B-4BF4-A327-BFD4CCE79D95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5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1101-A4E3-4565-B465-78B1EFB597D1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8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8794-17F5-4190-B9A7-044042E464D1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4421-C9C7-4E75-80D5-6A27B8BC97C7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4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0AAA-1A26-4A03-8A56-CCA5B5004E76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7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BD59-DD08-4A16-8F35-B3B6EB94A19F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0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34E7-74F4-475C-BCE6-C88B5DBECFCE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042ED-8BD0-4382-9FD0-88F920404F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892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8000" y="4285440"/>
            <a:ext cx="892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B8736-89B4-4476-B0B1-9295BCA0EC3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1908000" y="620640"/>
            <a:ext cx="70200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0800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8288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08000" y="4285440"/>
            <a:ext cx="892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892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108000" y="4285440"/>
            <a:ext cx="892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0800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8288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126600" y="15998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45560" y="15998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108000" y="42854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126600" y="42854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145560" y="42854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800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288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EB990-D9A1-464B-89D9-2F412EE7BAC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908000" y="620640"/>
            <a:ext cx="70200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0800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8288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08000" y="4285440"/>
            <a:ext cx="892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892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08000" y="4285440"/>
            <a:ext cx="892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800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8288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26600" y="15998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5560" y="15998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8000" y="42854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26600" y="42854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5560" y="42854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7F28E-30C5-40A0-BB67-F72F2EA7807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126600" y="15998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145560" y="15998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08000" y="42854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126600" y="42854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145560" y="42854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1908000" y="620640"/>
            <a:ext cx="70200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0800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8288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08000" y="4285440"/>
            <a:ext cx="892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892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108000" y="4285440"/>
            <a:ext cx="892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0800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8288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126600" y="15998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145560" y="15998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108000" y="42854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126600" y="42854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145560" y="42854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1908000" y="620640"/>
            <a:ext cx="70200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10800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8288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08000" y="4285440"/>
            <a:ext cx="892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892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108000" y="4285440"/>
            <a:ext cx="892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0800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8288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126600" y="15998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145560" y="15998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108000" y="42854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126600" y="42854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145560" y="42854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908000" y="620640"/>
            <a:ext cx="70200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800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0A067-C2D8-4A48-A42D-CFA96B6C87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288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4285440"/>
            <a:ext cx="892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892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8000" y="4285440"/>
            <a:ext cx="892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800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288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26600" y="15998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45560" y="15998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8000" y="42854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26600" y="42854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45560" y="42854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69F46-2830-4FD4-A1D0-5268B7DA96A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908000" y="620640"/>
            <a:ext cx="70200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800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288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8000" y="4285440"/>
            <a:ext cx="892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892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08000" y="4285440"/>
            <a:ext cx="892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800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288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26600" y="15998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45560" y="15998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08000" y="42854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26600" y="42854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45560" y="42854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ECEDE-8A77-4F30-B06D-669535940E9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908000" y="620640"/>
            <a:ext cx="70200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800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8288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08000" y="4285440"/>
            <a:ext cx="892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892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08000" y="4285440"/>
            <a:ext cx="892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0800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8288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26600" y="15998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45560" y="15998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08000" y="42854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26600" y="42854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45560" y="42854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D847A-7D2C-4F35-BA1C-AB7BEDE80EC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08000" y="620640"/>
            <a:ext cx="70200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800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8288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08000" y="4285440"/>
            <a:ext cx="892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892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08000" y="4285440"/>
            <a:ext cx="892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0800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8288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08000" y="620640"/>
            <a:ext cx="70200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E1E42-DC44-4F70-906B-3D3181C44BC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26600" y="15998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45560" y="15998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08000" y="42854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126600" y="42854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45560" y="42854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1908000" y="620640"/>
            <a:ext cx="70200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0800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8288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8000" y="4285440"/>
            <a:ext cx="892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800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26D5C-8708-42A5-A79C-A373D5B9A07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892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108000" y="4285440"/>
            <a:ext cx="892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0800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8288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126600" y="15998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45560" y="15998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108000" y="42854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126600" y="42854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145560" y="42854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908000" y="620640"/>
            <a:ext cx="70200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0800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288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971BD-F544-4A92-B51B-9060349C208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8288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08000" y="4285440"/>
            <a:ext cx="892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892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108000" y="4285440"/>
            <a:ext cx="892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0800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8288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126600" y="15998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45560" y="15998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108000" y="42854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126600" y="42854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145560" y="42854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8000" y="4285440"/>
            <a:ext cx="892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0526E-C689-4573-BEC0-8FE27F3658B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908000" y="620640"/>
            <a:ext cx="70200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0800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8288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08000" y="4285440"/>
            <a:ext cx="892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892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108000" y="4285440"/>
            <a:ext cx="892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0800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8288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126600" y="15998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45560" y="15998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108000" y="42854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126600" y="42854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145560" y="42854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" descr="파워포인트(ML로고포함)프레임"/>
          <p:cNvPicPr/>
          <p:nvPr/>
        </p:nvPicPr>
        <p:blipFill>
          <a:blip r:embed="rId2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6" descr="3"/>
          <p:cNvPicPr/>
          <p:nvPr/>
        </p:nvPicPr>
        <p:blipFill>
          <a:blip r:embed="rId3"/>
          <a:stretch/>
        </p:blipFill>
        <p:spPr>
          <a:xfrm>
            <a:off x="250920" y="1446120"/>
            <a:ext cx="8893080" cy="7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601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271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6356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71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71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71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8280" y="258840"/>
            <a:ext cx="466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ED8B-EDB3-4131-BB83-0C5AE8891F59}" type="slidenum"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워드마크"/>
          <p:cNvPicPr/>
          <p:nvPr/>
        </p:nvPicPr>
        <p:blipFill>
          <a:blip r:embed="rId4"/>
          <a:stretch/>
        </p:blipFill>
        <p:spPr>
          <a:xfrm>
            <a:off x="108000" y="836640"/>
            <a:ext cx="1571400" cy="325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3" descr="파워포인트(ML로고포함)프레임"/>
          <p:cNvPicPr/>
          <p:nvPr/>
        </p:nvPicPr>
        <p:blipFill>
          <a:blip r:embed="rId2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6" descr="3"/>
          <p:cNvPicPr/>
          <p:nvPr/>
        </p:nvPicPr>
        <p:blipFill>
          <a:blip r:embed="rId3"/>
          <a:stretch/>
        </p:blipFill>
        <p:spPr>
          <a:xfrm>
            <a:off x="250920" y="1446120"/>
            <a:ext cx="8893080" cy="730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9" descr="워드마크"/>
          <p:cNvPicPr/>
          <p:nvPr/>
        </p:nvPicPr>
        <p:blipFill>
          <a:blip r:embed="rId4"/>
          <a:stretch/>
        </p:blipFill>
        <p:spPr>
          <a:xfrm>
            <a:off x="108000" y="836640"/>
            <a:ext cx="1571400" cy="32544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601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271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6356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71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71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71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3" descr="파워포인트(ML로고포함)프레임"/>
          <p:cNvPicPr/>
          <p:nvPr/>
        </p:nvPicPr>
        <p:blipFill>
          <a:blip r:embed="rId2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6" descr="3"/>
          <p:cNvPicPr/>
          <p:nvPr/>
        </p:nvPicPr>
        <p:blipFill>
          <a:blip r:embed="rId3"/>
          <a:stretch/>
        </p:blipFill>
        <p:spPr>
          <a:xfrm>
            <a:off x="250920" y="1446120"/>
            <a:ext cx="8893080" cy="730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9" descr="워드마크"/>
          <p:cNvPicPr/>
          <p:nvPr/>
        </p:nvPicPr>
        <p:blipFill>
          <a:blip r:embed="rId4"/>
          <a:stretch/>
        </p:blipFill>
        <p:spPr>
          <a:xfrm>
            <a:off x="108000" y="836640"/>
            <a:ext cx="1571400" cy="32544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601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271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6356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71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71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71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3" descr="파워포인트(ML로고포함)프레임"/>
          <p:cNvPicPr/>
          <p:nvPr/>
        </p:nvPicPr>
        <p:blipFill>
          <a:blip r:embed="rId2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6" descr="3"/>
          <p:cNvPicPr/>
          <p:nvPr/>
        </p:nvPicPr>
        <p:blipFill>
          <a:blip r:embed="rId3"/>
          <a:stretch/>
        </p:blipFill>
        <p:spPr>
          <a:xfrm>
            <a:off x="250920" y="1446120"/>
            <a:ext cx="8893080" cy="730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9" descr="워드마크"/>
          <p:cNvPicPr/>
          <p:nvPr/>
        </p:nvPicPr>
        <p:blipFill>
          <a:blip r:embed="rId4"/>
          <a:stretch/>
        </p:blipFill>
        <p:spPr>
          <a:xfrm>
            <a:off x="108000" y="836640"/>
            <a:ext cx="1571400" cy="32544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601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271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6356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71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71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71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3" descr="파워포인트(ML로고포함)프레임"/>
          <p:cNvPicPr/>
          <p:nvPr/>
        </p:nvPicPr>
        <p:blipFill>
          <a:blip r:embed="rId2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6" descr="3"/>
          <p:cNvPicPr/>
          <p:nvPr/>
        </p:nvPicPr>
        <p:blipFill>
          <a:blip r:embed="rId3"/>
          <a:stretch/>
        </p:blipFill>
        <p:spPr>
          <a:xfrm>
            <a:off x="250920" y="1446120"/>
            <a:ext cx="8893080" cy="73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워드마크"/>
          <p:cNvPicPr/>
          <p:nvPr/>
        </p:nvPicPr>
        <p:blipFill>
          <a:blip r:embed="rId4"/>
          <a:stretch/>
        </p:blipFill>
        <p:spPr>
          <a:xfrm>
            <a:off x="108000" y="836640"/>
            <a:ext cx="1571400" cy="325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601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271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6356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71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71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71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3" descr="파워포인트(ML로고포함)프레임"/>
          <p:cNvPicPr/>
          <p:nvPr/>
        </p:nvPicPr>
        <p:blipFill>
          <a:blip r:embed="rId2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6" descr="3"/>
          <p:cNvPicPr/>
          <p:nvPr/>
        </p:nvPicPr>
        <p:blipFill>
          <a:blip r:embed="rId3"/>
          <a:stretch/>
        </p:blipFill>
        <p:spPr>
          <a:xfrm>
            <a:off x="250920" y="1446120"/>
            <a:ext cx="8893080" cy="73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워드마크"/>
          <p:cNvPicPr/>
          <p:nvPr/>
        </p:nvPicPr>
        <p:blipFill>
          <a:blip r:embed="rId4"/>
          <a:stretch/>
        </p:blipFill>
        <p:spPr>
          <a:xfrm>
            <a:off x="108000" y="836640"/>
            <a:ext cx="1571400" cy="3254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601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271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6356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71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71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71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3" descr="파워포인트(ML로고포함)프레임"/>
          <p:cNvPicPr/>
          <p:nvPr/>
        </p:nvPicPr>
        <p:blipFill>
          <a:blip r:embed="rId2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3"/>
          <p:cNvPicPr/>
          <p:nvPr/>
        </p:nvPicPr>
        <p:blipFill>
          <a:blip r:embed="rId3"/>
          <a:stretch/>
        </p:blipFill>
        <p:spPr>
          <a:xfrm>
            <a:off x="250920" y="1446120"/>
            <a:ext cx="8893080" cy="73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워드마크"/>
          <p:cNvPicPr/>
          <p:nvPr/>
        </p:nvPicPr>
        <p:blipFill>
          <a:blip r:embed="rId4"/>
          <a:stretch/>
        </p:blipFill>
        <p:spPr>
          <a:xfrm>
            <a:off x="108000" y="836640"/>
            <a:ext cx="1571400" cy="325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601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271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6356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71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71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71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3" descr="파워포인트(ML로고포함)프레임"/>
          <p:cNvPicPr/>
          <p:nvPr/>
        </p:nvPicPr>
        <p:blipFill>
          <a:blip r:embed="rId2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6" descr="3"/>
          <p:cNvPicPr/>
          <p:nvPr/>
        </p:nvPicPr>
        <p:blipFill>
          <a:blip r:embed="rId3"/>
          <a:stretch/>
        </p:blipFill>
        <p:spPr>
          <a:xfrm>
            <a:off x="250920" y="1446120"/>
            <a:ext cx="8893080" cy="73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워드마크"/>
          <p:cNvPicPr/>
          <p:nvPr/>
        </p:nvPicPr>
        <p:blipFill>
          <a:blip r:embed="rId4"/>
          <a:stretch/>
        </p:blipFill>
        <p:spPr>
          <a:xfrm>
            <a:off x="108000" y="836640"/>
            <a:ext cx="1571400" cy="3254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601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271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6356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71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71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71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3" descr="파워포인트(ML로고포함)프레임"/>
          <p:cNvPicPr/>
          <p:nvPr/>
        </p:nvPicPr>
        <p:blipFill>
          <a:blip r:embed="rId2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6" descr="3"/>
          <p:cNvPicPr/>
          <p:nvPr/>
        </p:nvPicPr>
        <p:blipFill>
          <a:blip r:embed="rId3"/>
          <a:stretch/>
        </p:blipFill>
        <p:spPr>
          <a:xfrm>
            <a:off x="250920" y="1446120"/>
            <a:ext cx="8893080" cy="73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워드마크"/>
          <p:cNvPicPr/>
          <p:nvPr/>
        </p:nvPicPr>
        <p:blipFill>
          <a:blip r:embed="rId4"/>
          <a:stretch/>
        </p:blipFill>
        <p:spPr>
          <a:xfrm>
            <a:off x="108000" y="836640"/>
            <a:ext cx="1571400" cy="3254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601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271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6356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71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71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71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3" descr="파워포인트(ML로고포함)프레임"/>
          <p:cNvPicPr/>
          <p:nvPr/>
        </p:nvPicPr>
        <p:blipFill>
          <a:blip r:embed="rId2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6" descr="3"/>
          <p:cNvPicPr/>
          <p:nvPr/>
        </p:nvPicPr>
        <p:blipFill>
          <a:blip r:embed="rId3"/>
          <a:stretch/>
        </p:blipFill>
        <p:spPr>
          <a:xfrm>
            <a:off x="250920" y="1446120"/>
            <a:ext cx="8893080" cy="73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워드마크"/>
          <p:cNvPicPr/>
          <p:nvPr/>
        </p:nvPicPr>
        <p:blipFill>
          <a:blip r:embed="rId4"/>
          <a:stretch/>
        </p:blipFill>
        <p:spPr>
          <a:xfrm>
            <a:off x="108000" y="836640"/>
            <a:ext cx="1571400" cy="3254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601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271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6356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71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71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71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3" descr="파워포인트(ML로고포함)프레임"/>
          <p:cNvPicPr/>
          <p:nvPr/>
        </p:nvPicPr>
        <p:blipFill>
          <a:blip r:embed="rId2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6" descr="3"/>
          <p:cNvPicPr/>
          <p:nvPr/>
        </p:nvPicPr>
        <p:blipFill>
          <a:blip r:embed="rId3"/>
          <a:stretch/>
        </p:blipFill>
        <p:spPr>
          <a:xfrm>
            <a:off x="250920" y="1446120"/>
            <a:ext cx="8893080" cy="730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9" descr="워드마크"/>
          <p:cNvPicPr/>
          <p:nvPr/>
        </p:nvPicPr>
        <p:blipFill>
          <a:blip r:embed="rId4"/>
          <a:stretch/>
        </p:blipFill>
        <p:spPr>
          <a:xfrm>
            <a:off x="108000" y="836640"/>
            <a:ext cx="1571400" cy="32544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601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271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6356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71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71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71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3" descr="파워포인트(ML로고포함)프레임"/>
          <p:cNvPicPr/>
          <p:nvPr/>
        </p:nvPicPr>
        <p:blipFill>
          <a:blip r:embed="rId2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6" descr="3"/>
          <p:cNvPicPr/>
          <p:nvPr/>
        </p:nvPicPr>
        <p:blipFill>
          <a:blip r:embed="rId3"/>
          <a:stretch/>
        </p:blipFill>
        <p:spPr>
          <a:xfrm>
            <a:off x="250920" y="1446120"/>
            <a:ext cx="8893080" cy="730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9" descr="워드마크"/>
          <p:cNvPicPr/>
          <p:nvPr/>
        </p:nvPicPr>
        <p:blipFill>
          <a:blip r:embed="rId4"/>
          <a:stretch/>
        </p:blipFill>
        <p:spPr>
          <a:xfrm>
            <a:off x="108000" y="836640"/>
            <a:ext cx="1571400" cy="32544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601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271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6356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71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71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71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772400" cy="25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Y헤드라인M"/>
              </a:rPr>
              <a:t>JCT3V-J0055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Y헤드라인M"/>
              </a:rPr>
              <a:t>Motion buffer reduction for depth</a:t>
            </a:r>
            <a:endParaRPr b="0" lang="en-US" sz="3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Simulation results: Case 4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65" name="TextBox 4"/>
          <p:cNvSpPr/>
          <p:nvPr/>
        </p:nvSpPr>
        <p:spPr>
          <a:xfrm>
            <a:off x="1692360" y="5610240"/>
            <a:ext cx="603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Case 4: Progressive (1/256, 1/1024)</a:t>
            </a:r>
            <a:endParaRPr b="0" lang="en-US" sz="1600" spc="-1" strike="noStrike">
              <a:solidFill>
                <a:srgbClr val="000000"/>
              </a:solidFill>
              <a:latin typeface="새굴림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108000" y="2154240"/>
          <a:ext cx="8928000" cy="3075120"/>
        </p:xfrm>
        <a:graphic>
          <a:graphicData uri="http://schemas.openxmlformats.org/drawingml/2006/table">
            <a:tbl>
              <a:tblPr/>
              <a:tblGrid>
                <a:gridCol w="974520"/>
                <a:gridCol w="919440"/>
                <a:gridCol w="919080"/>
                <a:gridCol w="919080"/>
                <a:gridCol w="919080"/>
                <a:gridCol w="920880"/>
                <a:gridCol w="919080"/>
                <a:gridCol w="808200"/>
                <a:gridCol w="807840"/>
                <a:gridCol w="820800"/>
              </a:tblGrid>
              <a:tr h="355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PSNR / video bit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PSNR / total bit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synth PSNR / total bitrat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nc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dec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ren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235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Ballo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36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Ken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Newspaper_C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4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GT_F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8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5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Poznan_Hall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5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Poznan_Stre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4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Undo_Danc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Sha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24x7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3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920x10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0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1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Simulation results: Case 5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68" name="TextBox 4"/>
          <p:cNvSpPr/>
          <p:nvPr/>
        </p:nvSpPr>
        <p:spPr>
          <a:xfrm>
            <a:off x="1692360" y="5610240"/>
            <a:ext cx="603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Case 5: Immediate (1/1024, 1/1024)</a:t>
            </a:r>
            <a:endParaRPr b="0" lang="en-US" sz="1600" spc="-1" strike="noStrike">
              <a:solidFill>
                <a:srgbClr val="000000"/>
              </a:solidFill>
              <a:latin typeface="새굴림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108000" y="2133720"/>
          <a:ext cx="8928000" cy="3073320"/>
        </p:xfrm>
        <a:graphic>
          <a:graphicData uri="http://schemas.openxmlformats.org/drawingml/2006/table">
            <a:tbl>
              <a:tblPr/>
              <a:tblGrid>
                <a:gridCol w="974520"/>
                <a:gridCol w="919440"/>
                <a:gridCol w="919080"/>
                <a:gridCol w="919080"/>
                <a:gridCol w="919080"/>
                <a:gridCol w="920880"/>
                <a:gridCol w="919080"/>
                <a:gridCol w="808200"/>
                <a:gridCol w="807840"/>
                <a:gridCol w="820800"/>
              </a:tblGrid>
              <a:tr h="3542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PSNR / video bit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PSNR / total bit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synth PSNR / total bitrat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nc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dec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ren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2350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Ballo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50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Ken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Newspaper_C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50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GT_F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Poznan_Hall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50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Poznan_Stre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5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Undo_Danc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0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Sha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24x7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1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920x10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0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1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108000" y="1599840"/>
            <a:ext cx="8712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Motion compression is performed after picture and accessing unit (AU) is coded in order to reduce size of buffer for storing motion dat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In the current 3D-HEVC, same ratio for the both texture and depth is applied for motion compressio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Compared to the texture, depth motion data is rarely used for motion prediction due to the other motion candidates such as MP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Therefore, higher compression ratio on depth motion data can be utilized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Proposed method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04" name="TextBox 4"/>
          <p:cNvSpPr/>
          <p:nvPr/>
        </p:nvSpPr>
        <p:spPr>
          <a:xfrm>
            <a:off x="1042920" y="6093000"/>
            <a:ext cx="66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Proposed unit sizes for subsampling depth motion data</a:t>
            </a:r>
            <a:endParaRPr b="0" lang="en-US" sz="18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08000" y="1600200"/>
            <a:ext cx="87120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Case 1, 3, 5: Immediate compres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Case 2, 4: Progressive compres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Minimum partition size is 4x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252360" y="2855880"/>
          <a:ext cx="8640720" cy="3094200"/>
        </p:xfrm>
        <a:graphic>
          <a:graphicData uri="http://schemas.openxmlformats.org/drawingml/2006/table">
            <a:tbl>
              <a:tblPr/>
              <a:tblGrid>
                <a:gridCol w="1930320"/>
                <a:gridCol w="3151440"/>
                <a:gridCol w="3558960"/>
              </a:tblGrid>
              <a:tr h="609480">
                <a:tc>
                  <a:txBody>
                    <a:bodyPr lIns="132480" rIns="13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132480" marR="1324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2480" rIns="13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After each depth is co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132480" marR="13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2480" rIns="13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After AU is co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132480" marR="1324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132480" rIns="13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Anch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132480" marR="1324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2480" rIns="13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8x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132480" marR="13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2480" rIns="13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6x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132480" marR="1324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132480" rIns="13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as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132480" marR="1324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2480" rIns="13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32x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132480" marR="13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2480" rIns="13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32x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132480" marR="1324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132480" rIns="13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as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132480" marR="1324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2480" rIns="13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32x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132480" marR="13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2480" rIns="13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64x64 (LC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132480" marR="1324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132480" rIns="13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as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132480" marR="1324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2480" rIns="13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64x64 (LC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132480" marR="13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2480" rIns="13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64x64 (LC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132480" marR="1324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132480" rIns="13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ase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132480" marR="1324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2480" rIns="13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64x64 (LC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132480" marR="13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2480" rIns="13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28x128 (4LC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132480" marR="1324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132480" rIns="13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ase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132480" marR="1324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2480" rIns="13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28x128 (4LC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132480" marR="13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2480" rIns="13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28x128 (4LC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132480" marR="1324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모서리가 둥근 직사각형 57"/>
          <p:cNvSpPr/>
          <p:nvPr/>
        </p:nvSpPr>
        <p:spPr>
          <a:xfrm>
            <a:off x="3241800" y="1465200"/>
            <a:ext cx="2733480" cy="4824360"/>
          </a:xfrm>
          <a:custGeom>
            <a:avLst/>
            <a:gdLst>
              <a:gd name="textAreaLeft" fmla="*/ 133200 w 2733480"/>
              <a:gd name="textAreaRight" fmla="*/ 2600280 w 2733480"/>
              <a:gd name="textAreaTop" fmla="*/ 133200 h 4824360"/>
              <a:gd name="textAreaBottom" fmla="*/ 4691160 h 4824360"/>
            </a:gdLst>
            <a:ahLst/>
            <a:rect l="textAreaLeft" t="textAreaTop" r="textAreaRight" b="textAreaBottom"/>
            <a:pathLst>
              <a:path w="21600" h="38120">
                <a:moveTo>
                  <a:pt x="3600" y="0"/>
                </a:moveTo>
                <a:arcTo wR="3600" hR="3600" stAng="16200000" swAng="-5400000"/>
                <a:lnTo>
                  <a:pt x="0" y="34520"/>
                </a:lnTo>
                <a:arcTo wR="3600" hR="3600" stAng="10800000" swAng="-5400000"/>
                <a:lnTo>
                  <a:pt x="18000" y="381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osed (immediate)</a:t>
            </a:r>
            <a:endParaRPr b="0" lang="en-US" sz="18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508" name="모서리가 둥근 직사각형 58"/>
          <p:cNvSpPr/>
          <p:nvPr/>
        </p:nvSpPr>
        <p:spPr>
          <a:xfrm>
            <a:off x="6178680" y="1465200"/>
            <a:ext cx="2733480" cy="4824360"/>
          </a:xfrm>
          <a:custGeom>
            <a:avLst/>
            <a:gdLst>
              <a:gd name="textAreaLeft" fmla="*/ 133200 w 2733480"/>
              <a:gd name="textAreaRight" fmla="*/ 2600280 w 2733480"/>
              <a:gd name="textAreaTop" fmla="*/ 133200 h 4824360"/>
              <a:gd name="textAreaBottom" fmla="*/ 4691160 h 4824360"/>
            </a:gdLst>
            <a:ahLst/>
            <a:rect l="textAreaLeft" t="textAreaTop" r="textAreaRight" b="textAreaBottom"/>
            <a:pathLst>
              <a:path w="21600" h="38120">
                <a:moveTo>
                  <a:pt x="3600" y="0"/>
                </a:moveTo>
                <a:arcTo wR="3600" hR="3600" stAng="16200000" swAng="-5400000"/>
                <a:lnTo>
                  <a:pt x="0" y="34520"/>
                </a:lnTo>
                <a:arcTo wR="3600" hR="3600" stAng="10800000" swAng="-5400000"/>
                <a:lnTo>
                  <a:pt x="18000" y="381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osed (Progressive)</a:t>
            </a:r>
            <a:endParaRPr b="0" lang="en-US" sz="18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509" name="모서리가 둥근 직사각형 3"/>
          <p:cNvSpPr/>
          <p:nvPr/>
        </p:nvSpPr>
        <p:spPr>
          <a:xfrm>
            <a:off x="112680" y="1465200"/>
            <a:ext cx="2733840" cy="4824360"/>
          </a:xfrm>
          <a:custGeom>
            <a:avLst/>
            <a:gdLst>
              <a:gd name="textAreaLeft" fmla="*/ 133200 w 2733840"/>
              <a:gd name="textAreaRight" fmla="*/ 2600640 w 2733840"/>
              <a:gd name="textAreaTop" fmla="*/ 133200 h 4824360"/>
              <a:gd name="textAreaBottom" fmla="*/ 4691160 h 4824360"/>
            </a:gdLst>
            <a:ahLst/>
            <a:rect l="textAreaLeft" t="textAreaTop" r="textAreaRight" b="textAreaBottom"/>
            <a:pathLst>
              <a:path w="21600" h="38115">
                <a:moveTo>
                  <a:pt x="3600" y="0"/>
                </a:moveTo>
                <a:arcTo wR="3600" hR="3600" stAng="16200000" swAng="-5400000"/>
                <a:lnTo>
                  <a:pt x="0" y="34515"/>
                </a:lnTo>
                <a:arcTo wR="3600" hR="3600" stAng="10800000" swAng="-5400000"/>
                <a:lnTo>
                  <a:pt x="18000" y="38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chor</a:t>
            </a:r>
            <a:endParaRPr b="0" lang="en-US" sz="18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Proposed method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11" name="Rectangle 10"/>
          <p:cNvSpPr/>
          <p:nvPr/>
        </p:nvSpPr>
        <p:spPr>
          <a:xfrm>
            <a:off x="309600" y="5289480"/>
            <a:ext cx="842760" cy="855720"/>
          </a:xfrm>
          <a:prstGeom prst="rect">
            <a:avLst/>
          </a:prstGeom>
          <a:solidFill>
            <a:srgbClr val="cc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Texture  motion data</a:t>
            </a:r>
            <a:endParaRPr b="0" lang="en-US" sz="12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512" name="Rectangle 10"/>
          <p:cNvSpPr/>
          <p:nvPr/>
        </p:nvSpPr>
        <p:spPr>
          <a:xfrm>
            <a:off x="309600" y="3911760"/>
            <a:ext cx="422280" cy="428400"/>
          </a:xfrm>
          <a:prstGeom prst="rect">
            <a:avLst/>
          </a:prstGeom>
          <a:solidFill>
            <a:srgbClr val="cc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513" name="Rectangle 10"/>
          <p:cNvSpPr/>
          <p:nvPr/>
        </p:nvSpPr>
        <p:spPr>
          <a:xfrm>
            <a:off x="309600" y="2413080"/>
            <a:ext cx="257040" cy="261720"/>
          </a:xfrm>
          <a:prstGeom prst="rect">
            <a:avLst/>
          </a:prstGeom>
          <a:solidFill>
            <a:srgbClr val="cc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1619280" y="5289480"/>
            <a:ext cx="842760" cy="855720"/>
          </a:xfrm>
          <a:prstGeom prst="rect">
            <a:avLst/>
          </a:prstGeom>
          <a:solidFill>
            <a:srgbClr val="f2f2f2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Depth  motion data</a:t>
            </a:r>
            <a:endParaRPr b="0" lang="en-US" sz="12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515" name="Rectangle 10"/>
          <p:cNvSpPr/>
          <p:nvPr/>
        </p:nvSpPr>
        <p:spPr>
          <a:xfrm>
            <a:off x="1619280" y="3911760"/>
            <a:ext cx="420480" cy="426960"/>
          </a:xfrm>
          <a:prstGeom prst="rect">
            <a:avLst/>
          </a:prstGeom>
          <a:solidFill>
            <a:srgbClr val="f2f2f2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516" name="Rectangle 10"/>
          <p:cNvSpPr/>
          <p:nvPr/>
        </p:nvSpPr>
        <p:spPr>
          <a:xfrm>
            <a:off x="1619280" y="2414520"/>
            <a:ext cx="257040" cy="260280"/>
          </a:xfrm>
          <a:prstGeom prst="rect">
            <a:avLst/>
          </a:prstGeom>
          <a:solidFill>
            <a:srgbClr val="f2f2f2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517" name="TextBox 10"/>
          <p:cNvSpPr/>
          <p:nvPr/>
        </p:nvSpPr>
        <p:spPr>
          <a:xfrm>
            <a:off x="1465200" y="2043000"/>
            <a:ext cx="56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1/16</a:t>
            </a:r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518" name="Rectangle 48"/>
          <p:cNvSpPr/>
          <p:nvPr/>
        </p:nvSpPr>
        <p:spPr>
          <a:xfrm>
            <a:off x="181080" y="2022480"/>
            <a:ext cx="8638920" cy="7682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519" name="Up Arrow 45"/>
          <p:cNvSpPr/>
          <p:nvPr/>
        </p:nvSpPr>
        <p:spPr>
          <a:xfrm>
            <a:off x="401760" y="2852640"/>
            <a:ext cx="8346960" cy="676440"/>
          </a:xfrm>
          <a:prstGeom prst="upArrow">
            <a:avLst>
              <a:gd name="adj1" fmla="val 50000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520" name="TextBox 10"/>
          <p:cNvSpPr/>
          <p:nvPr/>
        </p:nvSpPr>
        <p:spPr>
          <a:xfrm>
            <a:off x="2409840" y="3144960"/>
            <a:ext cx="423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After all of the pictures in the same AU are coded</a:t>
            </a:r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521" name="Rectangle 10"/>
          <p:cNvSpPr/>
          <p:nvPr/>
        </p:nvSpPr>
        <p:spPr>
          <a:xfrm>
            <a:off x="3419640" y="5289480"/>
            <a:ext cx="844560" cy="855720"/>
          </a:xfrm>
          <a:prstGeom prst="rect">
            <a:avLst/>
          </a:prstGeom>
          <a:solidFill>
            <a:srgbClr val="cc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Texture motion data</a:t>
            </a:r>
            <a:endParaRPr b="0" lang="en-US" sz="12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522" name="Rectangle 10"/>
          <p:cNvSpPr/>
          <p:nvPr/>
        </p:nvSpPr>
        <p:spPr>
          <a:xfrm>
            <a:off x="3419640" y="3911760"/>
            <a:ext cx="422280" cy="426960"/>
          </a:xfrm>
          <a:prstGeom prst="rect">
            <a:avLst/>
          </a:prstGeom>
          <a:solidFill>
            <a:srgbClr val="cc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523" name="Rectangle 10"/>
          <p:cNvSpPr/>
          <p:nvPr/>
        </p:nvSpPr>
        <p:spPr>
          <a:xfrm>
            <a:off x="3419640" y="2413080"/>
            <a:ext cx="258480" cy="261720"/>
          </a:xfrm>
          <a:prstGeom prst="rect">
            <a:avLst/>
          </a:prstGeom>
          <a:solidFill>
            <a:srgbClr val="cc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524" name="Rectangle 10"/>
          <p:cNvSpPr/>
          <p:nvPr/>
        </p:nvSpPr>
        <p:spPr>
          <a:xfrm>
            <a:off x="4730760" y="5289480"/>
            <a:ext cx="843120" cy="855720"/>
          </a:xfrm>
          <a:prstGeom prst="rect">
            <a:avLst/>
          </a:prstGeom>
          <a:solidFill>
            <a:srgbClr val="f2f2f2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Depth motion data</a:t>
            </a:r>
            <a:endParaRPr b="0" lang="en-US" sz="12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525" name="Rectangle 10"/>
          <p:cNvSpPr/>
          <p:nvPr/>
        </p:nvSpPr>
        <p:spPr>
          <a:xfrm>
            <a:off x="4730760" y="3905280"/>
            <a:ext cx="144360" cy="149040"/>
          </a:xfrm>
          <a:prstGeom prst="rect">
            <a:avLst/>
          </a:prstGeom>
          <a:solidFill>
            <a:srgbClr val="f2f2f2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526" name="Rectangle 10"/>
          <p:cNvSpPr/>
          <p:nvPr/>
        </p:nvSpPr>
        <p:spPr>
          <a:xfrm>
            <a:off x="4730760" y="2413080"/>
            <a:ext cx="144360" cy="149040"/>
          </a:xfrm>
          <a:prstGeom prst="rect">
            <a:avLst/>
          </a:prstGeom>
          <a:solidFill>
            <a:srgbClr val="f2f2f2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527" name="Rectangle 10"/>
          <p:cNvSpPr/>
          <p:nvPr/>
        </p:nvSpPr>
        <p:spPr>
          <a:xfrm>
            <a:off x="6443640" y="5289480"/>
            <a:ext cx="844560" cy="855720"/>
          </a:xfrm>
          <a:prstGeom prst="rect">
            <a:avLst/>
          </a:prstGeom>
          <a:solidFill>
            <a:srgbClr val="cc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Texture motion data</a:t>
            </a:r>
            <a:endParaRPr b="0" lang="en-US" sz="12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528" name="Rectangle 10"/>
          <p:cNvSpPr/>
          <p:nvPr/>
        </p:nvSpPr>
        <p:spPr>
          <a:xfrm>
            <a:off x="6443640" y="3911760"/>
            <a:ext cx="422280" cy="426960"/>
          </a:xfrm>
          <a:prstGeom prst="rect">
            <a:avLst/>
          </a:prstGeom>
          <a:solidFill>
            <a:srgbClr val="cc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529" name="Rectangle 10"/>
          <p:cNvSpPr/>
          <p:nvPr/>
        </p:nvSpPr>
        <p:spPr>
          <a:xfrm>
            <a:off x="6443640" y="2413080"/>
            <a:ext cx="257040" cy="261720"/>
          </a:xfrm>
          <a:prstGeom prst="rect">
            <a:avLst/>
          </a:prstGeom>
          <a:solidFill>
            <a:srgbClr val="cc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530" name="Rectangle 10"/>
          <p:cNvSpPr/>
          <p:nvPr/>
        </p:nvSpPr>
        <p:spPr>
          <a:xfrm>
            <a:off x="7754760" y="5289480"/>
            <a:ext cx="843120" cy="855720"/>
          </a:xfrm>
          <a:prstGeom prst="rect">
            <a:avLst/>
          </a:prstGeom>
          <a:solidFill>
            <a:srgbClr val="f2f2f2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Depth motion data</a:t>
            </a:r>
            <a:endParaRPr b="0" lang="en-US" sz="12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531" name="Rectangle 10"/>
          <p:cNvSpPr/>
          <p:nvPr/>
        </p:nvSpPr>
        <p:spPr>
          <a:xfrm>
            <a:off x="7754760" y="3911760"/>
            <a:ext cx="255600" cy="260280"/>
          </a:xfrm>
          <a:prstGeom prst="rect">
            <a:avLst/>
          </a:prstGeom>
          <a:solidFill>
            <a:srgbClr val="f2f2f2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532" name="Rectangle 10"/>
          <p:cNvSpPr/>
          <p:nvPr/>
        </p:nvSpPr>
        <p:spPr>
          <a:xfrm>
            <a:off x="7754760" y="2413080"/>
            <a:ext cx="146160" cy="149040"/>
          </a:xfrm>
          <a:prstGeom prst="rect">
            <a:avLst/>
          </a:prstGeom>
          <a:solidFill>
            <a:srgbClr val="f2f2f2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533" name="TextBox 10"/>
          <p:cNvSpPr/>
          <p:nvPr/>
        </p:nvSpPr>
        <p:spPr>
          <a:xfrm>
            <a:off x="4521240" y="2043000"/>
            <a:ext cx="6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1/256</a:t>
            </a:r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534" name="TextBox 10"/>
          <p:cNvSpPr/>
          <p:nvPr/>
        </p:nvSpPr>
        <p:spPr>
          <a:xfrm>
            <a:off x="3995640" y="6289560"/>
            <a:ext cx="119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posed (Case 3)</a:t>
            </a:r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535" name="TextBox 10"/>
          <p:cNvSpPr/>
          <p:nvPr/>
        </p:nvSpPr>
        <p:spPr>
          <a:xfrm>
            <a:off x="7545240" y="2043000"/>
            <a:ext cx="69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1/256</a:t>
            </a:r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536" name="TextBox 10"/>
          <p:cNvSpPr/>
          <p:nvPr/>
        </p:nvSpPr>
        <p:spPr>
          <a:xfrm>
            <a:off x="7545240" y="3637080"/>
            <a:ext cx="69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1/64</a:t>
            </a:r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537" name="TextBox 10"/>
          <p:cNvSpPr/>
          <p:nvPr/>
        </p:nvSpPr>
        <p:spPr>
          <a:xfrm>
            <a:off x="1541520" y="3606840"/>
            <a:ext cx="4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1/4</a:t>
            </a:r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538" name="TextBox 10"/>
          <p:cNvSpPr/>
          <p:nvPr/>
        </p:nvSpPr>
        <p:spPr>
          <a:xfrm>
            <a:off x="231840" y="2043000"/>
            <a:ext cx="56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1/16</a:t>
            </a:r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539" name="TextBox 10"/>
          <p:cNvSpPr/>
          <p:nvPr/>
        </p:nvSpPr>
        <p:spPr>
          <a:xfrm>
            <a:off x="309600" y="3606840"/>
            <a:ext cx="49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1/4</a:t>
            </a:r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540" name="TextBox 10"/>
          <p:cNvSpPr/>
          <p:nvPr/>
        </p:nvSpPr>
        <p:spPr>
          <a:xfrm>
            <a:off x="3300480" y="2043000"/>
            <a:ext cx="56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1/16</a:t>
            </a:r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541" name="TextBox 10"/>
          <p:cNvSpPr/>
          <p:nvPr/>
        </p:nvSpPr>
        <p:spPr>
          <a:xfrm>
            <a:off x="3376440" y="3606840"/>
            <a:ext cx="49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1/4</a:t>
            </a:r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542" name="TextBox 10"/>
          <p:cNvSpPr/>
          <p:nvPr/>
        </p:nvSpPr>
        <p:spPr>
          <a:xfrm>
            <a:off x="6329520" y="2043000"/>
            <a:ext cx="56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1/16</a:t>
            </a:r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543" name="TextBox 10"/>
          <p:cNvSpPr/>
          <p:nvPr/>
        </p:nvSpPr>
        <p:spPr>
          <a:xfrm>
            <a:off x="6405480" y="3606840"/>
            <a:ext cx="49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1/4</a:t>
            </a:r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544" name="TextBox 10"/>
          <p:cNvSpPr/>
          <p:nvPr/>
        </p:nvSpPr>
        <p:spPr>
          <a:xfrm>
            <a:off x="6950160" y="6289560"/>
            <a:ext cx="119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posed (Case 2)</a:t>
            </a:r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545" name="TextBox 10"/>
          <p:cNvSpPr/>
          <p:nvPr/>
        </p:nvSpPr>
        <p:spPr>
          <a:xfrm>
            <a:off x="884160" y="6289560"/>
            <a:ext cx="119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chor</a:t>
            </a:r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546" name="Up Arrow 45"/>
          <p:cNvSpPr/>
          <p:nvPr/>
        </p:nvSpPr>
        <p:spPr>
          <a:xfrm>
            <a:off x="401760" y="4481640"/>
            <a:ext cx="8346960" cy="676080"/>
          </a:xfrm>
          <a:prstGeom prst="upArrow">
            <a:avLst>
              <a:gd name="adj1" fmla="val 50000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547" name="TextBox 10"/>
          <p:cNvSpPr/>
          <p:nvPr/>
        </p:nvSpPr>
        <p:spPr>
          <a:xfrm>
            <a:off x="2409840" y="4786200"/>
            <a:ext cx="423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After each picture is coded</a:t>
            </a:r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548" name="Rectangle 27"/>
          <p:cNvSpPr/>
          <p:nvPr/>
        </p:nvSpPr>
        <p:spPr>
          <a:xfrm>
            <a:off x="181080" y="3606840"/>
            <a:ext cx="8638920" cy="84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Simulation results summary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50" name="TextBox 4"/>
          <p:cNvSpPr/>
          <p:nvPr/>
        </p:nvSpPr>
        <p:spPr>
          <a:xfrm>
            <a:off x="1547640" y="6237360"/>
            <a:ext cx="60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ummary results on the test cases</a:t>
            </a:r>
            <a:endParaRPr b="0" lang="en-US" sz="2000" spc="-1" strike="noStrike">
              <a:solidFill>
                <a:srgbClr val="000000"/>
              </a:solidFill>
              <a:latin typeface="새굴림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206280" y="2832120"/>
          <a:ext cx="8731440" cy="3228840"/>
        </p:xfrm>
        <a:graphic>
          <a:graphicData uri="http://schemas.openxmlformats.org/drawingml/2006/table">
            <a:tbl>
              <a:tblPr/>
              <a:tblGrid>
                <a:gridCol w="957240"/>
                <a:gridCol w="1109880"/>
                <a:gridCol w="1109520"/>
                <a:gridCol w="873000"/>
                <a:gridCol w="885960"/>
                <a:gridCol w="1263600"/>
                <a:gridCol w="1262160"/>
                <a:gridCol w="1270080"/>
              </a:tblGrid>
              <a:tr h="1028520">
                <a:tc>
                  <a:txBody>
                    <a:bodyPr lIns="96480" rIns="9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Unit size </a:t>
                      </a:r>
                      <a:br>
                        <a:rPr sz="1200"/>
                      </a:b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(after each </a:t>
                      </a:r>
                      <a:br>
                        <a:rPr sz="1200"/>
                      </a:b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dept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Unit size(after AU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Video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Video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Video PSNR / video bit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Video PSNR / </a:t>
                      </a:r>
                      <a:br>
                        <a:rPr sz="1200"/>
                      </a:b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total bit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6480" rIns="96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Synth PSNR /</a:t>
                      </a:r>
                      <a:br>
                        <a:rPr sz="1200"/>
                      </a:b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total bit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2efd9"/>
                    </a:solidFill>
                  </a:tcPr>
                </a:tc>
              </a:tr>
              <a:tr h="366840">
                <a:tc>
                  <a:txBody>
                    <a:bodyPr lIns="96480" rIns="9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Anch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8x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6x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6480" rIns="9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2efd9"/>
                    </a:solidFill>
                  </a:tcPr>
                </a:tc>
              </a:tr>
              <a:tr h="366840">
                <a:tc>
                  <a:txBody>
                    <a:bodyPr lIns="96480" rIns="9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ase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32x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32x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6480" rIns="9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fd9"/>
                    </a:solidFill>
                  </a:tcPr>
                </a:tc>
              </a:tr>
              <a:tr h="366480">
                <a:tc>
                  <a:txBody>
                    <a:bodyPr lIns="96480" rIns="9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ase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32x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64x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0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6480" rIns="9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fd9"/>
                    </a:solidFill>
                  </a:tcPr>
                </a:tc>
              </a:tr>
              <a:tr h="366840">
                <a:tc>
                  <a:txBody>
                    <a:bodyPr lIns="96480" rIns="9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ff"/>
                          </a:solidFill>
                          <a:latin typeface="Arial"/>
                          <a:ea typeface="맑은 고딕"/>
                        </a:rPr>
                        <a:t>Case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ff"/>
                          </a:solidFill>
                          <a:latin typeface="Arial"/>
                          <a:ea typeface="맑은 고딕"/>
                        </a:rPr>
                        <a:t>64x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ff"/>
                          </a:solidFill>
                          <a:latin typeface="Arial"/>
                          <a:ea typeface="맑은 고딕"/>
                        </a:rPr>
                        <a:t>64x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맑은 고딕"/>
                        </a:rPr>
                        <a:t>-0.01</a:t>
                      </a:r>
                      <a:r>
                        <a:rPr b="1" lang="en-CA" sz="1600" spc="-1" strike="noStrike">
                          <a:solidFill>
                            <a:srgbClr val="0000ff"/>
                          </a:solidFill>
                          <a:latin typeface="Arial"/>
                          <a:ea typeface="맑은 고딕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맑은 고딕"/>
                        </a:rPr>
                        <a:t>0.00</a:t>
                      </a:r>
                      <a:r>
                        <a:rPr b="1" lang="en-CA" sz="1600" spc="-1" strike="noStrike">
                          <a:solidFill>
                            <a:srgbClr val="0000ff"/>
                          </a:solidFill>
                          <a:latin typeface="Arial"/>
                          <a:ea typeface="맑은 고딕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맑은 고딕"/>
                        </a:rPr>
                        <a:t>0.00</a:t>
                      </a:r>
                      <a:r>
                        <a:rPr b="1" lang="en-CA" sz="1600" spc="-1" strike="noStrike">
                          <a:solidFill>
                            <a:srgbClr val="0000ff"/>
                          </a:solidFill>
                          <a:latin typeface="Arial"/>
                          <a:ea typeface="맑은 고딕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맑은 고딕"/>
                        </a:rPr>
                        <a:t>0.03</a:t>
                      </a:r>
                      <a:r>
                        <a:rPr b="1" lang="en-CA" sz="1600" spc="-1" strike="noStrike">
                          <a:solidFill>
                            <a:srgbClr val="0000ff"/>
                          </a:solidFill>
                          <a:latin typeface="Arial"/>
                          <a:ea typeface="맑은 고딕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6480" rIns="9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맑은 고딕"/>
                        </a:rPr>
                        <a:t>0.08</a:t>
                      </a:r>
                      <a:r>
                        <a:rPr b="1" lang="en-CA" sz="1600" spc="-1" strike="noStrike">
                          <a:solidFill>
                            <a:srgbClr val="0000ff"/>
                          </a:solidFill>
                          <a:latin typeface="Arial"/>
                          <a:ea typeface="맑은 고딕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fd9"/>
                    </a:solidFill>
                  </a:tcPr>
                </a:tc>
              </a:tr>
              <a:tr h="366840">
                <a:tc>
                  <a:txBody>
                    <a:bodyPr lIns="96480" rIns="9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ase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64x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256x2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2</a:t>
                      </a: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01</a:t>
                      </a: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0</a:t>
                      </a: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4</a:t>
                      </a: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6480" rIns="9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2</a:t>
                      </a: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fd9"/>
                    </a:solidFill>
                  </a:tcPr>
                </a:tc>
              </a:tr>
              <a:tr h="366480">
                <a:tc>
                  <a:txBody>
                    <a:bodyPr lIns="96480" rIns="9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ase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256x2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256x2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2</a:t>
                      </a: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01</a:t>
                      </a: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0</a:t>
                      </a: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6</a:t>
                      </a: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2efd9"/>
                    </a:solidFill>
                  </a:tcPr>
                </a:tc>
                <a:tc>
                  <a:txBody>
                    <a:bodyPr lIns="96480" rIns="9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6</a:t>
                      </a: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2efd9"/>
                    </a:solidFill>
                  </a:tcPr>
                </a:tc>
              </a:tr>
            </a:tbl>
          </a:graphicData>
        </a:graphic>
      </p:graphicFrame>
      <p:sp>
        <p:nvSpPr>
          <p:cNvPr id="552" name=""/>
          <p:cNvSpPr txBox="1"/>
          <p:nvPr/>
        </p:nvSpPr>
        <p:spPr>
          <a:xfrm>
            <a:off x="108000" y="1600200"/>
            <a:ext cx="87120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Case 3 was cross-checked by Shar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451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맑은 고딕"/>
              </a:rPr>
              <a:t>0.03% and 0.08% loss on video and synthesized, respective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08000" y="1599840"/>
            <a:ext cx="8712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It is proposed to apply higher sampling ratio in depth motion data then textur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The proposed method results negligible coding loss on video and synthesized BD-rate while an amount of motion buffer is reduc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It is recommended to adopt this method in next 3D-HEVC an HT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Simulation results: Case 1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56" name="TextBox 4"/>
          <p:cNvSpPr/>
          <p:nvPr/>
        </p:nvSpPr>
        <p:spPr>
          <a:xfrm>
            <a:off x="1692360" y="5610240"/>
            <a:ext cx="603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Case 1: Immediate (1/64, 1/64)</a:t>
            </a:r>
            <a:endParaRPr b="0" lang="en-US" sz="1600" spc="-1" strike="noStrike">
              <a:solidFill>
                <a:srgbClr val="000000"/>
              </a:solidFill>
              <a:latin typeface="새굴림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108000" y="2154240"/>
          <a:ext cx="8928000" cy="3075120"/>
        </p:xfrm>
        <a:graphic>
          <a:graphicData uri="http://schemas.openxmlformats.org/drawingml/2006/table">
            <a:tbl>
              <a:tblPr/>
              <a:tblGrid>
                <a:gridCol w="974520"/>
                <a:gridCol w="919440"/>
                <a:gridCol w="919080"/>
                <a:gridCol w="919080"/>
                <a:gridCol w="919080"/>
                <a:gridCol w="920880"/>
                <a:gridCol w="919080"/>
                <a:gridCol w="808200"/>
                <a:gridCol w="807840"/>
                <a:gridCol w="820800"/>
              </a:tblGrid>
              <a:tr h="355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PSNR / video bit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PSNR / total bit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synth PSNR / total bitrat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nc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dec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ren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235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Ballo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36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Ken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Newspaper_C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8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4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GT_F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5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Poznan_Hall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5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Poznan_Stre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4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Undo_Danc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8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Sha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24x7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3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920x10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Simulation results: Case 2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59" name="TextBox 4"/>
          <p:cNvSpPr/>
          <p:nvPr/>
        </p:nvSpPr>
        <p:spPr>
          <a:xfrm>
            <a:off x="1692360" y="5610240"/>
            <a:ext cx="603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Case 2: Progressive (1/64, 1/256)</a:t>
            </a:r>
            <a:endParaRPr b="0" lang="en-US" sz="1600" spc="-1" strike="noStrike">
              <a:solidFill>
                <a:srgbClr val="000000"/>
              </a:solidFill>
              <a:latin typeface="새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108000" y="2154240"/>
          <a:ext cx="8928000" cy="3075120"/>
        </p:xfrm>
        <a:graphic>
          <a:graphicData uri="http://schemas.openxmlformats.org/drawingml/2006/table">
            <a:tbl>
              <a:tblPr/>
              <a:tblGrid>
                <a:gridCol w="974520"/>
                <a:gridCol w="919440"/>
                <a:gridCol w="919080"/>
                <a:gridCol w="919080"/>
                <a:gridCol w="919080"/>
                <a:gridCol w="920880"/>
                <a:gridCol w="919080"/>
                <a:gridCol w="808200"/>
                <a:gridCol w="807840"/>
                <a:gridCol w="820800"/>
              </a:tblGrid>
              <a:tr h="355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PSNR / video bit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PSNR / total bit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synth PSNR / total bitrat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nc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dec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ren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235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Ballo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36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Ken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8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Newspaper_C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8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4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GT_F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5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Poznan_Hall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8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5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Poznan_Stre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4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Undo_Danc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Sha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8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24x7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3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920x10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0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Simulation results: Case 3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62" name="TextBox 4"/>
          <p:cNvSpPr/>
          <p:nvPr/>
        </p:nvSpPr>
        <p:spPr>
          <a:xfrm>
            <a:off x="1692360" y="5610240"/>
            <a:ext cx="603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Case 3: Immediate (1/256, 1/256)</a:t>
            </a:r>
            <a:endParaRPr b="0" lang="en-US" sz="1600" spc="-1" strike="noStrike">
              <a:solidFill>
                <a:srgbClr val="000000"/>
              </a:solidFill>
              <a:latin typeface="새굴림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108000" y="2082960"/>
          <a:ext cx="8928000" cy="3074760"/>
        </p:xfrm>
        <a:graphic>
          <a:graphicData uri="http://schemas.openxmlformats.org/drawingml/2006/table">
            <a:tbl>
              <a:tblPr/>
              <a:tblGrid>
                <a:gridCol w="974520"/>
                <a:gridCol w="919440"/>
                <a:gridCol w="919080"/>
                <a:gridCol w="919080"/>
                <a:gridCol w="919080"/>
                <a:gridCol w="920880"/>
                <a:gridCol w="919080"/>
                <a:gridCol w="808200"/>
                <a:gridCol w="807840"/>
                <a:gridCol w="820800"/>
              </a:tblGrid>
              <a:tr h="3427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PSNR / video bit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PSNR / total bit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synth PSNR / total bitrat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nc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dec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ren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Ballo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8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Ken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Newspaper_C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GT_F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Poznan_Hall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Poznan_Stre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8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Undo_Danc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Sha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24x7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920x10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0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새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04:49:42Z</dcterms:created>
  <dc:creator>허영수</dc:creator>
  <dc:description/>
  <dc:language>en-US</dc:language>
  <cp:lastModifiedBy>유소정</cp:lastModifiedBy>
  <dcterms:modified xsi:type="dcterms:W3CDTF">2014-10-19T03:08:14Z</dcterms:modified>
  <cp:revision>2724</cp:revision>
  <dc:subject/>
  <dc:title>슬라이드 1</dc:title>
</cp:coreProperties>
</file>