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2368-85B4-44D0-A960-1F113B76A84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53E6-5535-415F-AC95-1B74E62C04DA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CBB4-EF2F-4874-98D9-9CB25160C8E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80FF-B3AF-4D91-84B8-2D95A8A73840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8049-7B26-46CB-8B03-C21E89B6CAC9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9BCD-9F3C-4030-8378-879FC8052DB9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FF1F-CAB5-42E8-A8BC-B3A3FEC9B4ED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B165-EEAF-4840-9AE3-9A251AC08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6500-C7ED-43D2-B2B1-E6AFB8B10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EA43-6E05-4AC5-AD00-9058EB159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66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56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80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66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56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7F47-A810-4261-8AAF-3478A16584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640D-33B1-4CD5-9DBD-07DDB6FADF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D5AE-B427-47C5-8999-1FD29563E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8680-2337-47BF-BA68-C896C197F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FA50-2DEB-4F35-9F9A-EC430FD3A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8000" y="620640"/>
            <a:ext cx="70200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68FC-B901-4E8F-9358-8AC81AB55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F5EE-6695-4FB7-9EC8-190936022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E377-82E4-495C-A75C-8E073DA62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4BAD-9DBE-403F-8C03-732B49F33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파워포인트(ML로고포함)프레임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3"/>
          <p:cNvPicPr/>
          <p:nvPr/>
        </p:nvPicPr>
        <p:blipFill>
          <a:blip r:embed="rId3"/>
          <a:stretch/>
        </p:blipFill>
        <p:spPr>
          <a:xfrm>
            <a:off x="250920" y="1446120"/>
            <a:ext cx="8893080" cy="7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745D-E34A-4A49-A5C9-AB1087B29E1A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5" name="Picture 9" descr="워드마크"/>
          <p:cNvPicPr/>
          <p:nvPr/>
        </p:nvPicPr>
        <p:blipFill>
          <a:blip r:embed="rId4"/>
          <a:stretch/>
        </p:blipFill>
        <p:spPr>
          <a:xfrm>
            <a:off x="108000" y="836640"/>
            <a:ext cx="157140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7772400" cy="25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Y헤드라인M"/>
              </a:rPr>
              <a:t>JCT3V-I0131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Adaptive Candidate Selec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(ACS)</a:t>
            </a:r>
            <a:endParaRPr b="0" lang="en-US" sz="3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8000" y="1599840"/>
            <a:ext cx="8712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When merge mode is invoked, IVMC or MPI candidate is frequently selected for dependent texture view or depth, respectivel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dependent texture view, if temporal collocated block used the IVMC for merge mode, the best candidate for the merge mode in current block is also IVMC in most ca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depth map, if temporal collocated block used the MPI for merge mode, the best candidate for the merge mode in current block is also MPI in most ca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Signaling the merging index can be omitted by exploiting such relationship in terms of candidate selec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herefore, the adaptive candidate selection method is propo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Condition 1 for dependent texture 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7560" indent="-342720">
              <a:lnSpc>
                <a:spcPct val="120000"/>
              </a:lnSpc>
              <a:spcBef>
                <a:spcPts val="349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Current PU is belong to the dependent vie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17560" indent="-342720">
              <a:lnSpc>
                <a:spcPct val="120000"/>
              </a:lnSpc>
              <a:spcBef>
                <a:spcPts val="349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Temporal collocated PU used IVMC for the merge m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17560" indent="-342720">
              <a:lnSpc>
                <a:spcPct val="120000"/>
              </a:lnSpc>
              <a:spcBef>
                <a:spcPts val="349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IVMC is available for the current PU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If the condition 1 is true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IVMC is forced to set to be used for the merge mode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17560" indent="-342720">
              <a:lnSpc>
                <a:spcPct val="120000"/>
              </a:lnSpc>
              <a:spcBef>
                <a:spcPts val="349"/>
              </a:spcBef>
              <a:buClr>
                <a:srgbClr val="0023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Condition 2 for dep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Current PU is belong to the depth-m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Temporal collocated PU used MPI for the merge m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MPI is available for the current PU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If the condition 2 is true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349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MPI is forced to set to be used for the merge mod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Otherwise, the existing process for the merge mode is appli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The example of proposed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1252440" y="6243480"/>
            <a:ext cx="704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ample of two conditions for adaptive candidate selection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617760" y="1484280"/>
            <a:ext cx="6920280" cy="4587840"/>
            <a:chOff x="617760" y="1484280"/>
            <a:chExt cx="6920280" cy="4587840"/>
          </a:xfrm>
        </p:grpSpPr>
        <p:sp>
          <p:nvSpPr>
            <p:cNvPr id="57" name="Rectangle 8"/>
            <p:cNvSpPr/>
            <p:nvPr/>
          </p:nvSpPr>
          <p:spPr>
            <a:xfrm>
              <a:off x="5386320" y="2322000"/>
              <a:ext cx="741240" cy="741240"/>
            </a:xfrm>
            <a:prstGeom prst="rect">
              <a:avLst/>
            </a:prstGeom>
            <a:solidFill>
              <a:srgbClr val="f1f9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Cur</a:t>
              </a:r>
              <a:endParaRPr b="0" lang="en-US" sz="16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3008160" y="2322000"/>
              <a:ext cx="742680" cy="741240"/>
            </a:xfrm>
            <a:prstGeom prst="rect">
              <a:avLst/>
            </a:prstGeom>
            <a:solidFill>
              <a:srgbClr val="cece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Col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새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VMC is used</a:t>
              </a:r>
              <a:endParaRPr b="0" lang="en-US" sz="12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59" name="TextBox 10"/>
            <p:cNvSpPr/>
            <p:nvPr/>
          </p:nvSpPr>
          <p:spPr>
            <a:xfrm>
              <a:off x="2517120" y="1982880"/>
              <a:ext cx="177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 = 6 (B_SLICE)</a:t>
              </a:r>
              <a:endParaRPr b="0" lang="en-US" sz="14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60" name="TextBox 11"/>
            <p:cNvSpPr/>
            <p:nvPr/>
          </p:nvSpPr>
          <p:spPr>
            <a:xfrm>
              <a:off x="5358960" y="1982880"/>
              <a:ext cx="86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 = 7</a:t>
              </a:r>
              <a:endParaRPr b="0" lang="en-US" sz="14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61" name="TextBox 12"/>
            <p:cNvSpPr/>
            <p:nvPr/>
          </p:nvSpPr>
          <p:spPr>
            <a:xfrm>
              <a:off x="617760" y="2680560"/>
              <a:ext cx="144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ition 1</a:t>
              </a:r>
              <a:endParaRPr b="0" lang="en-US" sz="18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62" name="Rounded Rectangle 13"/>
            <p:cNvSpPr/>
            <p:nvPr/>
          </p:nvSpPr>
          <p:spPr>
            <a:xfrm>
              <a:off x="2168280" y="1863000"/>
              <a:ext cx="5288040" cy="19497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63" name="TextBox 14"/>
            <p:cNvSpPr/>
            <p:nvPr/>
          </p:nvSpPr>
          <p:spPr>
            <a:xfrm>
              <a:off x="4148280" y="148428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endent view</a:t>
              </a:r>
              <a:endParaRPr b="0" lang="en-US" sz="18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5386320" y="4632120"/>
              <a:ext cx="741240" cy="743040"/>
            </a:xfrm>
            <a:prstGeom prst="rect">
              <a:avLst/>
            </a:prstGeom>
            <a:solidFill>
              <a:srgbClr val="f1f9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Cur</a:t>
              </a:r>
              <a:endParaRPr b="0" lang="en-US" sz="16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3008160" y="4632120"/>
              <a:ext cx="742680" cy="743040"/>
            </a:xfrm>
            <a:prstGeom prst="rect">
              <a:avLst/>
            </a:prstGeom>
            <a:solidFill>
              <a:srgbClr val="cece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Col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새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PI is used</a:t>
              </a:r>
              <a:endParaRPr b="0" lang="en-US" sz="12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66" name="TextBox 17"/>
            <p:cNvSpPr/>
            <p:nvPr/>
          </p:nvSpPr>
          <p:spPr>
            <a:xfrm>
              <a:off x="2517120" y="4293720"/>
              <a:ext cx="177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 = 6 (B_SLICE)</a:t>
              </a:r>
              <a:endParaRPr b="0" lang="en-US" sz="14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67" name="TextBox 18"/>
            <p:cNvSpPr/>
            <p:nvPr/>
          </p:nvSpPr>
          <p:spPr>
            <a:xfrm>
              <a:off x="5358960" y="4293720"/>
              <a:ext cx="86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 = 7</a:t>
              </a:r>
              <a:endParaRPr b="0" lang="en-US" sz="14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68" name="TextBox 19"/>
            <p:cNvSpPr/>
            <p:nvPr/>
          </p:nvSpPr>
          <p:spPr>
            <a:xfrm>
              <a:off x="617760" y="4991400"/>
              <a:ext cx="144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ition 2</a:t>
              </a:r>
              <a:endParaRPr b="0" lang="en-US" sz="18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69" name="Rounded Rectangle 20"/>
            <p:cNvSpPr/>
            <p:nvPr/>
          </p:nvSpPr>
          <p:spPr>
            <a:xfrm>
              <a:off x="2168280" y="4174920"/>
              <a:ext cx="5288040" cy="189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70" name="TextBox 21"/>
            <p:cNvSpPr/>
            <p:nvPr/>
          </p:nvSpPr>
          <p:spPr>
            <a:xfrm>
              <a:off x="4363200" y="379512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th map</a:t>
              </a:r>
              <a:endParaRPr b="0" lang="en-US" sz="18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71" name="Rectangle 22"/>
            <p:cNvSpPr/>
            <p:nvPr/>
          </p:nvSpPr>
          <p:spPr>
            <a:xfrm>
              <a:off x="2625480" y="2236320"/>
              <a:ext cx="1555560" cy="131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72" name="Rectangle 23"/>
            <p:cNvSpPr/>
            <p:nvPr/>
          </p:nvSpPr>
          <p:spPr>
            <a:xfrm>
              <a:off x="2625480" y="4546440"/>
              <a:ext cx="1555560" cy="131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73" name="Rectangle 24"/>
            <p:cNvSpPr/>
            <p:nvPr/>
          </p:nvSpPr>
          <p:spPr>
            <a:xfrm>
              <a:off x="4979880" y="2236320"/>
              <a:ext cx="1554120" cy="131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74" name="Rectangle 25"/>
            <p:cNvSpPr/>
            <p:nvPr/>
          </p:nvSpPr>
          <p:spPr>
            <a:xfrm>
              <a:off x="4979880" y="4546440"/>
              <a:ext cx="1554120" cy="131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75" name="TextBox 26"/>
            <p:cNvSpPr/>
            <p:nvPr/>
          </p:nvSpPr>
          <p:spPr>
            <a:xfrm>
              <a:off x="5435280" y="3104280"/>
              <a:ext cx="21027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CL = {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VM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... ... }</a:t>
              </a:r>
              <a:endParaRPr b="0" lang="en-US" sz="16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76" name="TextBox 27"/>
            <p:cNvSpPr/>
            <p:nvPr/>
          </p:nvSpPr>
          <p:spPr>
            <a:xfrm>
              <a:off x="5460840" y="5382360"/>
              <a:ext cx="1956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CL = {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PI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... ... }</a:t>
              </a:r>
              <a:endParaRPr b="0" lang="en-US" sz="1600" spc="-1" strike="noStrike">
                <a:solidFill>
                  <a:srgbClr val="000000"/>
                </a:solidFill>
                <a:latin typeface="새굴림"/>
              </a:endParaRPr>
            </a:p>
          </p:txBody>
        </p:sp>
      </p:grp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The proposed flowchart 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900000" y="6365880"/>
            <a:ext cx="704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ow chart of the proposed method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</p:txBody>
      </p:sp>
      <p:grpSp>
        <p:nvGrpSpPr>
          <p:cNvPr id="79" name="Group 3"/>
          <p:cNvGrpSpPr/>
          <p:nvPr/>
        </p:nvGrpSpPr>
        <p:grpSpPr>
          <a:xfrm>
            <a:off x="611280" y="-101520"/>
            <a:ext cx="7951680" cy="6637320"/>
            <a:chOff x="611280" y="-101520"/>
            <a:chExt cx="7951680" cy="6637320"/>
          </a:xfrm>
        </p:grpSpPr>
        <p:sp>
          <p:nvSpPr>
            <p:cNvPr id="80" name="Flowchart: Decision 1"/>
            <p:cNvSpPr/>
            <p:nvPr/>
          </p:nvSpPr>
          <p:spPr>
            <a:xfrm>
              <a:off x="2157480" y="1052640"/>
              <a:ext cx="2657520" cy="5918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yerId != 0</a:t>
              </a:r>
              <a:endParaRPr b="0" lang="en-US" sz="12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81" name="Flowchart: Decision 20"/>
            <p:cNvSpPr/>
            <p:nvPr/>
          </p:nvSpPr>
          <p:spPr>
            <a:xfrm>
              <a:off x="2157480" y="2057400"/>
              <a:ext cx="2657520" cy="5936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psDepthFlag[ layerId ]</a:t>
              </a:r>
              <a:endParaRPr b="0" lang="en-US" sz="12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cxnSp>
          <p:nvCxnSpPr>
            <p:cNvPr id="82" name="Straight Arrow Connector 7"/>
            <p:cNvCxnSpPr>
              <a:stCxn id="80" idx="2"/>
              <a:endCxn id="81" idx="0"/>
            </p:cNvCxnSpPr>
            <p:nvPr/>
          </p:nvCxnSpPr>
          <p:spPr>
            <a:xfrm>
              <a:off x="3485880" y="1644480"/>
              <a:ext cx="1080" cy="41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3" name="Flowchart: Decision 31"/>
            <p:cNvSpPr/>
            <p:nvPr/>
          </p:nvSpPr>
          <p:spPr>
            <a:xfrm>
              <a:off x="1995480" y="3068640"/>
              <a:ext cx="2982960" cy="5936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pi_flag[ nuh_layer_id ] &amp;&amp; colMergType = = T &amp;&amp; T is available</a:t>
              </a:r>
              <a:endParaRPr b="0" lang="en-US" sz="12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cxnSp>
          <p:nvCxnSpPr>
            <p:cNvPr id="84" name="Straight Arrow Connector 33"/>
            <p:cNvCxnSpPr>
              <a:stCxn id="81" idx="2"/>
              <a:endCxn id="83" idx="0"/>
            </p:cNvCxnSpPr>
            <p:nvPr/>
          </p:nvCxnSpPr>
          <p:spPr>
            <a:xfrm>
              <a:off x="3485880" y="2650680"/>
              <a:ext cx="1080" cy="417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Flowchart: Decision 41"/>
            <p:cNvSpPr/>
            <p:nvPr/>
          </p:nvSpPr>
          <p:spPr>
            <a:xfrm>
              <a:off x="5092920" y="3068640"/>
              <a:ext cx="3046320" cy="5936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v_mv_pred_flag[ nuh_layer_id ] &amp;&amp; colMergType = = IvMC &amp;&amp; IvMC is available</a:t>
              </a:r>
              <a:endParaRPr b="0" lang="en-US" sz="12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86" name="TextBox 11"/>
            <p:cNvSpPr/>
            <p:nvPr/>
          </p:nvSpPr>
          <p:spPr>
            <a:xfrm>
              <a:off x="3447720" y="3678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87" name="TextBox 12"/>
            <p:cNvSpPr/>
            <p:nvPr/>
          </p:nvSpPr>
          <p:spPr>
            <a:xfrm>
              <a:off x="3447720" y="2653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88" name="TextBox 13"/>
            <p:cNvSpPr/>
            <p:nvPr/>
          </p:nvSpPr>
          <p:spPr>
            <a:xfrm>
              <a:off x="3447720" y="1648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89" name="Rectangle 72"/>
            <p:cNvSpPr/>
            <p:nvPr/>
          </p:nvSpPr>
          <p:spPr>
            <a:xfrm>
              <a:off x="1085760" y="5437440"/>
              <a:ext cx="1147680" cy="60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ode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rging index</a:t>
              </a:r>
              <a:endParaRPr b="0" lang="en-US" sz="12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90" name="Oval 73"/>
            <p:cNvSpPr/>
            <p:nvPr/>
          </p:nvSpPr>
          <p:spPr>
            <a:xfrm>
              <a:off x="3181320" y="5418360"/>
              <a:ext cx="610920" cy="641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cxnSp>
          <p:nvCxnSpPr>
            <p:cNvPr id="91" name="Elbow Connector 187"/>
            <p:cNvCxnSpPr>
              <a:stCxn id="85" idx="3"/>
              <a:endCxn id="89" idx="1"/>
            </p:cNvCxnSpPr>
            <p:nvPr/>
          </p:nvCxnSpPr>
          <p:spPr>
            <a:xfrm flipH="1">
              <a:off x="1085040" y="3365640"/>
              <a:ext cx="7054200" cy="2373840"/>
            </a:xfrm>
            <a:prstGeom prst="bentConnector5">
              <a:avLst>
                <a:gd name="adj1" fmla="val -2664"/>
                <a:gd name="adj2" fmla="val 124298"/>
                <a:gd name="adj3" fmla="val 1045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Elbow Connector 193"/>
            <p:cNvCxnSpPr>
              <a:stCxn id="81" idx="3"/>
              <a:endCxn id="85" idx="0"/>
            </p:cNvCxnSpPr>
            <p:nvPr/>
          </p:nvCxnSpPr>
          <p:spPr>
            <a:xfrm>
              <a:off x="4815000" y="2354400"/>
              <a:ext cx="1800720" cy="714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" name="Elbow Connector 242"/>
            <p:cNvCxnSpPr>
              <a:stCxn id="80" idx="1"/>
              <a:endCxn id="89" idx="0"/>
            </p:cNvCxnSpPr>
            <p:nvPr/>
          </p:nvCxnSpPr>
          <p:spPr>
            <a:xfrm flipV="1" rot="10800000">
              <a:off x="1658160" y="1347840"/>
              <a:ext cx="498960" cy="408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Elbow Connector 246"/>
            <p:cNvCxnSpPr>
              <a:stCxn id="83" idx="1"/>
              <a:endCxn id="89" idx="0"/>
            </p:cNvCxnSpPr>
            <p:nvPr/>
          </p:nvCxnSpPr>
          <p:spPr>
            <a:xfrm flipV="1" rot="10800000">
              <a:off x="1658880" y="3365640"/>
              <a:ext cx="336600" cy="2071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" name="Elbow Connector 249"/>
            <p:cNvCxnSpPr>
              <a:stCxn id="85" idx="2"/>
              <a:endCxn id="96" idx="3"/>
            </p:cNvCxnSpPr>
            <p:nvPr/>
          </p:nvCxnSpPr>
          <p:spPr>
            <a:xfrm rot="5400000">
              <a:off x="4906080" y="2814480"/>
              <a:ext cx="861120" cy="2556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" name="Straight Arrow Connector 256"/>
            <p:cNvCxnSpPr>
              <a:stCxn id="83" idx="2"/>
              <a:endCxn id="96" idx="0"/>
            </p:cNvCxnSpPr>
            <p:nvPr/>
          </p:nvCxnSpPr>
          <p:spPr>
            <a:xfrm>
              <a:off x="3485880" y="3662280"/>
              <a:ext cx="1080" cy="55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" name="TextBox 22"/>
            <p:cNvSpPr/>
            <p:nvPr/>
          </p:nvSpPr>
          <p:spPr>
            <a:xfrm>
              <a:off x="6626880" y="3678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sp>
          <p:nvSpPr>
            <p:cNvPr id="99" name="Oval 275"/>
            <p:cNvSpPr/>
            <p:nvPr/>
          </p:nvSpPr>
          <p:spPr>
            <a:xfrm>
              <a:off x="3181320" y="54000"/>
              <a:ext cx="610920" cy="639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cxnSp>
          <p:nvCxnSpPr>
            <p:cNvPr id="100" name="Straight Arrow Connector 279"/>
            <p:cNvCxnSpPr>
              <a:stCxn id="99" idx="4"/>
              <a:endCxn id="80" idx="0"/>
            </p:cNvCxnSpPr>
            <p:nvPr/>
          </p:nvCxnSpPr>
          <p:spPr>
            <a:xfrm>
              <a:off x="3485880" y="693720"/>
              <a:ext cx="1080" cy="35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Straight Arrow Connector 295"/>
            <p:cNvCxnSpPr>
              <a:stCxn id="89" idx="3"/>
              <a:endCxn id="90" idx="2"/>
            </p:cNvCxnSpPr>
            <p:nvPr/>
          </p:nvCxnSpPr>
          <p:spPr>
            <a:xfrm>
              <a:off x="2233440" y="5738760"/>
              <a:ext cx="948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" name="Rectangle 23"/>
            <p:cNvSpPr/>
            <p:nvPr/>
          </p:nvSpPr>
          <p:spPr>
            <a:xfrm>
              <a:off x="2913120" y="4221360"/>
              <a:ext cx="1145880" cy="60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t merging index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0</a:t>
              </a:r>
              <a:endParaRPr b="0" lang="en-US" sz="1200" spc="-1" strike="noStrike">
                <a:solidFill>
                  <a:srgbClr val="000000"/>
                </a:solidFill>
                <a:latin typeface="새굴림"/>
              </a:endParaRPr>
            </a:p>
          </p:txBody>
        </p:sp>
        <p:cxnSp>
          <p:nvCxnSpPr>
            <p:cNvPr id="102" name="Straight Arrow Connector 25"/>
            <p:cNvCxnSpPr>
              <a:stCxn id="96" idx="2"/>
              <a:endCxn id="90" idx="0"/>
            </p:cNvCxnSpPr>
            <p:nvPr/>
          </p:nvCxnSpPr>
          <p:spPr>
            <a:xfrm>
              <a:off x="3485880" y="4826160"/>
              <a:ext cx="1080" cy="592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Rectangle 2"/>
            <p:cNvSpPr/>
            <p:nvPr/>
          </p:nvSpPr>
          <p:spPr>
            <a:xfrm>
              <a:off x="611280" y="-101520"/>
              <a:ext cx="7951680" cy="66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새굴림"/>
              </a:endParaRPr>
            </a:p>
          </p:txBody>
        </p:sp>
      </p:grp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900000" y="6365880"/>
            <a:ext cx="704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M11.0 vs proposed method (DBBP off)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3480" y="3303720"/>
            <a:ext cx="9110520" cy="30621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122400" y="1417680"/>
            <a:ext cx="900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he proposed method is only applied to 2Nx2N PUs.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he simulation is performed without DBBP due to bug in terms of implementation.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Synthesis result is decreased(0.23%) due to the DDD candidate. 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In ACS condition, DDD is selected as the best candidate for depth coding (about 1%) .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108000" y="1484280"/>
            <a:ext cx="9001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he proposed method is only applied to 2Nx2N PUs.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In decoder side, the status of each PU in merge candidate index symbol is saved in order to be utilized for deciding merge candidate(IVMC or MPI) in the current PU.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  <a:p>
            <a:pPr marL="285840" indent="-285840">
              <a:lnSpc>
                <a:spcPct val="15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맑은 고딕"/>
              </a:rPr>
              <a:t>-0.15% coding gain in total BDR.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he benefits are the following as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It’s not necessary that Merging index is signaled. 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Operations and memory bandwidth can be reduced for parallel derivation of merging candidates.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Since the process for deriving the other candidates and MCL construction can be omitted. 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Recommend to adopt in HTM.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hank you for Samsung’s cross-checking(JCT3V-I0149)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4:49:42Z</dcterms:created>
  <dc:creator>허영수</dc:creator>
  <dc:description/>
  <dc:language>en-US</dc:language>
  <cp:lastModifiedBy>ys</cp:lastModifiedBy>
  <cp:lastPrinted>2014-06-30T05:57:35Z</cp:lastPrinted>
  <dcterms:modified xsi:type="dcterms:W3CDTF">2014-07-04T02:40:04Z</dcterms:modified>
  <cp:revision>2767</cp:revision>
  <dc:subject/>
  <dc:title>슬라이드 1</dc:title>
</cp:coreProperties>
</file>