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52E2-1F47-47FA-8B0A-60ACAFD94612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49320" y="744120"/>
            <a:ext cx="48988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34C4-12C7-400E-AAC1-1C9F25AFE1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A8A3-09DD-4E69-BC4B-16D2EA232895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0D73-3053-423D-B067-D41085AB2C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89888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Text Box 7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英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中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0-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0-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A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18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细黑体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22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3" name="Picture 11" descr="海思-修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4080" indent="-265320">
              <a:spcBef>
                <a:spcPts val="601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52560" indent="-264960">
              <a:spcBef>
                <a:spcPts val="601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382840" indent="-264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382840" indent="-264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382840" indent="-26496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3A037096-E814-4377-8A56-DE2E6FECF8E8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19877BF1-7FEE-4C76-8D0A-60454D4FB0E8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54" name="Picture 69" descr="海思-修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4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51" descr="海思-修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0"/>
          <p:cNvSpPr/>
          <p:nvPr/>
        </p:nvSpPr>
        <p:spPr>
          <a:xfrm>
            <a:off x="2239920" y="2921040"/>
            <a:ext cx="8209080" cy="174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Remove “depth_dc_flag” signalling in DMM cases</a:t>
            </a: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Xu Chen, Xiaozhen Zheng, Yongbin Lin and Jianhua Zheng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556FAF6F-3E39-4327-A101-C5A26CFB9D3C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79200" y="1623960"/>
            <a:ext cx="986508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60400" indent="-33192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华文细黑"/>
              </a:rPr>
              <a:t>Current 3D-HEVC, “depth_dc_flag” need to be signalled in both DMM and SDC DMM cases. In SDC DMM cases, “depth_dc_flag” value depends on the residual value of segments. In DMM cases, “depth_dc_flag” value depends on weather dc offset is exist or not.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华文细黑"/>
              </a:rPr>
              <a:t>where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dcOffsetAvailFlag = ( !sdc_flag[ xTb ][ yTb ]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华文细黑"/>
              </a:rPr>
              <a:t>&amp;&amp; depth_dc_flag[xTb][yTb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 )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4" name="Rectangle 39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47CC54CB-3D06-47DC-BF28-E67D46A8C9EE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360360" y="1579680"/>
            <a:ext cx="9588600" cy="5145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0" name="Rectangle 68"/>
          <p:cNvSpPr/>
          <p:nvPr/>
        </p:nvSpPr>
        <p:spPr>
          <a:xfrm>
            <a:off x="0" y="0"/>
            <a:ext cx="1052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F046C8D3-216D-4E84-A12C-C7262718E778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 Test condition: C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47920" y="2705040"/>
          <a:ext cx="7665840" cy="2763720"/>
        </p:xfrm>
        <a:graphic>
          <a:graphicData uri="http://schemas.openxmlformats.org/drawingml/2006/table">
            <a:tbl>
              <a:tblPr/>
              <a:tblGrid>
                <a:gridCol w="1123920"/>
                <a:gridCol w="755640"/>
                <a:gridCol w="757080"/>
                <a:gridCol w="755640"/>
                <a:gridCol w="755640"/>
                <a:gridCol w="757440"/>
                <a:gridCol w="755640"/>
                <a:gridCol w="668160"/>
                <a:gridCol w="668520"/>
                <a:gridCol w="668160"/>
              </a:tblGrid>
              <a:tr h="466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9.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4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1.7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9.3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.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9.3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8.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1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9.3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2.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9.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9.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8.3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3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9.6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5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1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9.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2.7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1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9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1.7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1.3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9.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1.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1.8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9.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1.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9.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.6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1.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980BE103-0833-46BD-8D58-7D4D6162D40C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 Test condition: 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47920" y="2705040"/>
          <a:ext cx="7665840" cy="2763720"/>
        </p:xfrm>
        <a:graphic>
          <a:graphicData uri="http://schemas.openxmlformats.org/drawingml/2006/table">
            <a:tbl>
              <a:tblPr/>
              <a:tblGrid>
                <a:gridCol w="1123920"/>
                <a:gridCol w="755640"/>
                <a:gridCol w="757080"/>
                <a:gridCol w="755640"/>
                <a:gridCol w="755640"/>
                <a:gridCol w="757440"/>
                <a:gridCol w="755640"/>
                <a:gridCol w="668160"/>
                <a:gridCol w="668520"/>
                <a:gridCol w="668160"/>
              </a:tblGrid>
              <a:tr h="466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3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3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5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5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6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3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3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.6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6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3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24536416-1F1E-444C-A08D-46D4875E0C93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36144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_dc_flag is removed in DMM proces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wer restrictions for SDC DMM che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wer DMM cases need to check in encoder 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2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it-saving for synthesized views on C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to be ado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2887560" y="6087960"/>
            <a:ext cx="7417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cross-check by Qualcomm 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C05B3483-76DA-492A-A9B2-A48E75934825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a7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824280" y="47214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4400" spc="-1" strike="noStrike">
              <a:solidFill>
                <a:srgbClr val="6699ff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3763800" y="2122560"/>
            <a:ext cx="3197520" cy="2442960"/>
            <a:chOff x="3763800" y="2122560"/>
            <a:chExt cx="3197520" cy="2442960"/>
          </a:xfrm>
        </p:grpSpPr>
        <p:pic>
          <p:nvPicPr>
            <p:cNvPr id="87" name="Picture 5" descr="风车"/>
            <p:cNvPicPr/>
            <p:nvPr/>
          </p:nvPicPr>
          <p:blipFill>
            <a:blip r:embed="rId1"/>
            <a:srcRect l="17909" t="40828" r="0" b="0"/>
            <a:stretch/>
          </p:blipFill>
          <p:spPr>
            <a:xfrm>
              <a:off x="3816360" y="2173320"/>
              <a:ext cx="31050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6"/>
            <p:cNvSpPr/>
            <p:nvPr/>
          </p:nvSpPr>
          <p:spPr>
            <a:xfrm>
              <a:off x="3763800" y="2122560"/>
              <a:ext cx="3197520" cy="24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spcBef>
                  <a:spcPts val="649"/>
                </a:spcBef>
                <a:buClr>
                  <a:srgbClr val="cc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89" name="Text Box 7"/>
          <p:cNvSpPr/>
          <p:nvPr/>
        </p:nvSpPr>
        <p:spPr>
          <a:xfrm>
            <a:off x="4400640" y="55134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www.hisilicon.com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c00232985</cp:lastModifiedBy>
  <dcterms:modified xsi:type="dcterms:W3CDTF">2014-07-01T06:13:40Z</dcterms:modified>
  <cp:revision>8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9)Bj+sktepairdCGqLyl2ZiwO62A4MjsHrHFbk5XxRqLAT3kV7n46YzeGaiHfFERg1GacBBHNC
BRD5C9bHjb2ltMWbTaPmzGEsyLWjFQ2/z0vij8g/zsKpHd6QoZCwQPNbrXBLgY8XFscIbDlf
Jc7+fJRvCjoFAEYg3PAoM8D3d8wxIvBRX45s1ANydHMf2ixa+/ySXCnw/ngG4jFmsg9WYQmL
7VtNv0w2YJxIZUxQOA</vt:lpwstr>
  </property>
  <property fmtid="{D5CDD505-2E9C-101B-9397-08002B2CF9AE}" pid="3" name="_ms_pID_7253431">
    <vt:lpwstr>ac2qiqRZsCxAO8b3r5j3j5TyHJ/lePmk1WSfEJcACdj0Jili6KjQyq
9vmBRFKwuqxjvGc5o2PrT4rRnfQNFJNTgrtGWbasBdetzRAcNTc3c0ORBL+i8Z1Wp68T/Up3
60ATI6zrAV/f7Vf5tbRksK0tr+OewkHImP6Kfv949rjucx74QGKf4GUnf2KCmaObJFWnXdaH
mAXutwHKYmdcwF2+TsI2ruQdA6tfxYy9QQ6Y</vt:lpwstr>
  </property>
  <property fmtid="{D5CDD505-2E9C-101B-9397-08002B2CF9AE}" pid="4" name="_ms_pID_7253431_00">
    <vt:lpwstr>_ms_pID_7253431</vt:lpwstr>
  </property>
  <property fmtid="{D5CDD505-2E9C-101B-9397-08002B2CF9AE}" pid="5" name="_ms_pID_7253432">
    <vt:lpwstr>EWwO3K69pjkvcR1B4XkoWCa6mE48ef8suqMj
hi9Ys064Cc2htWQeBHlRULYQSwShTEoU02CVI2ZqlkES2yzI89eH9yy35W+L8VL6X8mHYJHA
rpkVhH2ImVzPc7LV93JfdItEB4DeZu5vX4wan8Taqhtir9SxBCkxFKmTWB5/66k6GhMfDCXS
DGthQvx3o0nsOkITrncCaaxxeOISt93ccWUHJqLbecfWVtcVnCh8L3</vt:lpwstr>
  </property>
  <property fmtid="{D5CDD505-2E9C-101B-9397-08002B2CF9AE}" pid="6" name="_ms_pID_7253432_00">
    <vt:lpwstr>_ms_pID_7253432</vt:lpwstr>
  </property>
  <property fmtid="{D5CDD505-2E9C-101B-9397-08002B2CF9AE}" pid="7" name="_ms_pID_7253433">
    <vt:lpwstr>EDEwz25e+Gorj00/EB
1JO/RCH33HwUkxB/2LQ4vE3cdVcXv0OPYutdASdZt47FkcDsdPYwGO4wskcMSodnI7oHfpRJ
w4shJHNs50bTudPJutic/CCwGzNVoO2jhiBQVwNUeF1vZSjxNpoPq+2ntaGqt4ZGz/eVyhI2
BUktQNFLzAWRfGIbK2TVbj+cL544+6sf/FWdvZzCWyaN+2SzKMWhRRTTtT2ss99awS7uADfd</vt:lpwstr>
  </property>
  <property fmtid="{D5CDD505-2E9C-101B-9397-08002B2CF9AE}" pid="8" name="_ms_pID_7253433_00">
    <vt:lpwstr>_ms_pID_7253433</vt:lpwstr>
  </property>
  <property fmtid="{D5CDD505-2E9C-101B-9397-08002B2CF9AE}" pid="9" name="_ms_pID_7253434">
    <vt:lpwstr>
aOClOucmggBadIO//IycxPWmZH6fDehZJEV4nQ1YnNe/4YL0x/Q8xktqvN7lgiEhec7BsKHr
LRNrUX/uaNs/vNEa5YATUTmt3SfKZ/JsQjulN3gLQUfLPJvCZ+LJ9jIlzA1uOJ/p0YEA2fMl
wu31yrE9XHRibEfpe4i5AvkfvbqSB3ACHpbbuFsYC2yAaLcKuqzwiSRdwZr+dOeJ9fa0cw7A
FsGOUchTlTa8j1FL</vt:lpwstr>
  </property>
  <property fmtid="{D5CDD505-2E9C-101B-9397-08002B2CF9AE}" pid="10" name="_ms_pID_7253434_00">
    <vt:lpwstr>_ms_pID_7253434</vt:lpwstr>
  </property>
  <property fmtid="{D5CDD505-2E9C-101B-9397-08002B2CF9AE}" pid="11" name="_ms_pID_7253435">
    <vt:lpwstr>aEB5nL2jvHE28UyLVr+buZ0HiNjTQyyfA9yxuL3fQHX9qYqBvwK/hO/G
dXo2t2f2B91zFS7pnNgwe41AiVb1WMjw97IFG+usXmtnsGEHZwzC26MiuCBt9WFqOpeQ9HzF
icSjA8jOm2mLl1+bQ84OOEKvTHeVA6imnnfm1FIgAEjzMxJF5icMha8IJMzuR77WfeVXs0UD
bWhso3FYdHOo6S6JJdkfSAHFuKuDYNxP+o</vt:lpwstr>
  </property>
  <property fmtid="{D5CDD505-2E9C-101B-9397-08002B2CF9AE}" pid="12" name="_ms_pID_7253435_00">
    <vt:lpwstr>_ms_pID_7253435</vt:lpwstr>
  </property>
  <property fmtid="{D5CDD505-2E9C-101B-9397-08002B2CF9AE}" pid="13" name="_ms_pID_7253436">
    <vt:lpwstr>ZTsHu+C+yXIlPVlO4QXqGFnQkvepPatGrAKcjo
ZQsG1DM8k5MLD/iv0hltpvFdiwPhmLFFtS+Tq6BKBfu1IE/pR62yquSIfr0VMWIHBUpPXzgk
5T+FCaz4XFVSzgH0E36iw9INB2IGTuMj4JK0k5TwWC8p9Z10/fkynlitjtPORHw1A4IIwiO9
Fc8PMhwD+NvzxsLcNDtHOKY9X3kbG53FJXZG1C6fQItnnZtmoNkW</vt:lpwstr>
  </property>
  <property fmtid="{D5CDD505-2E9C-101B-9397-08002B2CF9AE}" pid="14" name="_ms_pID_7253436_00">
    <vt:lpwstr>_ms_pID_7253436</vt:lpwstr>
  </property>
  <property fmtid="{D5CDD505-2E9C-101B-9397-08002B2CF9AE}" pid="15" name="_ms_pID_7253437">
    <vt:lpwstr>VfKdnHLV1v7OmCnJHLWS
HV5kB+/zSNGX6Rcf65lyJ/PrFewyiAIJCSHWEuU2qL0r0SsEn8w32CKWmN3eUMo20ibQAaJz
x1u2AsWQ9z0BmRAR0zyGUxCcIFL5HE7P/4mwsKnNyKiNQdXA4nExHxnmBlYwX8YO7Mz8TJmf
hinie3WPF58qenoplRp93Fp3z3oAwnCBu8Is9AhkHp1bgbMYWjiNV/g4hnvoFV+chhFR4Q</vt:lpwstr>
  </property>
  <property fmtid="{D5CDD505-2E9C-101B-9397-08002B2CF9AE}" pid="16" name="_ms_pID_7253437_00">
    <vt:lpwstr>_ms_pID_7253437</vt:lpwstr>
  </property>
  <property fmtid="{D5CDD505-2E9C-101B-9397-08002B2CF9AE}" pid="17" name="_ms_pID_7253438">
    <vt:lpwstr>HZ
YhSYB1W1COT/7nvJBdg/TCjZ1k77Tmut1sZ9rWOQHytNRw8l0enw6hoAveZOcnLgJEirGg==</vt:lpwstr>
  </property>
  <property fmtid="{D5CDD505-2E9C-101B-9397-08002B2CF9AE}" pid="18" name="_ms_pID_7253438_00">
    <vt:lpwstr>_ms_pID_7253438</vt:lpwstr>
  </property>
  <property fmtid="{D5CDD505-2E9C-101B-9397-08002B2CF9AE}" pid="19" name="_ms_pID_725343_00">
    <vt:lpwstr>_ms_pID_725343</vt:lpwstr>
  </property>
  <property fmtid="{D5CDD505-2E9C-101B-9397-08002B2CF9AE}" pid="20" name="_new_ms_pID_72543">
    <vt:lpwstr>(3)x4W87j0hzKwATbrnPsNsyjcRTzPpgITjRuRzY0gexLam9yrNfOUsj8hoECLN98kBAOadJaek
FScV8cmekVifLWb7X0822xe4M30IArG94RfUJU/Rxcb0Q/y5PFsLEY+DvFIKJnLey+iqH9E3
NTl32VejipOlq/9uMsUlnGyn7/an88jYKpnSqYGtoQat5TrCYUKgiOmlMmF53p8LHJWWY4D0
1o/G+leyo8TFIzRirV</vt:lpwstr>
  </property>
  <property fmtid="{D5CDD505-2E9C-101B-9397-08002B2CF9AE}" pid="21" name="_new_ms_pID_725431">
    <vt:lpwstr>4XcwSKonN/KWyfJIqXKqRpExVd+Ct8MI2tYvuSUIofqwouHhmuUHVS
jBAcRFiCIct4HR+sU2Zt1iMuNDUPenEVGIgf+MJXrZNVbxeAhRT+waNRU0WU8TX9jlJBjhHb
hMhFrn+z+06ScNz1RmRS4ZEUlPXopSo/jarh/qgdf1r7j6GnTBFQYvNdLime10bjtux93I7U
UDzl7T4YZhNkYNN8ZewT/7l2OxfAkvWTnijd</vt:lpwstr>
  </property>
  <property fmtid="{D5CDD505-2E9C-101B-9397-08002B2CF9AE}" pid="22" name="_new_ms_pID_725431_00">
    <vt:lpwstr>_new_ms_pID_725431</vt:lpwstr>
  </property>
  <property fmtid="{D5CDD505-2E9C-101B-9397-08002B2CF9AE}" pid="23" name="_new_ms_pID_725432">
    <vt:lpwstr>O+jCxN1FT4L0LL6Ue3DKP28Uk16oovDhwB2y
+TV3i+JE9pGm0A65q6t+hBRHk5Z9p7ph91oJ8SHHcd06HGZiQwZAnUTUIE4xQADqHB2A1dWw
xtty0KgD7k1yt4qftNG/3A==</vt:lpwstr>
  </property>
  <property fmtid="{D5CDD505-2E9C-101B-9397-08002B2CF9AE}" pid="24" name="_new_ms_pID_725432_00">
    <vt:lpwstr>_new_ms_pID_725432</vt:lpwstr>
  </property>
  <property fmtid="{D5CDD505-2E9C-101B-9397-08002B2CF9AE}" pid="25" name="_new_ms_pID_72543_00">
    <vt:lpwstr>_new_ms_pID_72543</vt:lpwstr>
  </property>
  <property fmtid="{D5CDD505-2E9C-101B-9397-08002B2CF9AE}" pid="26" name="sflag">
    <vt:lpwstr>1404194204</vt:lpwstr>
  </property>
</Properties>
</file>