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7D3-3BCC-4742-9B44-B9C1C907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DEA-DEF3-4787-A44A-0CF398CC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DE8-2A21-40C1-B39F-D2D2C1AD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939-AE70-4264-96F0-1B82A0F3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C88-1391-4813-8AF5-507DB759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3F3-3DFC-4E9E-9E06-AFEA857D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3A7-871F-4D5A-A318-7DCDD8C0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250-9E06-4DD0-8951-66B470AF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4AE-7572-4017-A522-53C4C91E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27E-EE60-494E-BB59-5D1AF062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49E-A023-4DAE-9A85-BB9F95DD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063-AB99-456C-992E-9EAFE704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8D60D-4727-4BBE-A11B-ACFCCA1319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1C967-0262-4C04-9664-76417179CC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35341-7EAB-42B9-ABCC-F4936183B0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BCB0F-DECD-43CE-A2EA-CE84CD1C96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6A935-8676-4129-8747-F7D2BB5A34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879AA-71FE-4DE3-AFF4-53D14263AD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C8077-A53B-43EB-AABB-2008D610135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8DF1A-54DB-447E-B17E-3E4981DE4C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8729B-B5CF-41E1-AD29-9A41894C52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44A30-0D04-4332-BC52-46B1E54C17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E0C7C-2379-4F36-82B6-9313AE8B02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20FD3-D0DD-4705-A639-88D21BAE1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Picture 2" descr="D:\●2012\업무계획수립\과제별\슬로건 변경안\신규 Visual파일들\LGE Slogan 2012_Text_PPT용.jpg"/>
          <p:cNvPicPr/>
          <p:nvPr/>
        </p:nvPicPr>
        <p:blipFill>
          <a:blip r:embed="rId2"/>
          <a:stretch/>
        </p:blipFill>
        <p:spPr>
          <a:xfrm>
            <a:off x="272880" y="6600960"/>
            <a:ext cx="2880000" cy="160200"/>
          </a:xfrm>
          <a:prstGeom prst="rect">
            <a:avLst/>
          </a:prstGeom>
          <a:ln w="0">
            <a:noFill/>
          </a:ln>
        </p:spPr>
      </p:pic>
      <p:sp>
        <p:nvSpPr>
          <p:cNvPr id="2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3"/>
          <a:srcRect l="0" t="0" r="0" b="6299"/>
          <a:stretch/>
        </p:blipFill>
        <p:spPr>
          <a:xfrm>
            <a:off x="9064800" y="34920"/>
            <a:ext cx="76176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8185-43C0-458C-AE4D-DFED8914B8C3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Picture 2" descr="D:\●2012\업무계획수립\과제별\슬로건 변경안\신규 Visual파일들\LGE Slogan 2012_Text_PPT용.jpg"/>
          <p:cNvPicPr/>
          <p:nvPr/>
        </p:nvPicPr>
        <p:blipFill>
          <a:blip r:embed="rId2"/>
          <a:stretch/>
        </p:blipFill>
        <p:spPr>
          <a:xfrm>
            <a:off x="272880" y="6600960"/>
            <a:ext cx="2880000" cy="160200"/>
          </a:xfrm>
          <a:prstGeom prst="rect">
            <a:avLst/>
          </a:prstGeom>
          <a:ln w="0">
            <a:noFill/>
          </a:ln>
        </p:spPr>
      </p:pic>
      <p:sp>
        <p:nvSpPr>
          <p:cNvPr id="83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rcRect l="0" t="0" r="0" b="6299"/>
          <a:stretch/>
        </p:blipFill>
        <p:spPr>
          <a:xfrm>
            <a:off x="9064800" y="34920"/>
            <a:ext cx="761760" cy="46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3A51-3289-4509-B9C7-39821D41308E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560520" y="1268280"/>
            <a:ext cx="8821440" cy="173196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E2: Advanced Boundary Chain(ABC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ing for depth intra cod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JCT3V-I0118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185360" y="537840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uly 201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36"/>
          <p:cNvSpPr/>
          <p:nvPr/>
        </p:nvSpPr>
        <p:spPr>
          <a:xfrm>
            <a:off x="4601160" y="5756400"/>
            <a:ext cx="6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BAC throughput aspec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ure and depth will be likely to be processed in a parallel mann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exture coding will be the critical-path that determines throughpu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CABAC bins for depth coding estimated to be 14% of total (texture+depth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n when texture and depth are decoded in a serial mann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hain coding adds only 1% to the total number of bi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out of 14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io of context coded bins for ABC mode (%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맑은 고딕"/>
              </a:rPr>
              <a:t>bins for ABC / Total bin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Average ratio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xt co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bins for ABC : 1.2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3ACE-3CEC-47F1-9A34-7782D094114E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95440" y="4071960"/>
          <a:ext cx="8001000" cy="928800"/>
        </p:xfrm>
        <a:graphic>
          <a:graphicData uri="http://schemas.openxmlformats.org/drawingml/2006/table">
            <a:tbl>
              <a:tblPr/>
              <a:tblGrid>
                <a:gridCol w="900000"/>
                <a:gridCol w="898560"/>
                <a:gridCol w="900000"/>
                <a:gridCol w="952560"/>
                <a:gridCol w="1122480"/>
                <a:gridCol w="1191960"/>
                <a:gridCol w="898560"/>
                <a:gridCol w="1136880"/>
              </a:tblGrid>
              <a:tr h="46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News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Poznan_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Poznan_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Sh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ndo_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.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xt coded bins in size of 8x8 block for AB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rst ca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in coding with 4x4 blo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umber of edge_code can have 2N (=8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xt coded bins/pixel for a 4x4 block: 1.455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imum number of context coded bins of a 8x8 block for ABC: 93.1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B7BC-5114-42A1-B88A-A667250EDE2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2520" y="2327400"/>
          <a:ext cx="6143400" cy="2225520"/>
        </p:xfrm>
        <a:graphic>
          <a:graphicData uri="http://schemas.openxmlformats.org/drawingml/2006/table">
            <a:tbl>
              <a:tblPr/>
              <a:tblGrid>
                <a:gridCol w="2593800"/>
                <a:gridCol w="354960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tax 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um context-coded b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ge_start_s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ge_start_pos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yp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_edge_c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ge_c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6 * 8 = 17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95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직사각형 6"/>
          <p:cNvSpPr/>
          <p:nvPr/>
        </p:nvSpPr>
        <p:spPr>
          <a:xfrm>
            <a:off x="4809960" y="4572000"/>
            <a:ext cx="485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0.710 * 2 + 0.13 * 2 + 0.145 * 2 + 0.012 * 3 + 0.003 * 3 = 2.16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953400" y="2714760"/>
          <a:ext cx="2571480" cy="1857240"/>
        </p:xfrm>
        <a:graphic>
          <a:graphicData uri="http://schemas.openxmlformats.org/drawingml/2006/table">
            <a:tbl>
              <a:tblPr/>
              <a:tblGrid>
                <a:gridCol w="857160"/>
                <a:gridCol w="857160"/>
                <a:gridCol w="857160"/>
              </a:tblGrid>
              <a:tr h="398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ge_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b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92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93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7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93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5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93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1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93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0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marL="93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0.0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xt coded bins in size of 8x8 block for AB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5800" y="692280"/>
            <a:ext cx="92520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ual maximum number of context coded bins in 8x8 block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imum number of context coded bins for ABC: 4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verage number of context coded bins in 8x8 block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number of context coded bins for ABC: 17.9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A317-A360-4EA8-AF72-6377A7E4431E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95440" y="1197000"/>
          <a:ext cx="8001000" cy="874800"/>
        </p:xfrm>
        <a:graphic>
          <a:graphicData uri="http://schemas.openxmlformats.org/drawingml/2006/table">
            <a:tbl>
              <a:tblPr/>
              <a:tblGrid>
                <a:gridCol w="900000"/>
                <a:gridCol w="898560"/>
                <a:gridCol w="900000"/>
                <a:gridCol w="952560"/>
                <a:gridCol w="1122480"/>
                <a:gridCol w="1191960"/>
                <a:gridCol w="898560"/>
                <a:gridCol w="1136880"/>
              </a:tblGrid>
              <a:tr h="43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News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Poznan_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Poznan_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Sh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ndo_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95440" y="3286080"/>
          <a:ext cx="8001000" cy="928800"/>
        </p:xfrm>
        <a:graphic>
          <a:graphicData uri="http://schemas.openxmlformats.org/drawingml/2006/table">
            <a:tbl>
              <a:tblPr/>
              <a:tblGrid>
                <a:gridCol w="900000"/>
                <a:gridCol w="898560"/>
                <a:gridCol w="900000"/>
                <a:gridCol w="952560"/>
                <a:gridCol w="1122480"/>
                <a:gridCol w="1191960"/>
                <a:gridCol w="898560"/>
                <a:gridCol w="1136880"/>
              </a:tblGrid>
              <a:tr h="46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News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Poznan_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Poznan_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Sh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Undo_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7.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8.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7.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8.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7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8.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7.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맑은 고딕"/>
                        </a:rPr>
                        <a:t>17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5:44:28Z</dcterms:created>
  <dc:creator>admin</dc:creator>
  <dc:description/>
  <dc:language>en-US</dc:language>
  <cp:lastModifiedBy>junghak.nam</cp:lastModifiedBy>
  <dcterms:modified xsi:type="dcterms:W3CDTF">2014-07-07T04:01:03Z</dcterms:modified>
  <cp:revision>1831</cp:revision>
  <dc:subject/>
  <dc:title>슬라이드 1</dc:title>
</cp:coreProperties>
</file>