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78C-8FD8-40E1-BA52-E68BE1DE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3FF-441C-466B-9384-DACFDBEC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028-8C9D-47B9-B55F-501A4648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527-3A5F-4A8F-8385-6E4C3657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568-7A0B-41F2-B166-A0C99261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439-AE8C-456A-B81E-5082A69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20E-7BFF-4195-A9E1-180B487E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9A3-76B5-4BD7-9E8A-25778766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4BB-9000-4B71-BE4E-DFD371A6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A94F-B043-4550-AB6B-EDE43BE1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E7D2-4189-4F5C-B79D-83B9770C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820-F66F-4640-BF7B-32051B2E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FB8FB-C40B-4862-8470-323DFF5BA7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57BE2-D74C-40BD-BBC0-0AFE91B95D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A06E1-FC53-4664-9287-ECEC65235D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3BF55-5EBD-4375-BF19-E8250DDB33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19128-9F3E-486B-9B7D-1B4AC49402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6E2E4-7C87-4EF9-AF73-0B613262DA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65F00-5D15-4132-9AEA-6F8049B84F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6C3B8-1DB8-47E8-ABA6-FFCD8700E7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D5FF1-30F9-46CE-B4E4-DB5EDC529A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692E4-7CB9-482C-8BE3-ACEB525306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18BF1-D3C7-4657-BAF5-9989338810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94BF8-B4E9-4B33-A2C4-CEC574F50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" name="Picture 2" descr="D:\●2012\업무계획수립\과제별\슬로건 변경안\신규 Visual파일들\LGE Slogan 2012_Text_PPT용.jpg"/>
          <p:cNvPicPr/>
          <p:nvPr/>
        </p:nvPicPr>
        <p:blipFill>
          <a:blip r:embed="rId2"/>
          <a:stretch/>
        </p:blipFill>
        <p:spPr>
          <a:xfrm>
            <a:off x="272880" y="6600960"/>
            <a:ext cx="2880000" cy="160200"/>
          </a:xfrm>
          <a:prstGeom prst="rect">
            <a:avLst/>
          </a:prstGeom>
          <a:ln w="0">
            <a:noFill/>
          </a:ln>
        </p:spPr>
      </p:pic>
      <p:sp>
        <p:nvSpPr>
          <p:cNvPr id="2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3"/>
          <a:srcRect l="0" t="0" r="0" b="6299"/>
          <a:stretch/>
        </p:blipFill>
        <p:spPr>
          <a:xfrm>
            <a:off x="9064800" y="34920"/>
            <a:ext cx="76176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7083-4465-4F2D-9046-2FEA5ADF1C30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1"/>
          <p:cNvSpPr/>
          <p:nvPr/>
        </p:nvSpPr>
        <p:spPr>
          <a:xfrm>
            <a:off x="0" y="6453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" name="Picture 2" descr="D:\●2012\업무계획수립\과제별\슬로건 변경안\신규 Visual파일들\LGE Slogan 2012_Text_PPT용.jpg"/>
          <p:cNvPicPr/>
          <p:nvPr/>
        </p:nvPicPr>
        <p:blipFill>
          <a:blip r:embed="rId2"/>
          <a:stretch/>
        </p:blipFill>
        <p:spPr>
          <a:xfrm>
            <a:off x="272880" y="6600960"/>
            <a:ext cx="2880000" cy="160200"/>
          </a:xfrm>
          <a:prstGeom prst="rect">
            <a:avLst/>
          </a:prstGeom>
          <a:ln w="0">
            <a:noFill/>
          </a:ln>
        </p:spPr>
      </p:pic>
      <p:sp>
        <p:nvSpPr>
          <p:cNvPr id="83" name="Line 14"/>
          <p:cNvSpPr/>
          <p:nvPr/>
        </p:nvSpPr>
        <p:spPr>
          <a:xfrm>
            <a:off x="0" y="5349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rcRect l="0" t="0" r="0" b="6299"/>
          <a:stretch/>
        </p:blipFill>
        <p:spPr>
          <a:xfrm>
            <a:off x="9064800" y="34920"/>
            <a:ext cx="761760" cy="468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ldNum" idx="4"/>
          </p:nvPr>
        </p:nvSpPr>
        <p:spPr>
          <a:xfrm>
            <a:off x="855324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7147-3172-4E6D-968E-0EE095BFA134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그림 5" descr="백색바탕.png"/>
          <p:cNvPicPr/>
          <p:nvPr/>
        </p:nvPicPr>
        <p:blipFill>
          <a:blip r:embed="rId1"/>
          <a:stretch/>
        </p:blipFill>
        <p:spPr>
          <a:xfrm>
            <a:off x="8388360" y="6012000"/>
            <a:ext cx="1290600" cy="6458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560520" y="1268280"/>
            <a:ext cx="8821440" cy="173196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E2: Advanced Boundary Chain(ABC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ing for depth intra coding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JCT3V-I0118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185360" y="537840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uly 201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 Box 36"/>
          <p:cNvSpPr/>
          <p:nvPr/>
        </p:nvSpPr>
        <p:spPr>
          <a:xfrm>
            <a:off x="4601160" y="5756400"/>
            <a:ext cx="69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all summar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3C4F-F1BF-4B28-B973-BF8A779CA89A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352520" y="981000"/>
          <a:ext cx="7488360" cy="1656000"/>
        </p:xfrm>
        <a:graphic>
          <a:graphicData uri="http://schemas.openxmlformats.org/drawingml/2006/table">
            <a:tbl>
              <a:tblPr/>
              <a:tblGrid>
                <a:gridCol w="760320"/>
                <a:gridCol w="962280"/>
                <a:gridCol w="961920"/>
                <a:gridCol w="960480"/>
                <a:gridCol w="961920"/>
                <a:gridCol w="961920"/>
                <a:gridCol w="962280"/>
                <a:gridCol w="957240"/>
              </a:tblGrid>
              <a:tr h="222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MM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MM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B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U 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dd/S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UT ac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dd/Sub/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m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UT ac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dd/S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UT ac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gical op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4×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8,9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26,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17,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29,4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13,5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57,3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,8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×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,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5,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,5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8,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,5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8,6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,0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×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,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4,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,4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8,7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,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4,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,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2×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4,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,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8,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,7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2,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,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4×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4,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,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8,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,4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2,7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4,0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2432160" y="3141720"/>
          <a:ext cx="5040360" cy="1368360"/>
        </p:xfrm>
        <a:graphic>
          <a:graphicData uri="http://schemas.openxmlformats.org/drawingml/2006/table">
            <a:tbl>
              <a:tblPr/>
              <a:tblGrid>
                <a:gridCol w="896760"/>
                <a:gridCol w="1381320"/>
                <a:gridCol w="1380960"/>
                <a:gridCol w="1381320"/>
              </a:tblGrid>
              <a:tr h="306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U 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MM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MM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B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×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×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,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,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×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,4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,4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,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32×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9,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17,5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10,8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4×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7,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9,8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1,8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432160" y="5013360"/>
          <a:ext cx="5040360" cy="1365120"/>
        </p:xfrm>
        <a:graphic>
          <a:graphicData uri="http://schemas.openxmlformats.org/drawingml/2006/table">
            <a:tbl>
              <a:tblPr/>
              <a:tblGrid>
                <a:gridCol w="896760"/>
                <a:gridCol w="1381320"/>
                <a:gridCol w="1380960"/>
                <a:gridCol w="1381320"/>
              </a:tblGrid>
              <a:tr h="331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U s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MM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MM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B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4×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64,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90,1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69,3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×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3,7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71,6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6,6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×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8,5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7,0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0,1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2×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7,2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5,9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8,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4×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7,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5,7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7,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6" name="TextBox 7"/>
          <p:cNvSpPr/>
          <p:nvPr/>
        </p:nvSpPr>
        <p:spPr>
          <a:xfrm>
            <a:off x="2351520" y="642960"/>
            <a:ext cx="53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operations of depth intra modes for one 64×64 CTU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2416320" y="2801880"/>
            <a:ext cx="52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 requirement of depth intra modes for one 64×64 CTU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TextBox 9"/>
          <p:cNvSpPr/>
          <p:nvPr/>
        </p:nvSpPr>
        <p:spPr>
          <a:xfrm>
            <a:off x="2520000" y="4675320"/>
            <a:ext cx="48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ransfer rate of depth intra mode for one 64×64 CTU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CABAC bins for AB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D3E5-DEF5-4238-B494-5D2ED4DA13A1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20880" y="1413000"/>
          <a:ext cx="8064360" cy="1871640"/>
        </p:xfrm>
        <a:graphic>
          <a:graphicData uri="http://schemas.openxmlformats.org/drawingml/2006/table">
            <a:tbl>
              <a:tblPr/>
              <a:tblGrid>
                <a:gridCol w="895320"/>
                <a:gridCol w="896760"/>
                <a:gridCol w="895320"/>
                <a:gridCol w="897120"/>
                <a:gridCol w="895320"/>
                <a:gridCol w="896760"/>
                <a:gridCol w="895320"/>
                <a:gridCol w="897120"/>
                <a:gridCol w="895320"/>
              </a:tblGrid>
              <a:tr h="39672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do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h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8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×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4.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5.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4.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7.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6.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3.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55.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3.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×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3.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3.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3.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4.3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5.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2.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1.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3.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×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7.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7.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7.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8.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8.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7.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7.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7.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×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.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.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.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.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.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.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.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920880" y="4149720"/>
          <a:ext cx="7993080" cy="1541520"/>
        </p:xfrm>
        <a:graphic>
          <a:graphicData uri="http://schemas.openxmlformats.org/drawingml/2006/table">
            <a:tbl>
              <a:tblPr/>
              <a:tblGrid>
                <a:gridCol w="1814400"/>
                <a:gridCol w="876240"/>
                <a:gridCol w="757440"/>
                <a:gridCol w="757080"/>
                <a:gridCol w="757080"/>
                <a:gridCol w="757440"/>
                <a:gridCol w="758880"/>
                <a:gridCol w="755640"/>
                <a:gridCol w="758880"/>
              </a:tblGrid>
              <a:tr h="43812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allo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Ken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Hall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oznan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GT_f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Undo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h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5260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ABAC bins for ABC/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otal CABAC b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.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.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.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.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.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Bins for ABC/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otal b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.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.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.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.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.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TextBox 7"/>
          <p:cNvSpPr/>
          <p:nvPr/>
        </p:nvSpPr>
        <p:spPr>
          <a:xfrm>
            <a:off x="1919880" y="981000"/>
            <a:ext cx="61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bins with CABAC for ABC mode at different PU siz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3025080" y="378000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io of encoded bins for ABC mode (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st1: HTM-11.0 vs. ABC co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0AD9-7F52-43A2-AE4C-22DA6467FBDA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2023920" y="3438360"/>
            <a:ext cx="61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TM-11.0  vs. ABC coding under CTC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095560" y="6153120"/>
            <a:ext cx="61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TM-11.0 vs. ABC coding under AI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857240" y="3881520"/>
          <a:ext cx="6604200" cy="2212920"/>
        </p:xfrm>
        <a:graphic>
          <a:graphicData uri="http://schemas.openxmlformats.org/drawingml/2006/table">
            <a:tbl>
              <a:tblPr/>
              <a:tblGrid>
                <a:gridCol w="720720"/>
                <a:gridCol w="679680"/>
                <a:gridCol w="681120"/>
                <a:gridCol w="680760"/>
                <a:gridCol w="679680"/>
                <a:gridCol w="680760"/>
                <a:gridCol w="679680"/>
                <a:gridCol w="601560"/>
                <a:gridCol w="600120"/>
                <a:gridCol w="600120"/>
              </a:tblGrid>
              <a:tr h="290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7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878120" y="1197000"/>
          <a:ext cx="6603840" cy="2212920"/>
        </p:xfrm>
        <a:graphic>
          <a:graphicData uri="http://schemas.openxmlformats.org/drawingml/2006/table">
            <a:tbl>
              <a:tblPr/>
              <a:tblGrid>
                <a:gridCol w="720720"/>
                <a:gridCol w="679320"/>
                <a:gridCol w="681120"/>
                <a:gridCol w="681120"/>
                <a:gridCol w="679320"/>
                <a:gridCol w="681120"/>
                <a:gridCol w="679320"/>
                <a:gridCol w="601560"/>
                <a:gridCol w="600120"/>
                <a:gridCol w="600120"/>
              </a:tblGrid>
              <a:tr h="290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9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2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4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2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4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4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2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esul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st2: HTM-11.0 vs. ABC without CABA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5964-65E0-4687-AA17-5E3FB363CDD6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2023920" y="3510000"/>
            <a:ext cx="61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TM-11.0 vs. ABC without CABAC under CTC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2095560" y="6153120"/>
            <a:ext cx="61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HTM-11.0 vs. ABC without CABAC under AI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928880" y="3881520"/>
          <a:ext cx="6603840" cy="2212920"/>
        </p:xfrm>
        <a:graphic>
          <a:graphicData uri="http://schemas.openxmlformats.org/drawingml/2006/table">
            <a:tbl>
              <a:tblPr/>
              <a:tblGrid>
                <a:gridCol w="720720"/>
                <a:gridCol w="679320"/>
                <a:gridCol w="681120"/>
                <a:gridCol w="681120"/>
                <a:gridCol w="679320"/>
                <a:gridCol w="681120"/>
                <a:gridCol w="679320"/>
                <a:gridCol w="601920"/>
                <a:gridCol w="599760"/>
                <a:gridCol w="600120"/>
              </a:tblGrid>
              <a:tr h="290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3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9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3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0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1928880" y="1289160"/>
          <a:ext cx="6603840" cy="2212920"/>
        </p:xfrm>
        <a:graphic>
          <a:graphicData uri="http://schemas.openxmlformats.org/drawingml/2006/table">
            <a:tbl>
              <a:tblPr/>
              <a:tblGrid>
                <a:gridCol w="720720"/>
                <a:gridCol w="679320"/>
                <a:gridCol w="681120"/>
                <a:gridCol w="681120"/>
                <a:gridCol w="679320"/>
                <a:gridCol w="681120"/>
                <a:gridCol w="679320"/>
                <a:gridCol w="601920"/>
                <a:gridCol w="599760"/>
                <a:gridCol w="600120"/>
              </a:tblGrid>
              <a:tr h="290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　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video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video PSNR / total bitrat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ynth PSNR / total bitrate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n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ec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en tim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alloon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Kend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Newspaper_C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13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GT_Fl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8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Hall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7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Poznan_Stree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Undo_Dancer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4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Shark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4.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2.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24x7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8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20x108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1.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5.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ver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2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.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6.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vanced Boundary Chain (ABC) coding is propos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omprehensive complexity assessment is present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operatio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orage require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CABAC bins for AB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gnificant increment of computational complex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.3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ding gain in synthesized views both CTC and AI configurations compared to HTM-11.0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inter-component dependency in the access uni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recommend that the proposed method be adopted into 3D-HEV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E226-A653-4F7D-9CED-54DA836FC252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5800" y="692280"/>
            <a:ext cx="949032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vanced Boundary Chain (ABC) co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JCT3V-H0121, a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coding tool based on the region boundary coding was propos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arbitra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th pattern is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described by a chain co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inter-component correlation between texture and dept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lexity assessment on AB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oper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storage require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ber of CABAC bins for AB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posed methods show about 0.3% BD gain in synthesized views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72EE-C6AF-4BCF-BE42-3DA669880B94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owchart of AB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811B-64AE-4F5F-A79A-FCAABE6346E0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모서리가 둥근 직사각형 5"/>
          <p:cNvSpPr/>
          <p:nvPr/>
        </p:nvSpPr>
        <p:spPr>
          <a:xfrm>
            <a:off x="1380960" y="2714760"/>
            <a:ext cx="7429680" cy="2643120"/>
          </a:xfrm>
          <a:prstGeom prst="roundRect">
            <a:avLst>
              <a:gd name="adj" fmla="val 6694"/>
            </a:avLst>
          </a:prstGeom>
          <a:solidFill>
            <a:srgbClr val="00cc99">
              <a:alpha val="25000"/>
            </a:srgbClr>
          </a:solidFill>
          <a:ln w="12600">
            <a:solidFill>
              <a:srgbClr val="0095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1857240" y="1125360"/>
            <a:ext cx="6264360" cy="46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535120" y="1135080"/>
            <a:ext cx="1138320" cy="3776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16640" h="5296">
                <a:moveTo>
                  <a:pt x="2678" y="0"/>
                </a:moveTo>
                <a:lnTo>
                  <a:pt x="13963" y="0"/>
                </a:lnTo>
                <a:cubicBezTo>
                  <a:pt x="15442" y="0"/>
                  <a:pt x="16640" y="1186"/>
                  <a:pt x="16640" y="2648"/>
                </a:cubicBezTo>
                <a:cubicBezTo>
                  <a:pt x="16640" y="4111"/>
                  <a:pt x="15442" y="5296"/>
                  <a:pt x="13963" y="5296"/>
                </a:cubicBezTo>
                <a:lnTo>
                  <a:pt x="2678" y="5296"/>
                </a:lnTo>
                <a:cubicBezTo>
                  <a:pt x="1199" y="5296"/>
                  <a:pt x="0" y="4111"/>
                  <a:pt x="0" y="2648"/>
                </a:cubicBezTo>
                <a:cubicBezTo>
                  <a:pt x="0" y="1186"/>
                  <a:pt x="1199" y="0"/>
                  <a:pt x="2678" y="0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2974320" y="1231920"/>
            <a:ext cx="33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2021040" y="1836720"/>
            <a:ext cx="2162160" cy="4842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2198520" y="1987560"/>
            <a:ext cx="19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Determine partition patter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Freeform 14"/>
          <p:cNvSpPr/>
          <p:nvPr/>
        </p:nvSpPr>
        <p:spPr>
          <a:xfrm>
            <a:off x="4606920" y="1523880"/>
            <a:ext cx="3505320" cy="110340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1103400"/>
              <a:gd name="textAreaBottom" fmla="*/ 1103400 h 1103400"/>
            </a:gdLst>
            <a:ahLst/>
            <a:rect l="textAreaLeft" t="textAreaTop" r="textAreaRight" b="textAreaBottom"/>
            <a:pathLst>
              <a:path w="2208" h="695">
                <a:moveTo>
                  <a:pt x="0" y="695"/>
                </a:moveTo>
                <a:lnTo>
                  <a:pt x="442" y="0"/>
                </a:lnTo>
                <a:lnTo>
                  <a:pt x="2208" y="0"/>
                </a:lnTo>
                <a:lnTo>
                  <a:pt x="1767" y="695"/>
                </a:lnTo>
                <a:lnTo>
                  <a:pt x="0" y="695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5787720" y="1573200"/>
            <a:ext cx="130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Edge informati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5810400" y="1779480"/>
            <a:ext cx="10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(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Rectangle 17"/>
          <p:cNvSpPr/>
          <p:nvPr/>
        </p:nvSpPr>
        <p:spPr>
          <a:xfrm>
            <a:off x="5882400" y="1779480"/>
            <a:ext cx="111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edge_start_si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Rectangle 18"/>
          <p:cNvSpPr/>
          <p:nvPr/>
        </p:nvSpPr>
        <p:spPr>
          <a:xfrm>
            <a:off x="6930000" y="1779480"/>
            <a:ext cx="8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Rectangle 19"/>
          <p:cNvSpPr/>
          <p:nvPr/>
        </p:nvSpPr>
        <p:spPr>
          <a:xfrm>
            <a:off x="5754960" y="1984320"/>
            <a:ext cx="1289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edge_start_position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7018560" y="19843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21"/>
          <p:cNvSpPr/>
          <p:nvPr/>
        </p:nvSpPr>
        <p:spPr>
          <a:xfrm>
            <a:off x="5402520" y="2189160"/>
            <a:ext cx="124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num_edge_cod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Rectangle 22"/>
          <p:cNvSpPr/>
          <p:nvPr/>
        </p:nvSpPr>
        <p:spPr>
          <a:xfrm>
            <a:off x="6568200" y="2189160"/>
            <a:ext cx="8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6635520" y="2189160"/>
            <a:ext cx="7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edge_c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Rectangle 24"/>
          <p:cNvSpPr/>
          <p:nvPr/>
        </p:nvSpPr>
        <p:spPr>
          <a:xfrm>
            <a:off x="5718960" y="2395440"/>
            <a:ext cx="6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[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Rectangle 25"/>
          <p:cNvSpPr/>
          <p:nvPr/>
        </p:nvSpPr>
        <p:spPr>
          <a:xfrm>
            <a:off x="5773680" y="2395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5833080" y="2395440"/>
            <a:ext cx="115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um_edge_cod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6912360" y="2395440"/>
            <a:ext cx="16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] 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2021040" y="2905200"/>
            <a:ext cx="2162160" cy="4856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2377440" y="2955960"/>
            <a:ext cx="1628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Derive and assign depth 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2634120" y="3159000"/>
            <a:ext cx="104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partition valu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Freeform 31"/>
          <p:cNvSpPr/>
          <p:nvPr/>
        </p:nvSpPr>
        <p:spPr>
          <a:xfrm>
            <a:off x="4554360" y="2909880"/>
            <a:ext cx="3505320" cy="471600"/>
          </a:xfrm>
          <a:custGeom>
            <a:avLst/>
            <a:gdLst>
              <a:gd name="textAreaLeft" fmla="*/ 0 w 3505320"/>
              <a:gd name="textAreaRight" fmla="*/ 3505680 w 350532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2208" h="297">
                <a:moveTo>
                  <a:pt x="0" y="297"/>
                </a:moveTo>
                <a:lnTo>
                  <a:pt x="442" y="0"/>
                </a:lnTo>
                <a:lnTo>
                  <a:pt x="2208" y="0"/>
                </a:lnTo>
                <a:lnTo>
                  <a:pt x="1767" y="297"/>
                </a:lnTo>
                <a:lnTo>
                  <a:pt x="0" y="297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5387760" y="2952720"/>
            <a:ext cx="203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Left and above neighboring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5724720" y="3157560"/>
            <a:ext cx="128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reference sampl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2021040" y="3768840"/>
            <a:ext cx="2162160" cy="48564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35"/>
          <p:cNvSpPr/>
          <p:nvPr/>
        </p:nvSpPr>
        <p:spPr>
          <a:xfrm>
            <a:off x="2124720" y="3919680"/>
            <a:ext cx="210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Segmental depth intra cod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Freeform 36"/>
          <p:cNvSpPr/>
          <p:nvPr/>
        </p:nvSpPr>
        <p:spPr>
          <a:xfrm>
            <a:off x="1866960" y="4660920"/>
            <a:ext cx="2469960" cy="538200"/>
          </a:xfrm>
          <a:custGeom>
            <a:avLst/>
            <a:gdLst>
              <a:gd name="textAreaLeft" fmla="*/ 0 w 2469960"/>
              <a:gd name="textAreaRight" fmla="*/ 2470320 w 24699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556" h="339">
                <a:moveTo>
                  <a:pt x="0" y="339"/>
                </a:moveTo>
                <a:lnTo>
                  <a:pt x="311" y="0"/>
                </a:lnTo>
                <a:lnTo>
                  <a:pt x="1556" y="0"/>
                </a:lnTo>
                <a:lnTo>
                  <a:pt x="1245" y="339"/>
                </a:lnTo>
                <a:lnTo>
                  <a:pt x="0" y="339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2489760" y="4838760"/>
            <a:ext cx="1349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Reconstructed block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Freeform 38"/>
          <p:cNvSpPr/>
          <p:nvPr/>
        </p:nvSpPr>
        <p:spPr>
          <a:xfrm>
            <a:off x="2535120" y="5553000"/>
            <a:ext cx="1138320" cy="37620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8320" h="2640">
                <a:moveTo>
                  <a:pt x="1339" y="0"/>
                </a:moveTo>
                <a:lnTo>
                  <a:pt x="6982" y="0"/>
                </a:lnTo>
                <a:cubicBezTo>
                  <a:pt x="7721" y="0"/>
                  <a:pt x="8320" y="591"/>
                  <a:pt x="8320" y="1320"/>
                </a:cubicBezTo>
                <a:cubicBezTo>
                  <a:pt x="8320" y="2049"/>
                  <a:pt x="7721" y="2640"/>
                  <a:pt x="6982" y="2640"/>
                </a:cubicBezTo>
                <a:lnTo>
                  <a:pt x="1339" y="2640"/>
                </a:lnTo>
                <a:cubicBezTo>
                  <a:pt x="600" y="2640"/>
                  <a:pt x="0" y="2049"/>
                  <a:pt x="0" y="1320"/>
                </a:cubicBezTo>
                <a:cubicBezTo>
                  <a:pt x="0" y="591"/>
                  <a:pt x="600" y="0"/>
                  <a:pt x="1339" y="0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2998800" y="564984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3054240" y="1512720"/>
            <a:ext cx="96840" cy="322560"/>
          </a:xfrm>
          <a:custGeom>
            <a:avLst/>
            <a:gdLst>
              <a:gd name="textAreaLeft" fmla="*/ 0 w 96840"/>
              <a:gd name="textAreaRight" fmla="*/ 97200 w 968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412" h="4537">
                <a:moveTo>
                  <a:pt x="575" y="0"/>
                </a:moveTo>
                <a:lnTo>
                  <a:pt x="548" y="4234"/>
                </a:lnTo>
                <a:lnTo>
                  <a:pt x="852" y="4236"/>
                </a:lnTo>
                <a:lnTo>
                  <a:pt x="879" y="1"/>
                </a:lnTo>
                <a:lnTo>
                  <a:pt x="575" y="0"/>
                </a:lnTo>
                <a:close/>
                <a:moveTo>
                  <a:pt x="42" y="3396"/>
                </a:moveTo>
                <a:lnTo>
                  <a:pt x="698" y="4537"/>
                </a:lnTo>
                <a:lnTo>
                  <a:pt x="1369" y="3404"/>
                </a:lnTo>
                <a:cubicBezTo>
                  <a:pt x="1412" y="3332"/>
                  <a:pt x="1388" y="3239"/>
                  <a:pt x="1315" y="3196"/>
                </a:cubicBezTo>
                <a:cubicBezTo>
                  <a:pt x="1243" y="3153"/>
                  <a:pt x="1150" y="3177"/>
                  <a:pt x="1107" y="3249"/>
                </a:cubicBezTo>
                <a:lnTo>
                  <a:pt x="570" y="4158"/>
                </a:lnTo>
                <a:lnTo>
                  <a:pt x="832" y="4160"/>
                </a:lnTo>
                <a:lnTo>
                  <a:pt x="306" y="3244"/>
                </a:lnTo>
                <a:cubicBezTo>
                  <a:pt x="264" y="3172"/>
                  <a:pt x="171" y="3147"/>
                  <a:pt x="98" y="3188"/>
                </a:cubicBezTo>
                <a:cubicBezTo>
                  <a:pt x="26" y="3230"/>
                  <a:pt x="0" y="3323"/>
                  <a:pt x="42" y="3396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3052800" y="2320920"/>
            <a:ext cx="114120" cy="536760"/>
          </a:xfrm>
          <a:custGeom>
            <a:avLst/>
            <a:gdLst>
              <a:gd name="textAreaLeft" fmla="*/ 0 w 114120"/>
              <a:gd name="textAreaRight" fmla="*/ 114480 w 11412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411" h="5196">
                <a:moveTo>
                  <a:pt x="857" y="0"/>
                </a:moveTo>
                <a:lnTo>
                  <a:pt x="857" y="4894"/>
                </a:lnTo>
                <a:lnTo>
                  <a:pt x="553" y="4894"/>
                </a:lnTo>
                <a:lnTo>
                  <a:pt x="553" y="0"/>
                </a:lnTo>
                <a:lnTo>
                  <a:pt x="857" y="0"/>
                </a:lnTo>
                <a:close/>
                <a:moveTo>
                  <a:pt x="1369" y="4059"/>
                </a:moveTo>
                <a:lnTo>
                  <a:pt x="705" y="5196"/>
                </a:lnTo>
                <a:lnTo>
                  <a:pt x="42" y="4059"/>
                </a:lnTo>
                <a:cubicBezTo>
                  <a:pt x="0" y="3986"/>
                  <a:pt x="24" y="3893"/>
                  <a:pt x="97" y="3851"/>
                </a:cubicBezTo>
                <a:cubicBezTo>
                  <a:pt x="169" y="3808"/>
                  <a:pt x="262" y="3833"/>
                  <a:pt x="305" y="3905"/>
                </a:cubicBezTo>
                <a:lnTo>
                  <a:pt x="837" y="4817"/>
                </a:lnTo>
                <a:lnTo>
                  <a:pt x="574" y="4817"/>
                </a:lnTo>
                <a:lnTo>
                  <a:pt x="1106" y="3905"/>
                </a:lnTo>
                <a:cubicBezTo>
                  <a:pt x="1148" y="3833"/>
                  <a:pt x="1242" y="3808"/>
                  <a:pt x="1314" y="3851"/>
                </a:cubicBezTo>
                <a:cubicBezTo>
                  <a:pt x="1387" y="3893"/>
                  <a:pt x="1411" y="3986"/>
                  <a:pt x="1369" y="4059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4183200" y="2027160"/>
            <a:ext cx="774720" cy="101520"/>
          </a:xfrm>
          <a:custGeom>
            <a:avLst/>
            <a:gdLst>
              <a:gd name="textAreaLeft" fmla="*/ 0 w 774720"/>
              <a:gd name="textAreaRight" fmla="*/ 775080 w 7747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5665" h="706">
                <a:moveTo>
                  <a:pt x="5665" y="260"/>
                </a:moveTo>
                <a:lnTo>
                  <a:pt x="151" y="279"/>
                </a:lnTo>
                <a:lnTo>
                  <a:pt x="151" y="431"/>
                </a:lnTo>
                <a:lnTo>
                  <a:pt x="5665" y="412"/>
                </a:lnTo>
                <a:lnTo>
                  <a:pt x="5665" y="260"/>
                </a:lnTo>
                <a:close/>
                <a:moveTo>
                  <a:pt x="568" y="22"/>
                </a:moveTo>
                <a:lnTo>
                  <a:pt x="0" y="355"/>
                </a:lnTo>
                <a:lnTo>
                  <a:pt x="570" y="685"/>
                </a:lnTo>
                <a:cubicBezTo>
                  <a:pt x="606" y="706"/>
                  <a:pt x="653" y="694"/>
                  <a:pt x="674" y="657"/>
                </a:cubicBezTo>
                <a:cubicBezTo>
                  <a:pt x="695" y="621"/>
                  <a:pt x="682" y="574"/>
                  <a:pt x="646" y="553"/>
                </a:cubicBezTo>
                <a:lnTo>
                  <a:pt x="189" y="289"/>
                </a:lnTo>
                <a:lnTo>
                  <a:pt x="189" y="420"/>
                </a:lnTo>
                <a:lnTo>
                  <a:pt x="645" y="153"/>
                </a:lnTo>
                <a:cubicBezTo>
                  <a:pt x="681" y="131"/>
                  <a:pt x="693" y="85"/>
                  <a:pt x="672" y="49"/>
                </a:cubicBezTo>
                <a:cubicBezTo>
                  <a:pt x="650" y="13"/>
                  <a:pt x="604" y="0"/>
                  <a:pt x="568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4183200" y="3097080"/>
            <a:ext cx="723600" cy="101880"/>
          </a:xfrm>
          <a:custGeom>
            <a:avLst/>
            <a:gdLst>
              <a:gd name="textAreaLeft" fmla="*/ 0 w 723600"/>
              <a:gd name="textAreaRight" fmla="*/ 723960 w 72360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287" h="706">
                <a:moveTo>
                  <a:pt x="5287" y="266"/>
                </a:moveTo>
                <a:lnTo>
                  <a:pt x="151" y="278"/>
                </a:lnTo>
                <a:lnTo>
                  <a:pt x="151" y="430"/>
                </a:lnTo>
                <a:lnTo>
                  <a:pt x="5287" y="418"/>
                </a:lnTo>
                <a:lnTo>
                  <a:pt x="5287" y="266"/>
                </a:lnTo>
                <a:close/>
                <a:moveTo>
                  <a:pt x="568" y="22"/>
                </a:moveTo>
                <a:lnTo>
                  <a:pt x="0" y="354"/>
                </a:lnTo>
                <a:lnTo>
                  <a:pt x="569" y="685"/>
                </a:lnTo>
                <a:cubicBezTo>
                  <a:pt x="606" y="706"/>
                  <a:pt x="652" y="694"/>
                  <a:pt x="673" y="657"/>
                </a:cubicBezTo>
                <a:cubicBezTo>
                  <a:pt x="694" y="621"/>
                  <a:pt x="682" y="574"/>
                  <a:pt x="646" y="553"/>
                </a:cubicBezTo>
                <a:lnTo>
                  <a:pt x="189" y="288"/>
                </a:lnTo>
                <a:lnTo>
                  <a:pt x="189" y="420"/>
                </a:lnTo>
                <a:lnTo>
                  <a:pt x="645" y="153"/>
                </a:lnTo>
                <a:cubicBezTo>
                  <a:pt x="681" y="131"/>
                  <a:pt x="693" y="85"/>
                  <a:pt x="672" y="49"/>
                </a:cubicBezTo>
                <a:cubicBezTo>
                  <a:pt x="651" y="12"/>
                  <a:pt x="604" y="0"/>
                  <a:pt x="568" y="2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3052800" y="3390840"/>
            <a:ext cx="96840" cy="378000"/>
          </a:xfrm>
          <a:custGeom>
            <a:avLst/>
            <a:gdLst>
              <a:gd name="textAreaLeft" fmla="*/ 0 w 96840"/>
              <a:gd name="textAreaRight" fmla="*/ 97200 w 968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705" h="2656">
                <a:moveTo>
                  <a:pt x="428" y="0"/>
                </a:moveTo>
                <a:lnTo>
                  <a:pt x="428" y="2505"/>
                </a:lnTo>
                <a:lnTo>
                  <a:pt x="276" y="2505"/>
                </a:lnTo>
                <a:lnTo>
                  <a:pt x="276" y="0"/>
                </a:lnTo>
                <a:lnTo>
                  <a:pt x="428" y="0"/>
                </a:lnTo>
                <a:close/>
                <a:moveTo>
                  <a:pt x="684" y="2088"/>
                </a:moveTo>
                <a:lnTo>
                  <a:pt x="352" y="2656"/>
                </a:lnTo>
                <a:lnTo>
                  <a:pt x="21" y="2088"/>
                </a:lnTo>
                <a:cubicBezTo>
                  <a:pt x="0" y="2051"/>
                  <a:pt x="12" y="2005"/>
                  <a:pt x="48" y="1984"/>
                </a:cubicBezTo>
                <a:cubicBezTo>
                  <a:pt x="84" y="1962"/>
                  <a:pt x="131" y="1975"/>
                  <a:pt x="152" y="2011"/>
                </a:cubicBezTo>
                <a:lnTo>
                  <a:pt x="418" y="2467"/>
                </a:lnTo>
                <a:lnTo>
                  <a:pt x="287" y="2467"/>
                </a:lnTo>
                <a:lnTo>
                  <a:pt x="553" y="2011"/>
                </a:lnTo>
                <a:cubicBezTo>
                  <a:pt x="574" y="1975"/>
                  <a:pt x="621" y="1962"/>
                  <a:pt x="657" y="1984"/>
                </a:cubicBezTo>
                <a:cubicBezTo>
                  <a:pt x="693" y="2005"/>
                  <a:pt x="705" y="2051"/>
                  <a:pt x="684" y="208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3052800" y="4254480"/>
            <a:ext cx="96840" cy="406440"/>
          </a:xfrm>
          <a:custGeom>
            <a:avLst/>
            <a:gdLst>
              <a:gd name="textAreaLeft" fmla="*/ 0 w 96840"/>
              <a:gd name="textAreaRight" fmla="*/ 97200 w 968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705" h="2851">
                <a:moveTo>
                  <a:pt x="428" y="0"/>
                </a:moveTo>
                <a:lnTo>
                  <a:pt x="428" y="2700"/>
                </a:lnTo>
                <a:lnTo>
                  <a:pt x="276" y="2700"/>
                </a:lnTo>
                <a:lnTo>
                  <a:pt x="276" y="0"/>
                </a:lnTo>
                <a:lnTo>
                  <a:pt x="428" y="0"/>
                </a:lnTo>
                <a:close/>
                <a:moveTo>
                  <a:pt x="684" y="2282"/>
                </a:moveTo>
                <a:lnTo>
                  <a:pt x="352" y="2851"/>
                </a:lnTo>
                <a:lnTo>
                  <a:pt x="21" y="2282"/>
                </a:lnTo>
                <a:cubicBezTo>
                  <a:pt x="0" y="2246"/>
                  <a:pt x="12" y="2199"/>
                  <a:pt x="48" y="2178"/>
                </a:cubicBezTo>
                <a:cubicBezTo>
                  <a:pt x="84" y="2157"/>
                  <a:pt x="131" y="2169"/>
                  <a:pt x="152" y="2206"/>
                </a:cubicBezTo>
                <a:lnTo>
                  <a:pt x="418" y="2662"/>
                </a:lnTo>
                <a:lnTo>
                  <a:pt x="287" y="2662"/>
                </a:lnTo>
                <a:lnTo>
                  <a:pt x="553" y="2206"/>
                </a:lnTo>
                <a:cubicBezTo>
                  <a:pt x="574" y="2169"/>
                  <a:pt x="621" y="2157"/>
                  <a:pt x="657" y="2178"/>
                </a:cubicBezTo>
                <a:cubicBezTo>
                  <a:pt x="693" y="2199"/>
                  <a:pt x="705" y="2246"/>
                  <a:pt x="684" y="2282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Freeform 46"/>
          <p:cNvSpPr/>
          <p:nvPr/>
        </p:nvSpPr>
        <p:spPr>
          <a:xfrm>
            <a:off x="3056040" y="5199120"/>
            <a:ext cx="96840" cy="353880"/>
          </a:xfrm>
          <a:custGeom>
            <a:avLst/>
            <a:gdLst>
              <a:gd name="textAreaLeft" fmla="*/ 0 w 96840"/>
              <a:gd name="textAreaRight" fmla="*/ 97200 w 96840"/>
              <a:gd name="textAreaTop" fmla="*/ 0 h 353880"/>
              <a:gd name="textAreaBottom" fmla="*/ 353880 h 353880"/>
            </a:gdLst>
            <a:ahLst/>
            <a:rect l="textAreaLeft" t="textAreaTop" r="textAreaRight" b="textAreaBottom"/>
            <a:pathLst>
              <a:path w="706" h="2482">
                <a:moveTo>
                  <a:pt x="414" y="0"/>
                </a:moveTo>
                <a:lnTo>
                  <a:pt x="432" y="2331"/>
                </a:lnTo>
                <a:lnTo>
                  <a:pt x="280" y="2332"/>
                </a:lnTo>
                <a:lnTo>
                  <a:pt x="262" y="1"/>
                </a:lnTo>
                <a:lnTo>
                  <a:pt x="414" y="0"/>
                </a:lnTo>
                <a:close/>
                <a:moveTo>
                  <a:pt x="685" y="1911"/>
                </a:moveTo>
                <a:lnTo>
                  <a:pt x="357" y="2482"/>
                </a:lnTo>
                <a:lnTo>
                  <a:pt x="21" y="1916"/>
                </a:lnTo>
                <a:cubicBezTo>
                  <a:pt x="0" y="1880"/>
                  <a:pt x="12" y="1833"/>
                  <a:pt x="48" y="1812"/>
                </a:cubicBezTo>
                <a:cubicBezTo>
                  <a:pt x="84" y="1791"/>
                  <a:pt x="131" y="1802"/>
                  <a:pt x="152" y="1839"/>
                </a:cubicBezTo>
                <a:lnTo>
                  <a:pt x="422" y="2292"/>
                </a:lnTo>
                <a:lnTo>
                  <a:pt x="290" y="2293"/>
                </a:lnTo>
                <a:lnTo>
                  <a:pt x="553" y="1835"/>
                </a:lnTo>
                <a:cubicBezTo>
                  <a:pt x="574" y="1799"/>
                  <a:pt x="620" y="1786"/>
                  <a:pt x="657" y="1807"/>
                </a:cubicBezTo>
                <a:cubicBezTo>
                  <a:pt x="693" y="1828"/>
                  <a:pt x="706" y="1875"/>
                  <a:pt x="685" y="1911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45"/>
          <p:cNvSpPr/>
          <p:nvPr/>
        </p:nvSpPr>
        <p:spPr>
          <a:xfrm>
            <a:off x="6534720" y="485784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as DMM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직사각형 46"/>
          <p:cNvSpPr/>
          <p:nvPr/>
        </p:nvSpPr>
        <p:spPr>
          <a:xfrm>
            <a:off x="1546200" y="192888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직사각형 47"/>
          <p:cNvSpPr/>
          <p:nvPr/>
        </p:nvSpPr>
        <p:spPr>
          <a:xfrm>
            <a:off x="1546200" y="29289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직사각형 48"/>
          <p:cNvSpPr/>
          <p:nvPr/>
        </p:nvSpPr>
        <p:spPr>
          <a:xfrm>
            <a:off x="1546200" y="37861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직사각형 49"/>
          <p:cNvSpPr/>
          <p:nvPr/>
        </p:nvSpPr>
        <p:spPr>
          <a:xfrm>
            <a:off x="1523880" y="4643280"/>
            <a:ext cx="4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oper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partition patter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/Sub: smaller than DMM4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cal operation: Only 1 NOT gat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T access: Can present small logic gates in the implementation issu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ep ① is a part of the whole stag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②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nd assign depth value for different partition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s/subtractions (the same as DMM4)*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3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T access (the same as DMM4)*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gmental depth intra co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ditions (the same as DMM4)*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T access (the same as DMM4)*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E3D2-3C03-4803-9451-8A78042A2751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4"/>
          <p:cNvSpPr/>
          <p:nvPr/>
        </p:nvSpPr>
        <p:spPr>
          <a:xfrm>
            <a:off x="8165880" y="607212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JCT3V-H012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23840" y="1285920"/>
          <a:ext cx="7500960" cy="150012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MM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/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N+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ical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T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N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14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" name="모서리가 둥근 직사각형 8"/>
          <p:cNvSpPr/>
          <p:nvPr/>
        </p:nvSpPr>
        <p:spPr>
          <a:xfrm>
            <a:off x="380880" y="4417920"/>
            <a:ext cx="7429680" cy="1928880"/>
          </a:xfrm>
          <a:prstGeom prst="roundRect">
            <a:avLst>
              <a:gd name="adj" fmla="val 6694"/>
            </a:avLst>
          </a:prstGeom>
          <a:solidFill>
            <a:srgbClr val="00cc99">
              <a:alpha val="25000"/>
            </a:srgbClr>
          </a:solidFill>
          <a:ln w="12600">
            <a:solidFill>
              <a:srgbClr val="0095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oper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 partition patter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ge codes parsing proc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255E-9485-4A83-99A8-AFE1343D18A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969840" y="1528920"/>
            <a:ext cx="8086680" cy="46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0 &lt;= i &lt;= num_edge_codes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(i == num_edge_code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( (cury == 0, and PrevEdgeIdx == 1) or (cury == N-1, and PrevEdgeIdx == 0) 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curx == 0, and PrevEdgeIdx == 2) or (curx == N-1, and PrevEdgeIdx == 3) 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rEdgeCode = 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wise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rEdgeCode = 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therwise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rEdgeCode = edge_code[i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bsoluteEdgeIdx     =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AbsoluteEdgeIdxTabl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PrevEdgeIdx][CurEdgeCode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dgePatternIncIdx_x =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EdgePatternIncIdxTabl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AbsoluteEdgeIdx][0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dgePatternIncIdx_y =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EdgePatternIncIdxTabl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AbsoluteEdgeIdx][1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dgeMark            =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EdgeMarkingTabl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PrevEdgeIdx][CurEdgeCode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(EdgeMark &amp; 0x1 == 1)       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vertEdg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curx-1][cury] = 1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(EdgeMark &amp; 0x2 == 1, and curx == 0)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horizEdg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cury-1] =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(EdgeMark &amp; 0x4 == 1)       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vertEdg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curx][cury] =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f(EdgeMark &amp; 0x8 == 1, and curx == 0)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Courier New"/>
              </a:rPr>
              <a:t>horizEdgeInfo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cury] = 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rx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  <a:ea typeface="Courier New"/>
              </a:rPr>
              <a:t>+=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dgePatternIncIdx_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ury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  <a:ea typeface="Courier New"/>
              </a:rPr>
              <a:t>+=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dgePatternIncIdx_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evEdgeIdx = AbsoluteEdgeId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3957120" y="154764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+1 times in worst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oper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15800" y="691920"/>
            <a:ext cx="8994960" cy="58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 partition patter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ion filling proc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additions: 4N+2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worst case, the addition operation is repeated 2N+1 tim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logical operations: 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– 1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N-1) + N × (N-1) = 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mber of LUT access: 3N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+ 14N + 5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soluteEdgeIdxTable : 2N+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dgePatternIncIdxTable : 2N+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dgeMarkingTable : 2N+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ertEdgeInfo: 2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+ 2N + 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rizEdgeInfo: 6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27920" indent="-280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itionPattern : N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5EE5-5EA7-4A14-B5C8-414691CCE94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969840" y="1413000"/>
            <a:ext cx="8086680" cy="246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PartitionIdx = 0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0 &lt;= y &lt; N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ionIdx = startPartitionIdx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f(y &lt; N-1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f(</a:t>
            </a:r>
            <a:r>
              <a:rPr b="1" lang="en-US" sz="1100" spc="-1" strike="noStrike">
                <a:solidFill>
                  <a:srgbClr val="ff0000"/>
                </a:solidFill>
                <a:latin typeface="Courier New"/>
                <a:ea typeface="Courier New"/>
              </a:rPr>
              <a:t>horizEdgeInfo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[y] == 1)   startPartitionIdx = </a:t>
            </a:r>
            <a:r>
              <a:rPr b="1" lang="en-US" sz="1200" spc="-1" strike="noStrike">
                <a:solidFill>
                  <a:srgbClr val="009973"/>
                </a:solidFill>
                <a:latin typeface="Courier New"/>
                <a:ea typeface="Courier New"/>
              </a:rPr>
              <a:t>!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PartitionIdx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0 &lt;= x &lt; N: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100" spc="-1" strike="noStrike">
                <a:solidFill>
                  <a:srgbClr val="ff0000"/>
                </a:solidFill>
                <a:latin typeface="Courier New"/>
                <a:ea typeface="Courier New"/>
              </a:rPr>
              <a:t>partitionPattern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[x][y] = partitionIdx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f(x &lt; N-1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If(</a:t>
            </a:r>
            <a:r>
              <a:rPr b="1" lang="en-US" sz="1100" spc="-1" strike="noStrike">
                <a:solidFill>
                  <a:srgbClr val="ff0000"/>
                </a:solidFill>
                <a:latin typeface="Courier New"/>
                <a:ea typeface="Courier New"/>
              </a:rPr>
              <a:t>vertEdgeInfo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[x][y] == 1)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ionIdx = </a:t>
            </a:r>
            <a:r>
              <a:rPr b="1" lang="en-US" sz="1200" spc="-1" strike="noStrike">
                <a:solidFill>
                  <a:srgbClr val="009973"/>
                </a:solidFill>
                <a:latin typeface="Courier New"/>
                <a:ea typeface="Courier New"/>
              </a:rPr>
              <a:t>!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ionIdx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5389920" y="1989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tim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5415840" y="2843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opera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mber of operations of one PU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C031-8A85-4363-B67B-7DB780B5D3F2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95440" y="1500120"/>
          <a:ext cx="8569080" cy="3230640"/>
        </p:xfrm>
        <a:graphic>
          <a:graphicData uri="http://schemas.openxmlformats.org/drawingml/2006/table">
            <a:tbl>
              <a:tblPr/>
              <a:tblGrid>
                <a:gridCol w="1819080"/>
                <a:gridCol w="917640"/>
                <a:gridCol w="1104840"/>
                <a:gridCol w="1198800"/>
                <a:gridCol w="1223640"/>
                <a:gridCol w="1368720"/>
                <a:gridCol w="936360"/>
              </a:tblGrid>
              <a:tr h="292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o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dd/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UT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gical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operation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No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37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termine partition patte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N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14N +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-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rive and assign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pth partition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+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+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+3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+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egmental depth intr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o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BC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DC 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4N +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4N +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14N +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14N +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-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DC 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4N +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4N +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14N +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14N +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-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모서리가 둥근 직사각형 7"/>
          <p:cNvSpPr/>
          <p:nvPr/>
        </p:nvSpPr>
        <p:spPr>
          <a:xfrm>
            <a:off x="452520" y="3929040"/>
            <a:ext cx="8929440" cy="1928880"/>
          </a:xfrm>
          <a:prstGeom prst="roundRect">
            <a:avLst>
              <a:gd name="adj" fmla="val 6694"/>
            </a:avLst>
          </a:prstGeom>
          <a:solidFill>
            <a:srgbClr val="00cc99">
              <a:alpha val="25000"/>
            </a:srgbClr>
          </a:solidFill>
          <a:ln w="12600">
            <a:solidFill>
              <a:srgbClr val="00956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95440" y="4929120"/>
          <a:ext cx="8569080" cy="714600"/>
        </p:xfrm>
        <a:graphic>
          <a:graphicData uri="http://schemas.openxmlformats.org/drawingml/2006/table">
            <a:tbl>
              <a:tblPr/>
              <a:tblGrid>
                <a:gridCol w="1819080"/>
                <a:gridCol w="917640"/>
                <a:gridCol w="1104840"/>
                <a:gridCol w="1198800"/>
                <a:gridCol w="1223640"/>
                <a:gridCol w="1368720"/>
                <a:gridCol w="936360"/>
              </a:tblGrid>
              <a:tr h="3571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MM4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DC 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7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DC 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5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/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직사각형 9"/>
          <p:cNvSpPr/>
          <p:nvPr/>
        </p:nvSpPr>
        <p:spPr>
          <a:xfrm>
            <a:off x="628560" y="5929200"/>
            <a:ext cx="69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all complexity of the proposed ABC is comparable with DMM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storage requireme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B339-BCE3-483B-940D-42A861EB42D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76160" y="1773360"/>
          <a:ext cx="4103640" cy="4032000"/>
        </p:xfrm>
        <a:graphic>
          <a:graphicData uri="http://schemas.openxmlformats.org/drawingml/2006/table">
            <a:tbl>
              <a:tblPr/>
              <a:tblGrid>
                <a:gridCol w="2040120"/>
                <a:gridCol w="2063520"/>
              </a:tblGrid>
              <a:tr h="28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ber of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3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dge_start_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dge_start_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_edge_co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2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dge_co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x 2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ur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N)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cu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N)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evEdge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bsoluteEdgeIdx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dgePatternIncIdx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dgeMarking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vertEdge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- 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horizEdgeIn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 -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startPartition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artitionId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 + 6N + lo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2N)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+ 3log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N) + 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952960" y="1266840"/>
          <a:ext cx="3384720" cy="2087640"/>
        </p:xfrm>
        <a:graphic>
          <a:graphicData uri="http://schemas.openxmlformats.org/drawingml/2006/table">
            <a:tbl>
              <a:tblPr/>
              <a:tblGrid>
                <a:gridCol w="841680"/>
                <a:gridCol w="2543040"/>
              </a:tblGrid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U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otal b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 ×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 ×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 ×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2 ×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,5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4 ×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,8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직사각형 7"/>
          <p:cNvSpPr/>
          <p:nvPr/>
        </p:nvSpPr>
        <p:spPr>
          <a:xfrm>
            <a:off x="5628240" y="857160"/>
            <a:ext cx="398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expression of storage requiremen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직사각형 8"/>
          <p:cNvSpPr/>
          <p:nvPr/>
        </p:nvSpPr>
        <p:spPr>
          <a:xfrm>
            <a:off x="776520" y="1197000"/>
            <a:ext cx="415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ebraic expressions of storage requirement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직사각형 7"/>
          <p:cNvSpPr/>
          <p:nvPr/>
        </p:nvSpPr>
        <p:spPr>
          <a:xfrm>
            <a:off x="5689440" y="3457440"/>
            <a:ext cx="398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expression of storage requiremen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egmental depth intra coding 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952960" y="4100400"/>
          <a:ext cx="3384720" cy="2087640"/>
        </p:xfrm>
        <a:graphic>
          <a:graphicData uri="http://schemas.openxmlformats.org/drawingml/2006/table">
            <a:tbl>
              <a:tblPr/>
              <a:tblGrid>
                <a:gridCol w="841680"/>
                <a:gridCol w="2543040"/>
              </a:tblGrid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U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otal b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 ×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56 + 371 = 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 ×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88 + 447 = 1,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 ×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416 + 691 = 3,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2 ×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328 + 1559 = 10,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4 ×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7072 + 4827 = 41,8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5440" y="58680"/>
            <a:ext cx="86281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er r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15800" y="692280"/>
            <a:ext cx="899496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슬라이드 번호 개체 틀 3"/>
          <p:cNvSpPr/>
          <p:nvPr/>
        </p:nvSpPr>
        <p:spPr>
          <a:xfrm>
            <a:off x="8553600" y="6453360"/>
            <a:ext cx="8571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FC18-88A5-4EF6-AB0D-C99D8F885C30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776160" y="1773360"/>
          <a:ext cx="4103640" cy="2305080"/>
        </p:xfrm>
        <a:graphic>
          <a:graphicData uri="http://schemas.openxmlformats.org/drawingml/2006/table">
            <a:tbl>
              <a:tblPr/>
              <a:tblGrid>
                <a:gridCol w="2040120"/>
                <a:gridCol w="2063520"/>
              </a:tblGrid>
              <a:tr h="40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ber of b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dge_start_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dge_start_pos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num_edge_c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2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dge_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 x 2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N + lo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2N) +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log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(N) +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직사각형 7"/>
          <p:cNvSpPr/>
          <p:nvPr/>
        </p:nvSpPr>
        <p:spPr>
          <a:xfrm>
            <a:off x="777240" y="1197000"/>
            <a:ext cx="38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ebraic expressions of data transfer r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952960" y="1266840"/>
          <a:ext cx="3384720" cy="2087640"/>
        </p:xfrm>
        <a:graphic>
          <a:graphicData uri="http://schemas.openxmlformats.org/drawingml/2006/table">
            <a:tbl>
              <a:tblPr/>
              <a:tblGrid>
                <a:gridCol w="841680"/>
                <a:gridCol w="2543040"/>
              </a:tblGrid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U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otal b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 ×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 ×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 ×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2 ×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4 ×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직사각형 7"/>
          <p:cNvSpPr/>
          <p:nvPr/>
        </p:nvSpPr>
        <p:spPr>
          <a:xfrm>
            <a:off x="5832000" y="857160"/>
            <a:ext cx="37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expression of data transfer r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7"/>
          <p:cNvSpPr/>
          <p:nvPr/>
        </p:nvSpPr>
        <p:spPr>
          <a:xfrm>
            <a:off x="5690880" y="3457440"/>
            <a:ext cx="382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 expression of data transfer rat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egmental depth intra coding 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952960" y="4100400"/>
          <a:ext cx="3384720" cy="2087640"/>
        </p:xfrm>
        <a:graphic>
          <a:graphicData uri="http://schemas.openxmlformats.org/drawingml/2006/table">
            <a:tbl>
              <a:tblPr/>
              <a:tblGrid>
                <a:gridCol w="841680"/>
                <a:gridCol w="2543040"/>
              </a:tblGrid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U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Total b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4 ×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40 + 31 = 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8 ×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72 + 57 = 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6 ×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400 + 107 = 2,5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2 × 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9312 + 205 = 9,5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64 × 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7056 + 399 = 37,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05:44:28Z</dcterms:created>
  <dc:creator>admin</dc:creator>
  <dc:description/>
  <dc:language>en-US</dc:language>
  <cp:lastModifiedBy>junghak.nam</cp:lastModifiedBy>
  <dcterms:modified xsi:type="dcterms:W3CDTF">2014-07-03T04:03:15Z</dcterms:modified>
  <cp:revision>1815</cp:revision>
  <dc:subject/>
  <dc:title>슬라이드 1</dc:title>
</cp:coreProperties>
</file>