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7E3-F165-4E54-B9D5-A1FAA70D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FB9-2167-4EDB-ACAB-52E1359E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77D-434B-43BE-972F-961EC6D0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4ED-265D-46D9-A7C1-A5442034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6F1-6A75-462A-8080-7F2278D6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C35-6644-49DA-A177-72BD2748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FB3-518A-47C2-998B-A3264968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5D4-2EE9-41DD-86BD-9FF0D50D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501-4EAF-4245-8A78-A33DBC63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E9C-76CB-4FBE-B7FE-7F8F63C7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C25-54B6-475D-9C26-BF75E000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E0A-B601-49F8-80C0-D3B3AB42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E077B-CDE6-4F54-B4FA-9F503267F7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53D90-7984-4FFC-956E-AF8EA760DD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E0AA4-7551-4498-AAA2-A791122B46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FB523-BE5F-4917-8B60-86AE5C2347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2D433-C326-49DF-BE1C-4B106090A3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C4CEE-242E-42A5-A56F-8C2C8735BD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72504-7292-478E-99E5-9918F55A7A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28F63-DDAF-4E50-8EAC-0CF2D4F267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D6100-0437-471A-BD8A-5CFD88EAD1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1A990-84F7-4767-8538-C021E8C7A1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72479-C8D3-4566-A49A-86B36525D3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0DAB2-8F07-4679-8DB9-4AA7CC8B1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F0B6-874D-451F-9209-EE481ADAAE05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4"/>
          </p:nvPr>
        </p:nvSpPr>
        <p:spPr>
          <a:xfrm>
            <a:off x="855324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9E6D-6C20-4886-8518-AB237FC06798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그림 5" descr="백색바탕.png"/>
          <p:cNvPicPr/>
          <p:nvPr/>
        </p:nvPicPr>
        <p:blipFill>
          <a:blip r:embed="rId1"/>
          <a:stretch/>
        </p:blipFill>
        <p:spPr>
          <a:xfrm>
            <a:off x="8388360" y="6012000"/>
            <a:ext cx="1290600" cy="645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330120" y="1268280"/>
            <a:ext cx="9250560" cy="129708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CE2 related: Reduction of the number of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intra prediction modes for depth cod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(JCT3V-I0117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176000" y="537840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July 201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3913200" y="575640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LG Electronic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0" y="3714840"/>
            <a:ext cx="990612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Jin Heo (jin78.heo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JungHak Nam (junghak.nam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Sehoon Yea (sehoon.yea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15800" y="691920"/>
            <a:ext cx="918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3D-HTM intra co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35 intra prediction modes for both texture and depth intra cod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 of conventional intra co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characteristics of texture and depth video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th video: 1) little variation within a block 2) simple or smooth regio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 intra prediction modes are unnecessarily expensive for depth intra cod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metho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 the number of conventional intra prediction modes for depth intra cod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ssche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0179 (by NT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11 intra prediction modes for depth intra co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849240" y="2013120"/>
            <a:ext cx="3816360" cy="347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5425920" y="1854360"/>
            <a:ext cx="3775320" cy="36352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4"/>
          <p:cNvSpPr/>
          <p:nvPr/>
        </p:nvSpPr>
        <p:spPr>
          <a:xfrm>
            <a:off x="776160" y="5516640"/>
            <a:ext cx="38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lt;Conventional 35 intra prediction modes for depth 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36"/>
          <p:cNvSpPr/>
          <p:nvPr/>
        </p:nvSpPr>
        <p:spPr>
          <a:xfrm>
            <a:off x="5457960" y="551664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lt;Proposed 11 intra prediction modes for depth 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오른쪽 화살표 7"/>
          <p:cNvSpPr/>
          <p:nvPr/>
        </p:nvSpPr>
        <p:spPr>
          <a:xfrm>
            <a:off x="4556160" y="3429000"/>
            <a:ext cx="792000" cy="863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T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1332000" y="3852720"/>
            <a:ext cx="7243560" cy="2443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1328760" y="1090440"/>
            <a:ext cx="72439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metho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 the number of intra prediction modes for depth intra coding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% and -0.2% coding gains under common test condition (CTC) and all-intra configuration (AI), respectively with negligible encoding/decoding complex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5:44:28Z</dcterms:created>
  <dc:creator>admin</dc:creator>
  <dc:description/>
  <dc:language>en-US</dc:language>
  <cp:lastModifiedBy>(3D07/JCT3V-A0070)</cp:lastModifiedBy>
  <dcterms:modified xsi:type="dcterms:W3CDTF">2014-07-03T07:29:08Z</dcterms:modified>
  <cp:revision>2771</cp:revision>
  <dc:subject/>
  <dc:title>슬라이드 1</dc:title>
</cp:coreProperties>
</file>