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529888" cy="8002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C3E2-C54F-4ED2-9487-94B2896F691C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49320" y="744120"/>
            <a:ext cx="48988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7948-1492-4D1D-BD0E-2325036B82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0891-560F-49FF-BFA8-9077B675782E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24E9-7559-4572-B8AD-C8CC1E145D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89888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0888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90560" y="176832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2720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0888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90560" y="4427640"/>
            <a:ext cx="30297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27200" y="39240"/>
            <a:ext cx="9410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49400" y="442764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49400" y="1768320"/>
            <a:ext cx="459216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7200" y="4427640"/>
            <a:ext cx="9410400" cy="242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9"/>
          <p:cNvGraphicFramePr/>
          <p:nvPr/>
        </p:nvGraphicFramePr>
        <p:xfrm>
          <a:off x="800280" y="7569360"/>
          <a:ext cx="1800000" cy="1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280" y="7569360"/>
                    <a:ext cx="180000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Text Box 7"/>
          <p:cNvSpPr/>
          <p:nvPr/>
        </p:nvSpPr>
        <p:spPr>
          <a:xfrm>
            <a:off x="-2224080" y="0"/>
            <a:ext cx="2095560" cy="87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英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封面中文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40-47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反白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Arial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0-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英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Ar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18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标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黑体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35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 R153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中文内页正文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字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细黑体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大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22-24pt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颜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:R0 G0 B0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3" name="Picture 11" descr="海思-修"/>
          <p:cNvPicPr/>
          <p:nvPr/>
        </p:nvPicPr>
        <p:blipFill>
          <a:blip r:embed="rId4"/>
          <a:stretch/>
        </p:blipFill>
        <p:spPr>
          <a:xfrm>
            <a:off x="8504280" y="7481880"/>
            <a:ext cx="1728720" cy="35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7200" y="1768320"/>
            <a:ext cx="94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4080" indent="-265320">
              <a:spcBef>
                <a:spcPts val="601"/>
              </a:spcBef>
              <a:buClr>
                <a:srgbClr val="808080"/>
              </a:buClr>
              <a:buSzPct val="12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52560" indent="-264960">
              <a:spcBef>
                <a:spcPts val="601"/>
              </a:spcBef>
              <a:buClr>
                <a:srgbClr val="3333ff"/>
              </a:buClr>
              <a:buFont typeface="Wingdings" charset="2"/>
              <a:buChar char="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2840" indent="-264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2840" indent="-264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2840" indent="-26496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3D2BF7C7-8E3F-47C2-88B1-D773D5225243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0" y="133668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0" y="7313760"/>
            <a:ext cx="10528200" cy="7128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333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327C643B-D05A-4A0B-BB00-CE9955EE336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3" name="Rectangle 39"/>
          <p:cNvSpPr/>
          <p:nvPr/>
        </p:nvSpPr>
        <p:spPr>
          <a:xfrm>
            <a:off x="0" y="0"/>
            <a:ext cx="1052820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54" name="Picture 69" descr="海思-修"/>
          <p:cNvPicPr/>
          <p:nvPr/>
        </p:nvPicPr>
        <p:blipFill>
          <a:blip r:embed="rId1"/>
          <a:stretch/>
        </p:blipFill>
        <p:spPr>
          <a:xfrm>
            <a:off x="0" y="0"/>
            <a:ext cx="10528200" cy="79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Object 14"/>
          <p:cNvGraphicFramePr/>
          <p:nvPr/>
        </p:nvGraphicFramePr>
        <p:xfrm>
          <a:off x="655560" y="7313760"/>
          <a:ext cx="2448000" cy="14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7313760"/>
                    <a:ext cx="2448000" cy="1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51" descr="海思-修"/>
          <p:cNvPicPr/>
          <p:nvPr/>
        </p:nvPicPr>
        <p:blipFill>
          <a:blip r:embed="rId4"/>
          <a:stretch/>
        </p:blipFill>
        <p:spPr>
          <a:xfrm>
            <a:off x="7856640" y="7169040"/>
            <a:ext cx="1985760" cy="411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0"/>
          <p:cNvSpPr/>
          <p:nvPr/>
        </p:nvSpPr>
        <p:spPr>
          <a:xfrm>
            <a:off x="2023920" y="3137040"/>
            <a:ext cx="8064720" cy="16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216000" bIns="21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ication of partition derivation in DBBP</a:t>
            </a: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200" spc="-1" strike="noStrike">
              <a:solidFill>
                <a:srgbClr val="6699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e Zhu, Yuhua Zhang, Yongbing Lin, Jianhua Zheng and Jianjun Song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59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A0207B46-7914-4E48-83A7-6BBFF2A088EA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535200" y="30639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Thank you!</a:t>
            </a:r>
            <a:endParaRPr b="0" lang="en-US" sz="44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040280" y="40719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www.hisilicon.com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6840" y="1768320"/>
            <a:ext cx="92170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urrent 3D-HEVC, DBBP partition derivation process is implemented with high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k pattern gen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tion matching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#1: using default partition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ly remove the existing partition derivatio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.01% loss for synthesized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#2: simpl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tion derivation by comparing mask values of 2 corner poi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.01% gain for synthesized 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spcBef>
                <a:spcPts val="550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Samsung for cross-checking report (JCT3V-I01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B3ED16D4-7939-4950-84CC-8AAA69CF386D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694D3A4F-ECC8-45AC-8BF7-BFB10DE8E0F0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47600" y="1407960"/>
            <a:ext cx="9864720" cy="59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depth-based block partitioning (DBBP)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Arial"/>
                <a:ea typeface="华文细黑"/>
              </a:rPr>
              <a:t>virtual depth derivation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CA" sz="2400" spc="-1" strike="noStrike">
                <a:solidFill>
                  <a:srgbClr val="ff3300"/>
                </a:solidFill>
                <a:latin typeface="Arial"/>
                <a:ea typeface="华文细黑"/>
              </a:rPr>
              <a:t>partitioning derivation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Arial"/>
                <a:ea typeface="华文细黑"/>
              </a:rPr>
              <a:t>segment mask generation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Arial"/>
                <a:ea typeface="华文细黑"/>
              </a:rPr>
              <a:t>bi-segment compensation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Arial"/>
                <a:ea typeface="华文细黑"/>
              </a:rPr>
              <a:t>merging of prediction signals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DA03D5DB-1621-4F6C-9D8D-84B28C7B9EE4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79200" y="1623960"/>
            <a:ext cx="98650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The partitioning derivation proces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华文细黑"/>
              </a:rPr>
              <a:t>Two steps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-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华文细黑"/>
              </a:rPr>
              <a:t>Calculate the threshold by the mean value of top-left pixels of all the 4x4 sub-blocks in the derived virtual depth block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-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华文细黑"/>
              </a:rPr>
              <a:t>4x4 block-wise segmentation map is derived by using the calculated threshold in the first step, and then matched filtering is performed to derive the best matching PU partition mode     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535200" y="2271600"/>
            <a:ext cx="21355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5981579A-CC01-4A6E-87D8-8C494E6A9D6F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7200" y="3924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79200" y="1623960"/>
            <a:ext cx="986508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The problem in partitioning derivation process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Arial"/>
                <a:ea typeface="华文细黑"/>
              </a:rPr>
              <a:t>high complexity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-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1800" spc="-1" strike="noStrike">
                <a:solidFill>
                  <a:srgbClr val="00b050"/>
                </a:solidFill>
                <a:latin typeface="Arial"/>
                <a:ea typeface="华文细黑"/>
              </a:rPr>
              <a:t>it needs to perform mask pattern generation and to search the most matched partition mode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日期占位符 5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D01BF22A-26EC-4B86-8569-4B39754A6393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12520" y="112320"/>
            <a:ext cx="9410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oposed method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79200" y="1623960"/>
            <a:ext cx="98650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Method #1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华文细黑"/>
              </a:rPr>
              <a:t>Use default partition mode for DBBP, i.e. 2NxN or Nx2N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-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华文细黑"/>
              </a:rPr>
              <a:t>The DBBP partition derivation process can be totally removed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细黑"/>
              </a:rPr>
              <a:t>Method #2</a:t>
            </a: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华文细黑"/>
              </a:rPr>
              <a:t>Using the calculated segment mask to derive partition mode for DBBP</a:t>
            </a:r>
            <a:endParaRPr b="0" lang="en-US" sz="20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-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华文细黑"/>
              </a:rPr>
              <a:t>If Mask1 is equal to Mask2, 2NxN is selected, otherwise, Nx2N will be selected.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  <a:p>
            <a:pPr lvl="1" marL="860400" indent="-331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</a:t>
            </a:r>
            <a:endParaRPr b="0" lang="en-US" sz="2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0"/>
            <a:ext cx="1052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45360" bIns="-45360" anchor="ctr">
            <a:spAutoFit/>
          </a:bodyPr>
          <a:p>
            <a:pPr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99ff"/>
              </a:solidFill>
              <a:latin typeface="Arial"/>
            </a:endParaRPr>
          </a:p>
        </p:txBody>
      </p:sp>
      <p:pic>
        <p:nvPicPr>
          <p:cNvPr id="81" name="Picture 63" descr=""/>
          <p:cNvPicPr/>
          <p:nvPr/>
        </p:nvPicPr>
        <p:blipFill>
          <a:blip r:embed="rId1"/>
          <a:stretch/>
        </p:blipFill>
        <p:spPr>
          <a:xfrm>
            <a:off x="3392640" y="4000680"/>
            <a:ext cx="262872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B6B97641-A56C-4C83-8FD0-4D647948E319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27200" y="11088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est result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26840" y="1479240"/>
            <a:ext cx="9217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.0 Test condition: CT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thod #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03200" y="2200320"/>
          <a:ext cx="7561440" cy="2325600"/>
        </p:xfrm>
        <a:graphic>
          <a:graphicData uri="http://schemas.openxmlformats.org/drawingml/2006/table">
            <a:tbl>
              <a:tblPr/>
              <a:tblGrid>
                <a:gridCol w="828720"/>
                <a:gridCol w="777960"/>
                <a:gridCol w="776160"/>
                <a:gridCol w="777960"/>
                <a:gridCol w="776160"/>
                <a:gridCol w="777960"/>
                <a:gridCol w="777960"/>
                <a:gridCol w="689040"/>
                <a:gridCol w="690480"/>
                <a:gridCol w="689040"/>
              </a:tblGrid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69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4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6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2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7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4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2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7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12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3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7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0.07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0.0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100.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102.7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105.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1160640" y="1836720"/>
            <a:ext cx="554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NxN</a:t>
            </a: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 as default partition mode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303200" y="4869000"/>
          <a:ext cx="7561440" cy="2325600"/>
        </p:xfrm>
        <a:graphic>
          <a:graphicData uri="http://schemas.openxmlformats.org/drawingml/2006/table">
            <a:tbl>
              <a:tblPr/>
              <a:tblGrid>
                <a:gridCol w="828720"/>
                <a:gridCol w="777960"/>
                <a:gridCol w="776160"/>
                <a:gridCol w="777960"/>
                <a:gridCol w="776160"/>
                <a:gridCol w="777960"/>
                <a:gridCol w="777960"/>
                <a:gridCol w="689040"/>
                <a:gridCol w="690480"/>
                <a:gridCol w="689040"/>
              </a:tblGrid>
              <a:tr h="40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69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4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6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2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1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3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2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8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1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7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1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 Math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-0.03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5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00.6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99.8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Box 8"/>
          <p:cNvSpPr/>
          <p:nvPr/>
        </p:nvSpPr>
        <p:spPr>
          <a:xfrm>
            <a:off x="1160640" y="4505400"/>
            <a:ext cx="554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x2N</a:t>
            </a: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 as default partition mode</a:t>
            </a:r>
            <a:endParaRPr b="0" lang="en-US" sz="1800" spc="-1" strike="noStrike">
              <a:solidFill>
                <a:srgbClr val="669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D8472FC1-FA54-46A6-8546-293D78845F8C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7200" y="11088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est result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6840" y="1695600"/>
            <a:ext cx="9217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11.0 Test condition: CTC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ethod #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2487600"/>
          <a:ext cx="7561080" cy="2819520"/>
        </p:xfrm>
        <a:graphic>
          <a:graphicData uri="http://schemas.openxmlformats.org/drawingml/2006/table">
            <a:tbl>
              <a:tblPr/>
              <a:tblGrid>
                <a:gridCol w="828720"/>
                <a:gridCol w="777600"/>
                <a:gridCol w="776520"/>
                <a:gridCol w="777600"/>
                <a:gridCol w="776520"/>
                <a:gridCol w="777960"/>
                <a:gridCol w="777600"/>
                <a:gridCol w="689040"/>
                <a:gridCol w="690480"/>
                <a:gridCol w="689040"/>
              </a:tblGrid>
              <a:tr h="50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　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video 0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video 1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video 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video PSNR / video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video PSNR / total bitrat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synth PSNR / total bitrate 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en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dec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ren time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214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Balloons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3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2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Kendo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9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Newspaper_CC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8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GT_Fly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1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1.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1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0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Poznan_Hall2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3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7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Poznan_Street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8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2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Undo_Dancer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5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2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Shark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14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9.7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8.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24x76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5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1.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920x1088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9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9.6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3%</a:t>
                      </a:r>
                      <a:endParaRPr b="0" lang="en-US" sz="9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2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9.9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100.6%</a:t>
                      </a:r>
                      <a:endParaRPr b="0" lang="en-US" sz="1200" spc="-1" strike="noStrike">
                        <a:solidFill>
                          <a:srgbClr val="6699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3"/>
          <p:cNvSpPr/>
          <p:nvPr/>
        </p:nvSpPr>
        <p:spPr>
          <a:xfrm>
            <a:off x="5048280" y="7467480"/>
            <a:ext cx="1233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EEEC8CAA-BA53-4679-ABE3-CED6084D4DFF}" type="slidenum">
              <a:rPr b="0" lang="de-DE" sz="12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6699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7200" y="110880"/>
            <a:ext cx="9410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7200" y="1768320"/>
            <a:ext cx="9361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ethods are proposed to reduce the complexity of DBBP partitioning deriv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#1: using default partition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ly remove the DBBP partition derivatio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#2: simplification on partition deriv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tion derivation by comparing mask value of corner 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10000"/>
              <a:buFont typeface="Wingdings" charset="2"/>
              <a:buChar char="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 adoption of method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31920">
              <a:spcBef>
                <a:spcPts val="550"/>
              </a:spcBef>
              <a:buClr>
                <a:srgbClr val="cc0000"/>
              </a:buClr>
              <a:buFont typeface="Wingdings" charset="2"/>
              <a:buChar char="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mplest solution with no coding efficiency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8:10:34Z</dcterms:created>
  <dc:creator>guopeng</dc:creator>
  <dc:description/>
  <dc:language>en-US</dc:language>
  <cp:lastModifiedBy>LocalAccount</cp:lastModifiedBy>
  <dcterms:modified xsi:type="dcterms:W3CDTF">2014-07-02T00:49:07Z</dcterms:modified>
  <cp:revision>8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s_pID_725343">
    <vt:lpwstr>(9)Bj+sktepairdCGqLyl2ZiwO62A4MjsHrHFbk5XxRqLAT3kV7n46YzeGaiHfFERg1GacBBHNC
BRD5C9bHjb2ltMWbTaPmzGEsyLWjFQ2/z0vij8g/zsKpHd6QoZCwQPNbrXBLgY8XFscIbDlf
Jc7+fJRvCjoFAEYg3PAoM8D3d8wxIvBRX45s1ANydHMf2ixa+/ySXCnw/ngG4jFmsg9WYQmL
7VtNv0w2YJxIZUxQOA</vt:lpwstr>
  </property>
  <property fmtid="{D5CDD505-2E9C-101B-9397-08002B2CF9AE}" pid="3" name="_ms_pID_7253431">
    <vt:lpwstr>ac2qiqRZsCxAO8b3r5j3j5TyHJ/lePmk1WSfEJcACdj0Jili6KjQyq
9vmBRFKwuqxjvGc5o2PrT4rRnfQNFJNTgrtGWbasBdetzRAcNTc3c0ORBL+i8Z1Wp68T/Up3
60ATI6zrAV/f7Vf5tbRksK0tr+OewkHImP6Kfv949rjucx74QGKf4GUnf2KCmaObJFWnXdaH
mAXutwHKYmdcwF2+TsI2ruQdA6tfxYy9QQ6Y</vt:lpwstr>
  </property>
  <property fmtid="{D5CDD505-2E9C-101B-9397-08002B2CF9AE}" pid="4" name="_ms_pID_7253431_00">
    <vt:lpwstr>_ms_pID_7253431</vt:lpwstr>
  </property>
  <property fmtid="{D5CDD505-2E9C-101B-9397-08002B2CF9AE}" pid="5" name="_ms_pID_7253432">
    <vt:lpwstr>EWwO3K69pjkvcR1B4XkoWCa6mE48ef8suqMj
hi9Ys064Cc2htWQeBHlRULYQSwShTEoU02CVI2ZqlkES2yzI89eH9yy35W+L8VL6X8mHYJHA
rpkVhH2ImVzPc7LV93JfdItEB4DeZu5vX4wan8Taqhtir9SxBCkxFKmTWB5/66k6GhMfDCXS
DGthQvx3o0nsOkITrncCaaxxeOISt93ccWUHJqLbecfWVtcVnCh8L3</vt:lpwstr>
  </property>
  <property fmtid="{D5CDD505-2E9C-101B-9397-08002B2CF9AE}" pid="6" name="_ms_pID_7253432_00">
    <vt:lpwstr>_ms_pID_7253432</vt:lpwstr>
  </property>
  <property fmtid="{D5CDD505-2E9C-101B-9397-08002B2CF9AE}" pid="7" name="_ms_pID_7253433">
    <vt:lpwstr>EDEwz25e+Gorj00/EB
1JO/RCH33HwUkxB/2LQ4vE3cdVcXv0OPYutdASdZt47FkcDsdPYwGO4wskcMSodnI7oHfpRJ
w4shJHNs50bTudPJutic/CCwGzNVoO2jhiBQVwNUeF1vZSjxNpoPq+2ntaGqt4ZGz/eVyhI2
BUktQNFLzAWRfGIbK2TVbj+cL544+6sf/FWdvZzCWyaN+2SzKMWhRRTTtT2ss99awS7uADfd</vt:lpwstr>
  </property>
  <property fmtid="{D5CDD505-2E9C-101B-9397-08002B2CF9AE}" pid="8" name="_ms_pID_7253433_00">
    <vt:lpwstr>_ms_pID_7253433</vt:lpwstr>
  </property>
  <property fmtid="{D5CDD505-2E9C-101B-9397-08002B2CF9AE}" pid="9" name="_ms_pID_7253434">
    <vt:lpwstr>
aOClOucmggBadIO//IycxPWmZH6fDehZJEV4nQ1YnNe/4YL0x/Q8xktqvN7lgiEhec7BsKHr
LRNrUX/uaNs/vNEa5YATUTmt3SfKZ/JsQjulN3gLQUfLPJvCZ+LJ9jIlzA1uOJ/p0YEA2fMl
wu31yrE9XHRibEfpe4i5AvkfvbqSB3ACHpbbuFsYC2yAaLcKuqzwiSRdwZr+dOeJ9fa0cw7A
FsGOUchTlTa8j1FL</vt:lpwstr>
  </property>
  <property fmtid="{D5CDD505-2E9C-101B-9397-08002B2CF9AE}" pid="10" name="_ms_pID_7253434_00">
    <vt:lpwstr>_ms_pID_7253434</vt:lpwstr>
  </property>
  <property fmtid="{D5CDD505-2E9C-101B-9397-08002B2CF9AE}" pid="11" name="_ms_pID_7253435">
    <vt:lpwstr>aEB5nL2jvHE28UyLVr+buZ0HiNjTQyyfA9yxuL3fQHX9qYqBvwK/hO/G
dXo2t2f2B91zFS7pnNgwe41AiVb1WMjw97IFG+usXmtnsGEHZwzC26MiuCBt9WFqOpeQ9HzF
icSjA8jOm2mLl1+bQ84OOEKvTHeVA6imnnfm1FIgAEjzMxJF5icMha8IJMzuR77WfeVXs0UD
bWhso3FYdHOo6S6JJdkfSAHFuKuDYNxP+o</vt:lpwstr>
  </property>
  <property fmtid="{D5CDD505-2E9C-101B-9397-08002B2CF9AE}" pid="12" name="_ms_pID_7253435_00">
    <vt:lpwstr>_ms_pID_7253435</vt:lpwstr>
  </property>
  <property fmtid="{D5CDD505-2E9C-101B-9397-08002B2CF9AE}" pid="13" name="_ms_pID_7253436">
    <vt:lpwstr>ZTsHu+C+yXIlPVlO4QXqGFnQkvepPatGrAKcjo
ZQsG1DM8k5MLD/iv0hltpvFdiwPhmLFFtS+Tq6BKBfu1IE/pR62yquSIfr0VMWIHBUpPXzgk
5T+FCaz4XFVSzgH0E36iw9INB2IGTuMj4JK0k5TwWC8p9Z10/fkynlitjtPORHw1A4IIwiO9
Fc8PMhwD+NvzxsLcNDtHOKY9X3kbG53FJXZG1C6fQItnnZtmoNkW</vt:lpwstr>
  </property>
  <property fmtid="{D5CDD505-2E9C-101B-9397-08002B2CF9AE}" pid="14" name="_ms_pID_7253436_00">
    <vt:lpwstr>_ms_pID_7253436</vt:lpwstr>
  </property>
  <property fmtid="{D5CDD505-2E9C-101B-9397-08002B2CF9AE}" pid="15" name="_ms_pID_7253437">
    <vt:lpwstr>VfKdnHLV1v7OmCnJHLWS
HV5kB+/zSNGX6Rcf65lyJ/PrFewyiAIJCSHWEuU2qL0r0SsEn8w32CKWmN3eUMo20ibQAaJz
x1u2AsWQ9z0BmRAR0zyGUxCcIFL5HE7P/4mwsKnNyKiNQdXA4nExHxnmBlYwX8YO7Mz8TJmf
hinie3WPF58qenoplRp93Fp3z3oAwnCBu8Is9AhkHp1bgbMYWjiNV/g4hnvoFV+chhFR4Q</vt:lpwstr>
  </property>
  <property fmtid="{D5CDD505-2E9C-101B-9397-08002B2CF9AE}" pid="16" name="_ms_pID_7253437_00">
    <vt:lpwstr>_ms_pID_7253437</vt:lpwstr>
  </property>
  <property fmtid="{D5CDD505-2E9C-101B-9397-08002B2CF9AE}" pid="17" name="_ms_pID_7253438">
    <vt:lpwstr>HZ
YhSYB1W1COT/7nvJBdg/TCjZ1k77Tmut1sZ9rWOQHytNRw8l0enw6hoAveZOcnLgJEirGg==</vt:lpwstr>
  </property>
  <property fmtid="{D5CDD505-2E9C-101B-9397-08002B2CF9AE}" pid="18" name="_ms_pID_7253438_00">
    <vt:lpwstr>_ms_pID_7253438</vt:lpwstr>
  </property>
  <property fmtid="{D5CDD505-2E9C-101B-9397-08002B2CF9AE}" pid="19" name="_ms_pID_725343_00">
    <vt:lpwstr>_ms_pID_725343</vt:lpwstr>
  </property>
  <property fmtid="{D5CDD505-2E9C-101B-9397-08002B2CF9AE}" pid="20" name="_new_ms_pID_72543">
    <vt:lpwstr>(3)Idj34ikGVETIlQHmLposU/gmJF7WnxFMKr9WxKFkZZy8SaCYYBi9DIuzXlRnDDNISeMDlNkV
6KiwZgvCndBcu57IsSlvLR6JR0W+PZ5FQZfQrmvQzOjfKcOJB2kYJ64Ix6jxrsoBiIMN0GdY
5kflv0hvhVMGrtkGSe6jCFUmc9ZlBEajFtVoZsmi16bSpKS/rQvB9sCkqlTNYBXHjZ4aMVpx
Bx3ymLbnsaE8OtMbCJ</vt:lpwstr>
  </property>
  <property fmtid="{D5CDD505-2E9C-101B-9397-08002B2CF9AE}" pid="21" name="_new_ms_pID_725431">
    <vt:lpwstr>CniEB+RQlnm2rn6t05tW73S2vurC2mSR7In7EIu+dv41Q227PoEHex
GpP22C9ksIOR3GTwblVlnbwx5U4ufXex8BSlTMTVXWhw9q9B4XlPUZ+av9SwUj4oxC+U3e9Q
FkIv4eapaUoy2izudOPPNlydjhcMr5/LuWNWUZRb13MHgULbElE17BESbSYqceoWqb9quJKu
qMA237v757aPOP2FEsaLM48TNUlDqLyC+uO8</vt:lpwstr>
  </property>
  <property fmtid="{D5CDD505-2E9C-101B-9397-08002B2CF9AE}" pid="22" name="_new_ms_pID_725431_00">
    <vt:lpwstr>_new_ms_pID_725431</vt:lpwstr>
  </property>
  <property fmtid="{D5CDD505-2E9C-101B-9397-08002B2CF9AE}" pid="23" name="_new_ms_pID_725432">
    <vt:lpwstr>efLbu2nrX9H+RntiGExhj/ODhyCODOFysZ9X
usGqHVdsJukBp0wuXFX7maAgHprCPWZtWKaNx8vHdupNOswJLwucgWsBrNE/7/7AQX7i85Os
ur6WGli389xyk3zF3PHQLw==</vt:lpwstr>
  </property>
  <property fmtid="{D5CDD505-2E9C-101B-9397-08002B2CF9AE}" pid="24" name="_new_ms_pID_725432_00">
    <vt:lpwstr>_new_ms_pID_725432</vt:lpwstr>
  </property>
  <property fmtid="{D5CDD505-2E9C-101B-9397-08002B2CF9AE}" pid="25" name="_new_ms_pID_72543_00">
    <vt:lpwstr>_new_ms_pID_72543</vt:lpwstr>
  </property>
  <property fmtid="{D5CDD505-2E9C-101B-9397-08002B2CF9AE}" pid="26" name="sflag">
    <vt:lpwstr>1404261976</vt:lpwstr>
  </property>
</Properties>
</file>