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5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712440" y="745920"/>
            <a:ext cx="53816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7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4FB4-74C4-4052-8B3F-039402D563E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C06D-3B76-4905-901A-D3612F117FC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28D-71BF-4AA2-86C4-330E586D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880-6820-4940-AF48-493323DC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457-AC37-4D67-855B-CE50772E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970-AFB7-43AC-8DD2-5AAD8AF1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B52-9EE9-4756-93DC-EA036FF4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F7D-97F0-4205-B275-E31DB700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BD0-5E60-4DBD-818B-7AA4F5B1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F0A-F2C9-4CE0-BA4B-4065B597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F10-3838-490F-BE62-BEBCEB1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365-2D34-48B9-9247-0DCEC748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8D4-E7A7-4417-B653-5B903F78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1A7-6612-4EF9-BE1C-DF2B3CAF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703AF-551A-4742-9EFF-41416C5660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0C911-51C7-4F44-9B85-061D2CE488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805FE-431D-40D3-A9A1-941F0FDEBB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1A89A-645F-4346-B19B-956E1DB55A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7FD28-435A-4D61-BB77-50815FABF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BB9AB-B15C-44E5-89FB-7B96736C89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C8E66-4DB1-431F-B3AC-19373ECC9F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C7857-4262-44CB-B611-F6876F28CD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420D2-0529-4E0B-9170-2AA8027352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59459-EE7D-447F-B24E-ABEE9BB397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6AA6C-E44A-4CD0-9CBA-0DE3C81F00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A8C65-1B3F-48F6-B1A4-5B88BD6E3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Picture 2" descr="D:\●2012\업무계획수립\과제별\슬로건 변경안\신규 Visual파일들\LGE Slogan 2012_Text_PPT용.jpg"/>
          <p:cNvPicPr/>
          <p:nvPr/>
        </p:nvPicPr>
        <p:blipFill>
          <a:blip r:embed="rId2"/>
          <a:stretch/>
        </p:blipFill>
        <p:spPr>
          <a:xfrm>
            <a:off x="272880" y="6600960"/>
            <a:ext cx="2880000" cy="160200"/>
          </a:xfrm>
          <a:prstGeom prst="rect">
            <a:avLst/>
          </a:prstGeom>
          <a:ln w="0">
            <a:noFill/>
          </a:ln>
        </p:spPr>
      </p:pic>
      <p:sp>
        <p:nvSpPr>
          <p:cNvPr id="2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3"/>
          <a:srcRect l="0" t="0" r="0" b="6299"/>
          <a:stretch/>
        </p:blipFill>
        <p:spPr>
          <a:xfrm>
            <a:off x="9064800" y="34920"/>
            <a:ext cx="76176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270C-5E03-477B-91E1-B83FFAE6CE2C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Picture 2" descr="D:\●2012\업무계획수립\과제별\슬로건 변경안\신규 Visual파일들\LGE Slogan 2012_Text_PPT용.jpg"/>
          <p:cNvPicPr/>
          <p:nvPr/>
        </p:nvPicPr>
        <p:blipFill>
          <a:blip r:embed="rId2"/>
          <a:stretch/>
        </p:blipFill>
        <p:spPr>
          <a:xfrm>
            <a:off x="272880" y="6600960"/>
            <a:ext cx="2880000" cy="160200"/>
          </a:xfrm>
          <a:prstGeom prst="rect">
            <a:avLst/>
          </a:prstGeom>
          <a:ln w="0">
            <a:noFill/>
          </a:ln>
        </p:spPr>
      </p:pic>
      <p:sp>
        <p:nvSpPr>
          <p:cNvPr id="83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rcRect l="0" t="0" r="0" b="6299"/>
          <a:stretch/>
        </p:blipFill>
        <p:spPr>
          <a:xfrm>
            <a:off x="9064800" y="34920"/>
            <a:ext cx="761760" cy="46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C803-0197-41E4-8352-FC089847BCAA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560520" y="1268280"/>
            <a:ext cx="8821440" cy="173196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dvanced Boundary Chain(ABC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ing for depth intra cod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JCT3V-H0121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143600" y="537840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r. 201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4601160" y="5756400"/>
            <a:ext cx="6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ontribution is follow up of JCT3V-G009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ced Boundary Chain (ABC) cod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ll described even a curved depth patter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ved the inter-component correlation between texture and dept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tional segmentation case (from right to bottom sid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posed methods show about 0.3% coding gain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 synthesized views, ABC coding provides 0.28% and 0.3% coding gains under CTC and AI configurations, respectively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F75A-9BE3-4968-A802-1987F580EF3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5400" y="713880"/>
            <a:ext cx="8994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rrange chain c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xt model is applied to syntax elem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tional segmentation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onventional method covers cases start from above or left sid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ed method can cover the case of segmentation from right s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D195-2797-41AD-B902-D6EE3C9ACA91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70"/>
          <p:cNvGrpSpPr/>
          <p:nvPr/>
        </p:nvGrpSpPr>
        <p:grpSpPr>
          <a:xfrm>
            <a:off x="3237480" y="4078440"/>
            <a:ext cx="858240" cy="857520"/>
            <a:chOff x="3237480" y="4078440"/>
            <a:chExt cx="858240" cy="857520"/>
          </a:xfrm>
        </p:grpSpPr>
        <p:sp>
          <p:nvSpPr>
            <p:cNvPr id="142" name="직사각형 4"/>
            <p:cNvSpPr/>
            <p:nvPr/>
          </p:nvSpPr>
          <p:spPr>
            <a:xfrm>
              <a:off x="3238560" y="4078440"/>
              <a:ext cx="857160" cy="85716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3" name="꺾인 연결선 10"/>
            <p:cNvCxnSpPr>
              <a:stCxn id="142" idx="1"/>
              <a:endCxn id="142" idx="2"/>
            </p:cNvCxnSpPr>
            <p:nvPr/>
          </p:nvCxnSpPr>
          <p:spPr>
            <a:xfrm>
              <a:off x="3237480" y="4507200"/>
              <a:ext cx="429480" cy="429120"/>
            </a:xfrm>
            <a:prstGeom prst="bentConnector4">
              <a:avLst>
                <a:gd name="adj1" fmla="val 57969"/>
                <a:gd name="adj2" fmla="val 5356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4" name="그룹 47"/>
          <p:cNvGrpSpPr/>
          <p:nvPr/>
        </p:nvGrpSpPr>
        <p:grpSpPr>
          <a:xfrm>
            <a:off x="3237840" y="3006720"/>
            <a:ext cx="857880" cy="857160"/>
            <a:chOff x="3237840" y="3006720"/>
            <a:chExt cx="857880" cy="857160"/>
          </a:xfrm>
        </p:grpSpPr>
        <p:sp>
          <p:nvSpPr>
            <p:cNvPr id="145" name="직사각형 16"/>
            <p:cNvSpPr/>
            <p:nvPr/>
          </p:nvSpPr>
          <p:spPr>
            <a:xfrm>
              <a:off x="3238560" y="3006720"/>
              <a:ext cx="857160" cy="85716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6" name="꺾인 연결선 10"/>
            <p:cNvCxnSpPr>
              <a:stCxn id="145" idx="0"/>
              <a:endCxn id="145" idx="1"/>
            </p:cNvCxnSpPr>
            <p:nvPr/>
          </p:nvCxnSpPr>
          <p:spPr>
            <a:xfrm rot="5400000">
              <a:off x="3237840" y="3006360"/>
              <a:ext cx="429120" cy="429480"/>
            </a:xfrm>
            <a:prstGeom prst="bentConnector4">
              <a:avLst>
                <a:gd name="adj1" fmla="val 53316"/>
                <a:gd name="adj2" fmla="val 3271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7" name="그룹 62"/>
          <p:cNvGrpSpPr/>
          <p:nvPr/>
        </p:nvGrpSpPr>
        <p:grpSpPr>
          <a:xfrm>
            <a:off x="4387680" y="2999880"/>
            <a:ext cx="857520" cy="864000"/>
            <a:chOff x="4387680" y="2999880"/>
            <a:chExt cx="857520" cy="864000"/>
          </a:xfrm>
        </p:grpSpPr>
        <p:sp>
          <p:nvSpPr>
            <p:cNvPr id="148" name="직사각형 49"/>
            <p:cNvSpPr/>
            <p:nvPr/>
          </p:nvSpPr>
          <p:spPr>
            <a:xfrm>
              <a:off x="4387680" y="3000240"/>
              <a:ext cx="857520" cy="85752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9" name="꺾인 연결선 10"/>
            <p:cNvCxnSpPr>
              <a:stCxn id="148" idx="0"/>
            </p:cNvCxnSpPr>
            <p:nvPr/>
          </p:nvCxnSpPr>
          <p:spPr>
            <a:xfrm flipH="1" rot="16200000">
              <a:off x="4488480" y="3327480"/>
              <a:ext cx="864360" cy="208800"/>
            </a:xfrm>
            <a:prstGeom prst="bentConnector5">
              <a:avLst>
                <a:gd name="adj1" fmla="val 43708"/>
                <a:gd name="adj2" fmla="val 100863"/>
                <a:gd name="adj3" fmla="val 9962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0" name="그룹 63"/>
          <p:cNvGrpSpPr/>
          <p:nvPr/>
        </p:nvGrpSpPr>
        <p:grpSpPr>
          <a:xfrm>
            <a:off x="5524560" y="3006720"/>
            <a:ext cx="857520" cy="857160"/>
            <a:chOff x="5524560" y="3006720"/>
            <a:chExt cx="857520" cy="857160"/>
          </a:xfrm>
        </p:grpSpPr>
        <p:sp>
          <p:nvSpPr>
            <p:cNvPr id="151" name="직사각형 64"/>
            <p:cNvSpPr/>
            <p:nvPr/>
          </p:nvSpPr>
          <p:spPr>
            <a:xfrm>
              <a:off x="5524560" y="3006720"/>
              <a:ext cx="857160" cy="85716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2" name="꺾인 연결선 10"/>
            <p:cNvCxnSpPr>
              <a:stCxn id="151" idx="0"/>
              <a:endCxn id="151" idx="3"/>
            </p:cNvCxnSpPr>
            <p:nvPr/>
          </p:nvCxnSpPr>
          <p:spPr>
            <a:xfrm flipH="1" rot="16200000">
              <a:off x="5953320" y="3006360"/>
              <a:ext cx="429120" cy="429120"/>
            </a:xfrm>
            <a:prstGeom prst="bentConnector4">
              <a:avLst>
                <a:gd name="adj1" fmla="val 50965"/>
                <a:gd name="adj2" fmla="val 3963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" name="그룹 71"/>
          <p:cNvGrpSpPr/>
          <p:nvPr/>
        </p:nvGrpSpPr>
        <p:grpSpPr>
          <a:xfrm>
            <a:off x="4380480" y="4078440"/>
            <a:ext cx="858240" cy="857160"/>
            <a:chOff x="4380480" y="4078440"/>
            <a:chExt cx="858240" cy="857160"/>
          </a:xfrm>
        </p:grpSpPr>
        <p:sp>
          <p:nvSpPr>
            <p:cNvPr id="154" name="직사각형 72"/>
            <p:cNvSpPr/>
            <p:nvPr/>
          </p:nvSpPr>
          <p:spPr>
            <a:xfrm>
              <a:off x="4381560" y="4078440"/>
              <a:ext cx="857160" cy="85716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5" name="꺾인 연결선 10"/>
            <p:cNvCxnSpPr>
              <a:stCxn id="154" idx="1"/>
              <a:endCxn id="154" idx="3"/>
            </p:cNvCxnSpPr>
            <p:nvPr/>
          </p:nvCxnSpPr>
          <p:spPr>
            <a:xfrm flipV="1">
              <a:off x="4380480" y="4506480"/>
              <a:ext cx="857880" cy="13320"/>
            </a:xfrm>
            <a:prstGeom prst="bentConnector5">
              <a:avLst>
                <a:gd name="adj1" fmla="val 45214"/>
                <a:gd name="adj2" fmla="val 2044444"/>
                <a:gd name="adj3" fmla="val 8144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6" name="그룹 78"/>
          <p:cNvGrpSpPr/>
          <p:nvPr/>
        </p:nvGrpSpPr>
        <p:grpSpPr>
          <a:xfrm>
            <a:off x="3238560" y="5149800"/>
            <a:ext cx="857160" cy="857520"/>
            <a:chOff x="3238560" y="5149800"/>
            <a:chExt cx="857160" cy="857520"/>
          </a:xfrm>
        </p:grpSpPr>
        <p:sp>
          <p:nvSpPr>
            <p:cNvPr id="157" name="직사각형 79"/>
            <p:cNvSpPr/>
            <p:nvPr/>
          </p:nvSpPr>
          <p:spPr>
            <a:xfrm>
              <a:off x="3238560" y="5149800"/>
              <a:ext cx="857160" cy="85716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8" name="꺾인 연결선 10"/>
            <p:cNvCxnSpPr>
              <a:stCxn id="157" idx="3"/>
              <a:endCxn id="157" idx="2"/>
            </p:cNvCxnSpPr>
            <p:nvPr/>
          </p:nvCxnSpPr>
          <p:spPr>
            <a:xfrm flipV="1" rot="10800000">
              <a:off x="3666600" y="5578200"/>
              <a:ext cx="429120" cy="429120"/>
            </a:xfrm>
            <a:prstGeom prst="bentConnector4">
              <a:avLst>
                <a:gd name="adj1" fmla="val 32409"/>
                <a:gd name="adj2" fmla="val 5818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9" name="TextBox 86"/>
          <p:cNvSpPr/>
          <p:nvPr/>
        </p:nvSpPr>
        <p:spPr>
          <a:xfrm>
            <a:off x="3058920" y="6072120"/>
            <a:ext cx="37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Examples of the cases of segmentation by AB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87"/>
          <p:cNvSpPr/>
          <p:nvPr/>
        </p:nvSpPr>
        <p:spPr>
          <a:xfrm>
            <a:off x="1251360" y="3309840"/>
            <a:ext cx="1688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Start from above side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88"/>
          <p:cNvSpPr/>
          <p:nvPr/>
        </p:nvSpPr>
        <p:spPr>
          <a:xfrm>
            <a:off x="1248480" y="4381560"/>
            <a:ext cx="150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Start from left side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89"/>
          <p:cNvSpPr/>
          <p:nvPr/>
        </p:nvSpPr>
        <p:spPr>
          <a:xfrm>
            <a:off x="1245960" y="5452920"/>
            <a:ext cx="161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Start from right side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1: HTM-10.0r1 vs. ABC co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CE7-71CC-49E1-A7D9-0ACB9DFA4171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2023920" y="3438360"/>
            <a:ext cx="61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TM-10.0r1 vs. ABC coding under CTC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2095560" y="6153120"/>
            <a:ext cx="61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TM-10.0r1 vs. ABC coding under AI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849320" y="3930480"/>
          <a:ext cx="6604200" cy="2213280"/>
        </p:xfrm>
        <a:graphic>
          <a:graphicData uri="http://schemas.openxmlformats.org/drawingml/2006/table">
            <a:tbl>
              <a:tblPr/>
              <a:tblGrid>
                <a:gridCol w="720720"/>
                <a:gridCol w="679680"/>
                <a:gridCol w="680760"/>
                <a:gridCol w="681120"/>
                <a:gridCol w="679680"/>
                <a:gridCol w="680760"/>
                <a:gridCol w="679680"/>
                <a:gridCol w="601560"/>
                <a:gridCol w="600120"/>
                <a:gridCol w="600120"/>
              </a:tblGrid>
              <a:tr h="290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7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7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8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849320" y="1214280"/>
          <a:ext cx="6604200" cy="2213280"/>
        </p:xfrm>
        <a:graphic>
          <a:graphicData uri="http://schemas.openxmlformats.org/drawingml/2006/table">
            <a:tbl>
              <a:tblPr/>
              <a:tblGrid>
                <a:gridCol w="720720"/>
                <a:gridCol w="679680"/>
                <a:gridCol w="680760"/>
                <a:gridCol w="681120"/>
                <a:gridCol w="679680"/>
                <a:gridCol w="680760"/>
                <a:gridCol w="679680"/>
                <a:gridCol w="601560"/>
                <a:gridCol w="600120"/>
                <a:gridCol w="600120"/>
              </a:tblGrid>
              <a:tr h="290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6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5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2: HTM-10.0r1 vs. ABC with RB segment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995E-5A7C-4ECD-A67D-185B380F2CCD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2023920" y="3510000"/>
            <a:ext cx="61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TM-10.0r1 vs. ABC with RB segmentation under CTC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095560" y="6153120"/>
            <a:ext cx="61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TM-10.0r1 vs. ABC with RB segmentation under AI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952640" y="3929040"/>
          <a:ext cx="6603840" cy="2212920"/>
        </p:xfrm>
        <a:graphic>
          <a:graphicData uri="http://schemas.openxmlformats.org/drawingml/2006/table">
            <a:tbl>
              <a:tblPr/>
              <a:tblGrid>
                <a:gridCol w="720720"/>
                <a:gridCol w="679320"/>
                <a:gridCol w="681120"/>
                <a:gridCol w="681120"/>
                <a:gridCol w="679320"/>
                <a:gridCol w="681120"/>
                <a:gridCol w="679320"/>
                <a:gridCol w="601920"/>
                <a:gridCol w="600120"/>
                <a:gridCol w="599760"/>
              </a:tblGrid>
              <a:tr h="290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6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6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7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5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9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6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952640" y="1285920"/>
          <a:ext cx="6603840" cy="2212920"/>
        </p:xfrm>
        <a:graphic>
          <a:graphicData uri="http://schemas.openxmlformats.org/drawingml/2006/table">
            <a:tbl>
              <a:tblPr/>
              <a:tblGrid>
                <a:gridCol w="720720"/>
                <a:gridCol w="679320"/>
                <a:gridCol w="681120"/>
                <a:gridCol w="681120"/>
                <a:gridCol w="679320"/>
                <a:gridCol w="681120"/>
                <a:gridCol w="679320"/>
                <a:gridCol w="601920"/>
                <a:gridCol w="600120"/>
                <a:gridCol w="599760"/>
              </a:tblGrid>
              <a:tr h="290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5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ontribution proposed an Advanced Boundary Chain coding method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posal achieved 0.3% BD-rate gain in synthesized views compared to HTM-10.0r1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mend that the proposed method be adopted into 3D-HEV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8AAA-1E27-4641-86DA-554556C9065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5:44:28Z</dcterms:created>
  <dc:creator>admin</dc:creator>
  <dc:description/>
  <dc:language>en-US</dc:language>
  <cp:lastModifiedBy>jungdong.seo</cp:lastModifiedBy>
  <dcterms:modified xsi:type="dcterms:W3CDTF">2014-03-30T06:58:41Z</dcterms:modified>
  <cp:revision>1828</cp:revision>
  <dc:subject/>
  <dc:title>슬라이드 1</dc:title>
</cp:coreProperties>
</file>