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5298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8442-99C3-49F4-A25C-0FCC071430EA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49320" y="744120"/>
            <a:ext cx="48988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8D65-9E95-46AB-867C-E7360AD332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1910-50F5-4BFB-A288-0BE3639C9BF4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1A94-1FE5-4DF3-9131-AC8B111A6E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49320" y="744480"/>
            <a:ext cx="489888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0888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9056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720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0888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9056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7200" y="39240"/>
            <a:ext cx="9410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9"/>
          <p:cNvGraphicFramePr/>
          <p:nvPr/>
        </p:nvGraphicFramePr>
        <p:xfrm>
          <a:off x="800280" y="7569360"/>
          <a:ext cx="1800000" cy="1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280" y="7569360"/>
                    <a:ext cx="18000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Text Box 7"/>
          <p:cNvSpPr/>
          <p:nvPr/>
        </p:nvSpPr>
        <p:spPr>
          <a:xfrm>
            <a:off x="-2224080" y="0"/>
            <a:ext cx="2095560" cy="87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英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中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0-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0-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Ar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18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细黑体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22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3" name="Picture 11" descr="海思-修"/>
          <p:cNvPicPr/>
          <p:nvPr/>
        </p:nvPicPr>
        <p:blipFill>
          <a:blip r:embed="rId4"/>
          <a:stretch/>
        </p:blipFill>
        <p:spPr>
          <a:xfrm>
            <a:off x="8504280" y="7481880"/>
            <a:ext cx="172872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4080" indent="-265320">
              <a:spcBef>
                <a:spcPts val="601"/>
              </a:spcBef>
              <a:buClr>
                <a:srgbClr val="808080"/>
              </a:buClr>
              <a:buSzPct val="12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52560" indent="-264960">
              <a:spcBef>
                <a:spcPts val="601"/>
              </a:spcBef>
              <a:buClr>
                <a:srgbClr val="3333ff"/>
              </a:buClr>
              <a:buFont typeface="Wingdings" charset="2"/>
              <a:buChar char="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382840" indent="-264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382840" indent="-264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382840" indent="-26496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94BCD5B8-68F4-4B90-BD77-EE8A73E94DEA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0" y="133668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0" y="731376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8985F6FB-9825-49F0-A531-D99CCCCF6EB8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3" name="Rectangle 39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54" name="Picture 69" descr="海思-修"/>
          <p:cNvPicPr/>
          <p:nvPr/>
        </p:nvPicPr>
        <p:blipFill>
          <a:blip r:embed="rId1"/>
          <a:stretch/>
        </p:blipFill>
        <p:spPr>
          <a:xfrm>
            <a:off x="0" y="0"/>
            <a:ext cx="10528200" cy="79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4"/>
          <p:cNvGraphicFramePr/>
          <p:nvPr/>
        </p:nvGraphicFramePr>
        <p:xfrm>
          <a:off x="655560" y="7313760"/>
          <a:ext cx="2448000" cy="14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7313760"/>
                    <a:ext cx="24480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51" descr="海思-修"/>
          <p:cNvPicPr/>
          <p:nvPr/>
        </p:nvPicPr>
        <p:blipFill>
          <a:blip r:embed="rId4"/>
          <a:stretch/>
        </p:blipFill>
        <p:spPr>
          <a:xfrm>
            <a:off x="7856640" y="7169040"/>
            <a:ext cx="1985760" cy="411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0"/>
          <p:cNvSpPr/>
          <p:nvPr/>
        </p:nvSpPr>
        <p:spPr>
          <a:xfrm>
            <a:off x="2239920" y="3137040"/>
            <a:ext cx="7848720" cy="192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Redundancy removal for DMM1 signalling</a:t>
            </a: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Xu Chen, Xiaozhen Zheng, Ce Zhu, Yongbin Lin and Jianhua Zheng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9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76AC6DF4-81FB-4278-A98D-24BFB532D04E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79200" y="1623960"/>
            <a:ext cx="986508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The Problem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The table index in DMM1 is binarizied as a fixed-length code.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urrent method can not take full use of coding bits needed.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832120" y="3495600"/>
          <a:ext cx="4863960" cy="838440"/>
        </p:xfrm>
        <a:graphic>
          <a:graphicData uri="http://schemas.openxmlformats.org/drawingml/2006/table">
            <a:tbl>
              <a:tblPr/>
              <a:tblGrid>
                <a:gridCol w="1216080"/>
                <a:gridCol w="1216080"/>
                <a:gridCol w="1215720"/>
                <a:gridCol w="1216080"/>
              </a:tblGrid>
              <a:tr h="335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lock size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ex number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ding bits needed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dundancy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×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87=41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×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7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767=257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×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51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1351=697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×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04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1504=544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247D6966-5F07-4817-8FAE-B38A0A3625F3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79200" y="1623960"/>
            <a:ext cx="986508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Code the differential value(Dv) instead of full table index(Ti)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1. Set constant value(Cv) depending on blocksize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ode the differential between full table index and constant value.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igned bit need to be coded if Dv not greater than Cv.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Result: Save one coding bit when Dv&gt;Cv.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</a:t>
            </a:r>
            <a:endParaRPr b="0" lang="en-US" sz="22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386080" y="2487600"/>
          <a:ext cx="5613480" cy="426960"/>
        </p:xfrm>
        <a:graphic>
          <a:graphicData uri="http://schemas.openxmlformats.org/drawingml/2006/table">
            <a:tbl>
              <a:tblPr/>
              <a:tblGrid>
                <a:gridCol w="936720"/>
                <a:gridCol w="1079280"/>
                <a:gridCol w="1163520"/>
                <a:gridCol w="1311480"/>
                <a:gridCol w="1122480"/>
              </a:tblGrid>
              <a:tr h="21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lock size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value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55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7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80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7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743200" y="6283440"/>
          <a:ext cx="3816360" cy="431640"/>
        </p:xfrm>
        <a:graphic>
          <a:graphicData uri="http://schemas.openxmlformats.org/drawingml/2006/table">
            <a:tbl>
              <a:tblPr/>
              <a:tblGrid>
                <a:gridCol w="1123920"/>
                <a:gridCol w="1295280"/>
                <a:gridCol w="1397160"/>
              </a:tblGrid>
              <a:tr h="215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v&gt;Cv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v+Dv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v+Dv or Cv-Dv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92640" y="4071960"/>
          <a:ext cx="2609640" cy="1231920"/>
        </p:xfrm>
        <a:graphic>
          <a:graphicData uri="http://schemas.openxmlformats.org/drawingml/2006/table">
            <a:tbl>
              <a:tblPr/>
              <a:tblGrid>
                <a:gridCol w="1349280"/>
                <a:gridCol w="1260360"/>
              </a:tblGrid>
              <a:tr h="388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lock size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ding bits needed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×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en-C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~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×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en-C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~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×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C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~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×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C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~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6D6B63EF-1CCE-4549-A842-166EA94630EA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ul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6840" y="16956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0.0r1 Test condition: C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19200" y="2487600"/>
          <a:ext cx="7561440" cy="2879640"/>
        </p:xfrm>
        <a:graphic>
          <a:graphicData uri="http://schemas.openxmlformats.org/drawingml/2006/table">
            <a:tbl>
              <a:tblPr/>
              <a:tblGrid>
                <a:gridCol w="828720"/>
                <a:gridCol w="777960"/>
                <a:gridCol w="776160"/>
                <a:gridCol w="777960"/>
                <a:gridCol w="776160"/>
                <a:gridCol w="777960"/>
                <a:gridCol w="777960"/>
                <a:gridCol w="689040"/>
                <a:gridCol w="690480"/>
                <a:gridCol w="689040"/>
              </a:tblGrid>
              <a:tr h="503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5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7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9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4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7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5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6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1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7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8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5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7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4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7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3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2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7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5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7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6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verag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-0.07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98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96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96.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06E8EF91-C7F7-42A8-92D7-121CF0554AED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ul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6840" y="16956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0.0r1 Test condition: 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19200" y="2487600"/>
          <a:ext cx="7561440" cy="2879640"/>
        </p:xfrm>
        <a:graphic>
          <a:graphicData uri="http://schemas.openxmlformats.org/drawingml/2006/table">
            <a:tbl>
              <a:tblPr/>
              <a:tblGrid>
                <a:gridCol w="828720"/>
                <a:gridCol w="777960"/>
                <a:gridCol w="776160"/>
                <a:gridCol w="777960"/>
                <a:gridCol w="776160"/>
                <a:gridCol w="777960"/>
                <a:gridCol w="777960"/>
                <a:gridCol w="689040"/>
                <a:gridCol w="690480"/>
                <a:gridCol w="689040"/>
              </a:tblGrid>
              <a:tr h="503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2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2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6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5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6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5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6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6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7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6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5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6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8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6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6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6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verag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7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98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97.5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A5EE5D03-151F-41A2-90DA-907164914F20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dditional resul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695600"/>
            <a:ext cx="95774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0.0r1 Test condition: CTC(Code the bins with bypass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19200" y="2487600"/>
          <a:ext cx="7561440" cy="2879640"/>
        </p:xfrm>
        <a:graphic>
          <a:graphicData uri="http://schemas.openxmlformats.org/drawingml/2006/table">
            <a:tbl>
              <a:tblPr/>
              <a:tblGrid>
                <a:gridCol w="828720"/>
                <a:gridCol w="777960"/>
                <a:gridCol w="776160"/>
                <a:gridCol w="777960"/>
                <a:gridCol w="776160"/>
                <a:gridCol w="777960"/>
                <a:gridCol w="777960"/>
                <a:gridCol w="689040"/>
                <a:gridCol w="690480"/>
                <a:gridCol w="689040"/>
              </a:tblGrid>
              <a:tr h="503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0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4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1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7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9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1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4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8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9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8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1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8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4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8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9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7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2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9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3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5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8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5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5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1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8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9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9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1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0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verag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6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79.9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70.7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80.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F4913F60-3134-46A3-A0B5-7FEDB27FB945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dditional resul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7200" y="1695600"/>
            <a:ext cx="91454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21120" indent="-3211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0.0r1 Test condition: 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de the bins with bypass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19200" y="2487600"/>
          <a:ext cx="7561440" cy="2879640"/>
        </p:xfrm>
        <a:graphic>
          <a:graphicData uri="http://schemas.openxmlformats.org/drawingml/2006/table">
            <a:tbl>
              <a:tblPr/>
              <a:tblGrid>
                <a:gridCol w="828720"/>
                <a:gridCol w="777960"/>
                <a:gridCol w="776160"/>
                <a:gridCol w="777960"/>
                <a:gridCol w="776160"/>
                <a:gridCol w="777960"/>
                <a:gridCol w="777960"/>
                <a:gridCol w="689040"/>
                <a:gridCol w="690480"/>
                <a:gridCol w="689040"/>
              </a:tblGrid>
              <a:tr h="503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3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3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2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4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5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6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5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7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7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8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8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7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8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verag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7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1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99.8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7B629DF5-ED51-4B32-9E23-B1C43657B177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36144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cy removed and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.07 coding gain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TC and 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't change DMM1 pattern generation mechanism and DMM1 index entropy co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 to be ado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3463920" y="6521400"/>
            <a:ext cx="7632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for cross-check by LGE 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39599177-4E2C-4386-8C30-677977099280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a7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24280" y="47214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4400" spc="-1" strike="noStrike">
              <a:solidFill>
                <a:srgbClr val="6699ff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763800" y="2122560"/>
            <a:ext cx="3197520" cy="2442960"/>
            <a:chOff x="3763800" y="2122560"/>
            <a:chExt cx="3197520" cy="2442960"/>
          </a:xfrm>
        </p:grpSpPr>
        <p:pic>
          <p:nvPicPr>
            <p:cNvPr id="97" name="Picture 5" descr="风车"/>
            <p:cNvPicPr/>
            <p:nvPr/>
          </p:nvPicPr>
          <p:blipFill>
            <a:blip r:embed="rId1"/>
            <a:srcRect l="17909" t="40828" r="0" b="0"/>
            <a:stretch/>
          </p:blipFill>
          <p:spPr>
            <a:xfrm>
              <a:off x="3816360" y="2173320"/>
              <a:ext cx="310500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6"/>
            <p:cNvSpPr/>
            <p:nvPr/>
          </p:nvSpPr>
          <p:spPr>
            <a:xfrm>
              <a:off x="3763800" y="2122560"/>
              <a:ext cx="3197520" cy="244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spcBef>
                  <a:spcPts val="649"/>
                </a:spcBef>
                <a:buClr>
                  <a:srgbClr val="cc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4400640" y="55134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www.hisilicon.com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8:10:34Z</dcterms:created>
  <dc:creator>guopeng</dc:creator>
  <dc:description/>
  <dc:language>en-US</dc:language>
  <cp:lastModifiedBy>Xiaozhen Zheng</cp:lastModifiedBy>
  <dcterms:modified xsi:type="dcterms:W3CDTF">2014-03-29T17:14:19Z</dcterms:modified>
  <cp:revision>8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9)Bj+sktepairdCGqLyl2ZiwO62A4MjsHrHFbk5XxRqLAT3kV7n46YzeGaiHfFERg1GacBBHNC
BRD5C9bHjb2ltMWbTaPmzGEsyLWjFQ2/z0vij8g/zsKpHd6QoZCwQPNbrXBLgY8XFscIbDlf
Jc7+fJRvCjoFAEYg3PAoM8D3d8wxIvBRX45s1ANydHMf2ixa+/ySXCnw/ngG4jFmsg9WYQmL
7VtNv0w2YJxIZUxQOA</vt:lpwstr>
  </property>
  <property fmtid="{D5CDD505-2E9C-101B-9397-08002B2CF9AE}" pid="3" name="_ms_pID_7253431">
    <vt:lpwstr>ac2qiqRZsCxAO8b3r5j3j5TyHJ/lePmk1WSfEJcACdj0Jili6KjQyq
9vmBRFKwuqxjvGc5o2PrT4rRnfQNFJNTgrtGWbasBdetzRAcNTc3c0ORBL+i8Z1Wp68T/Up3
60ATI6zrAV/f7Vf5tbRksK0tr+OewkHImP6Kfv949rjucx74QGKf4GUnf2KCmaObJFWnXdaH
mAXutwHKYmdcwF2+TsI2ruQdA6tfxYy9QQ6Y</vt:lpwstr>
  </property>
  <property fmtid="{D5CDD505-2E9C-101B-9397-08002B2CF9AE}" pid="4" name="_ms_pID_7253431_00">
    <vt:lpwstr>_ms_pID_7253431</vt:lpwstr>
  </property>
  <property fmtid="{D5CDD505-2E9C-101B-9397-08002B2CF9AE}" pid="5" name="_ms_pID_7253432">
    <vt:lpwstr>EWwO3K69pjkvcR1B4XkoWCa6mE48ef8suqMj
hi9Ys064Cc2htWQeBHlRULYQSwShTEoU02CVI2ZqlkES2yzI89eH9yy35W+L8VL6X8mHYJHA
rpkVhH2ImVzPc7LV93JfdItEB4DeZu5vX4wan8Taqhtir9SxBCkxFKmTWB5/66k6GhMfDCXS
DGthQvx3o0nsOkITrncCaaxxeOISt93ccWUHJqLbecfWVtcVnCh8L3</vt:lpwstr>
  </property>
  <property fmtid="{D5CDD505-2E9C-101B-9397-08002B2CF9AE}" pid="6" name="_ms_pID_7253432_00">
    <vt:lpwstr>_ms_pID_7253432</vt:lpwstr>
  </property>
  <property fmtid="{D5CDD505-2E9C-101B-9397-08002B2CF9AE}" pid="7" name="_ms_pID_7253433">
    <vt:lpwstr>EDEwz25e+Gorj00/EB
1JO/RCH33HwUkxB/2LQ4vE3cdVcXv0OPYutdASdZt47FkcDsdPYwGO4wskcMSodnI7oHfpRJ
w4shJHNs50bTudPJutic/CCwGzNVoO2jhiBQVwNUeF1vZSjxNpoPq+2ntaGqt4ZGz/eVyhI2
BUktQNFLzAWRfGIbK2TVbj+cL544+6sf/FWdvZzCWyaN+2SzKMWhRRTTtT2ss99awS7uADfd</vt:lpwstr>
  </property>
  <property fmtid="{D5CDD505-2E9C-101B-9397-08002B2CF9AE}" pid="8" name="_ms_pID_7253433_00">
    <vt:lpwstr>_ms_pID_7253433</vt:lpwstr>
  </property>
  <property fmtid="{D5CDD505-2E9C-101B-9397-08002B2CF9AE}" pid="9" name="_ms_pID_7253434">
    <vt:lpwstr>
aOClOucmggBadIO//IycxPWmZH6fDehZJEV4nQ1YnNe/4YL0x/Q8xktqvN7lgiEhec7BsKHr
LRNrUX/uaNs/vNEa5YATUTmt3SfKZ/JsQjulN3gLQUfLPJvCZ+LJ9jIlzA1uOJ/p0YEA2fMl
wu31yrE9XHRibEfpe4i5AvkfvbqSB3ACHpbbuFsYC2yAaLcKuqzwiSRdwZr+dOeJ9fa0cw7A
FsGOUchTlTa8j1FL</vt:lpwstr>
  </property>
  <property fmtid="{D5CDD505-2E9C-101B-9397-08002B2CF9AE}" pid="10" name="_ms_pID_7253434_00">
    <vt:lpwstr>_ms_pID_7253434</vt:lpwstr>
  </property>
  <property fmtid="{D5CDD505-2E9C-101B-9397-08002B2CF9AE}" pid="11" name="_ms_pID_7253435">
    <vt:lpwstr>aEB5nL2jvHE28UyLVr+buZ0HiNjTQyyfA9yxuL3fQHX9qYqBvwK/hO/G
dXo2t2f2B91zFS7pnNgwe41AiVb1WMjw97IFG+usXmtnsGEHZwzC26MiuCBt9WFqOpeQ9HzF
icSjA8jOm2mLl1+bQ84OOEKvTHeVA6imnnfm1FIgAEjzMxJF5icMha8IJMzuR77WfeVXs0UD
bWhso3FYdHOo6S6JJdkfSAHFuKuDYNxP+o</vt:lpwstr>
  </property>
  <property fmtid="{D5CDD505-2E9C-101B-9397-08002B2CF9AE}" pid="12" name="_ms_pID_7253435_00">
    <vt:lpwstr>_ms_pID_7253435</vt:lpwstr>
  </property>
  <property fmtid="{D5CDD505-2E9C-101B-9397-08002B2CF9AE}" pid="13" name="_ms_pID_7253436">
    <vt:lpwstr>ZTsHu+C+yXIlPVlO4QXqGFnQkvepPatGrAKcjo
ZQsG1DM8k5MLD/iv0hltpvFdiwPhmLFFtS+Tq6BKBfu1IE/pR62yquSIfr0VMWIHBUpPXzgk
5T+FCaz4XFVSzgH0E36iw9INB2IGTuMj4JK0k5TwWC8p9Z10/fkynlitjtPORHw1A4IIwiO9
Fc8PMhwD+NvzxsLcNDtHOKY9X3kbG53FJXZG1C6fQItnnZtmoNkW</vt:lpwstr>
  </property>
  <property fmtid="{D5CDD505-2E9C-101B-9397-08002B2CF9AE}" pid="14" name="_ms_pID_7253436_00">
    <vt:lpwstr>_ms_pID_7253436</vt:lpwstr>
  </property>
  <property fmtid="{D5CDD505-2E9C-101B-9397-08002B2CF9AE}" pid="15" name="_ms_pID_7253437">
    <vt:lpwstr>VfKdnHLV1v7OmCnJHLWS
HV5kB+/zSNGX6Rcf65lyJ/PrFewyiAIJCSHWEuU2qL0r0SsEn8w32CKWmN3eUMo20ibQAaJz
x1u2AsWQ9z0BmRAR0zyGUxCcIFL5HE7P/4mwsKnNyKiNQdXA4nExHxnmBlYwX8YO7Mz8TJmf
hinie3WPF58qenoplRp93Fp3z3oAwnCBu8Is9AhkHp1bgbMYWjiNV/g4hnvoFV+chhFR4Q</vt:lpwstr>
  </property>
  <property fmtid="{D5CDD505-2E9C-101B-9397-08002B2CF9AE}" pid="16" name="_ms_pID_7253437_00">
    <vt:lpwstr>_ms_pID_7253437</vt:lpwstr>
  </property>
  <property fmtid="{D5CDD505-2E9C-101B-9397-08002B2CF9AE}" pid="17" name="_ms_pID_7253438">
    <vt:lpwstr>HZ
YhSYB1W1COT/7nvJBdg/TCjZ1k77Tmut1sZ9rWOQHytNRw8l0enw6hoAveZOcnLgJEirGg==</vt:lpwstr>
  </property>
  <property fmtid="{D5CDD505-2E9C-101B-9397-08002B2CF9AE}" pid="18" name="_ms_pID_7253438_00">
    <vt:lpwstr>_ms_pID_7253438</vt:lpwstr>
  </property>
  <property fmtid="{D5CDD505-2E9C-101B-9397-08002B2CF9AE}" pid="19" name="_ms_pID_725343_00">
    <vt:lpwstr>_ms_pID_725343</vt:lpwstr>
  </property>
  <property fmtid="{D5CDD505-2E9C-101B-9397-08002B2CF9AE}" pid="20" name="_new_ms_pID_72543">
    <vt:lpwstr>(3)Idj34ikGVETIlQHmLposU/gmJF7WnxFMKr9WxKFkZZy8SaCYYBi9DIuzXlRnDDNISeMDlNkV
6KiwZgvCndBcu57IsSlvLR6JR0W+PZ5FQZfQrmvQzOjfKcOJB2kYJ64Ix6jxrsoBiIMN0GdY
5kflv0hvhVMGrtkGSe6jCFUmc9ZlBEajFtVoZsmi16bSpKS/rQvB9sCkqlTNYBXHjZ4aMVpx
Bx3ymLbnsaE8OtMbCJ</vt:lpwstr>
  </property>
  <property fmtid="{D5CDD505-2E9C-101B-9397-08002B2CF9AE}" pid="21" name="_new_ms_pID_725431">
    <vt:lpwstr>CniEB+RQlnm2rn6t05tW73S2vurC2mSR7In7EIu+dv41Q227PoEHex
GpP22C9ksIOR3GTwblVlnbwx5U4ufXex8BSlTMTVXWhw9q9B4XlPUZ+av9SwUj4oxC+U3e9Q
FkIv4eapaUoy2izudOPPNlydjhcMr5/LuWNWUZRb13MHgULbElE17BESbSYqceoWqb9quJKu
qMA237v757aPOP2FEsaLM48TNUlDqLyC+uO8</vt:lpwstr>
  </property>
  <property fmtid="{D5CDD505-2E9C-101B-9397-08002B2CF9AE}" pid="22" name="_new_ms_pID_725431_00">
    <vt:lpwstr>_new_ms_pID_725431</vt:lpwstr>
  </property>
  <property fmtid="{D5CDD505-2E9C-101B-9397-08002B2CF9AE}" pid="23" name="_new_ms_pID_725432">
    <vt:lpwstr>efLbu2nrX9H+RntiGExhj/ODhyCODOFysZ9X
usGqHVdsJukBp0wuXFX7maAgHprCPWZtWKaNx8vHdupNOswJLwucgWsBrNE/7/7AQX7i85Os
ur6WGli389xyk3zF3PHQLw==</vt:lpwstr>
  </property>
  <property fmtid="{D5CDD505-2E9C-101B-9397-08002B2CF9AE}" pid="24" name="_new_ms_pID_725432_00">
    <vt:lpwstr>_new_ms_pID_725432</vt:lpwstr>
  </property>
  <property fmtid="{D5CDD505-2E9C-101B-9397-08002B2CF9AE}" pid="25" name="_new_ms_pID_72543_00">
    <vt:lpwstr>_new_ms_pID_72543</vt:lpwstr>
  </property>
  <property fmtid="{D5CDD505-2E9C-101B-9397-08002B2CF9AE}" pid="26" name="sflag">
    <vt:lpwstr>1396112107</vt:lpwstr>
  </property>
</Properties>
</file>