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6C9E-06D5-4EB4-9B7D-E1199BC48D05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5EFD-7148-483C-9D9C-AEE477014F4E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ean up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부분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D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와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issmatch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수정하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ean up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만 수행한 결과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C714-2662-4B57-99B3-AF659421EA3D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ean up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부분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D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와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issmatch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수정하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ean up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과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bug-fix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함께 수행한 결과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51FF-217C-4165-B923-8D4E1804D24A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ean up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부분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D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와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issmatch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수정하기 전과 후의 차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E220-FA6B-4C5D-BF1F-670F74A89F5E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ean up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부분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D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와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issmatch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부분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patial neighboring DV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유도 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D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서는 현재 리스트 내의 모든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patial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후보를 체크하여 해당 후보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V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보유한다면 활용할 수 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하지만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초기의 잘못된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ean up software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구현에서는 최대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1, B1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까지만 체크를 하게 되어있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B2AB-6E0D-47F3-8446-B7A6F90695E5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D02A0-E67B-4CB8-930F-314740C37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8000" y="42854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A5100-6AE7-4939-AEE0-2E00C0427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66260-153A-4D31-95BB-B4014347E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660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5560" y="15998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800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660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5560" y="4285440"/>
            <a:ext cx="28746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0057B-CD19-4B36-8FB1-A574E51350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61144-86B5-498F-9137-D0E72AE33F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DBD5E-0E04-41AE-BB72-C4D465712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2F78-3A75-4FE8-B658-32690E143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5E02C-7873-4575-9FEB-E10441347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08000" y="620640"/>
            <a:ext cx="70200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4A603-D3DF-40C1-8F55-DC20AB71C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CBE44-F50F-45A7-A23D-B9B6BFAD9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42854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9267E-DB52-485B-B193-99307FEEB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599840"/>
            <a:ext cx="435672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8000" y="4285440"/>
            <a:ext cx="8928000" cy="24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89750-0306-407E-8C52-D955DFC48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파워포인트(ML로고포함)프레임"/>
          <p:cNvPicPr/>
          <p:nvPr/>
        </p:nvPicPr>
        <p:blipFill>
          <a:blip r:embed="rId2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6" descr="3"/>
          <p:cNvPicPr/>
          <p:nvPr/>
        </p:nvPicPr>
        <p:blipFill>
          <a:blip r:embed="rId3"/>
          <a:stretch/>
        </p:blipFill>
        <p:spPr>
          <a:xfrm>
            <a:off x="250920" y="1446120"/>
            <a:ext cx="8893080" cy="7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8000" y="1599840"/>
            <a:ext cx="8928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120000"/>
              </a:lnSpc>
              <a:spcBef>
                <a:spcPts val="601"/>
              </a:spcBef>
              <a:buClr>
                <a:srgbClr val="00438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71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970D-9EB8-4462-AF49-92D8DCB87235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pic>
        <p:nvPicPr>
          <p:cNvPr id="5" name="Picture 9" descr="워드마크"/>
          <p:cNvPicPr/>
          <p:nvPr/>
        </p:nvPicPr>
        <p:blipFill>
          <a:blip r:embed="rId4"/>
          <a:stretch/>
        </p:blipFill>
        <p:spPr>
          <a:xfrm>
            <a:off x="108000" y="836640"/>
            <a:ext cx="1571400" cy="32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Y헤드라인M"/>
              </a:rPr>
              <a:t>JCT3V-H008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Y헤드라인M"/>
              </a:rPr>
              <a:t>CE1 related: Bug-fix and clean ups on merge list construction</a:t>
            </a:r>
            <a:endParaRPr b="0" lang="en-US" sz="3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Initial results of H0083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A130-A85E-4338-854C-CD4EFEB23994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8000" y="1599840"/>
            <a:ext cx="8712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Initial version of cleaned up software does not perfectly aligned with W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There was some difference on implementation of searching spatial neighboring disparity vector while deriving IvDCShift candidat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After correction of clean-up source code, it is perfectly aligned to the ancho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Clean up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85DF-FE16-4DEC-A66B-1A8F409904AB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pic>
        <p:nvPicPr>
          <p:cNvPr id="55" name="그림 2" descr=""/>
          <p:cNvPicPr/>
          <p:nvPr/>
        </p:nvPicPr>
        <p:blipFill>
          <a:blip r:embed="rId1"/>
          <a:stretch/>
        </p:blipFill>
        <p:spPr>
          <a:xfrm>
            <a:off x="520560" y="1992240"/>
            <a:ext cx="8102880" cy="375912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2268360" y="5961240"/>
            <a:ext cx="46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ults of clean up (vs. HTM 10.0r1)</a:t>
            </a:r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Bug-fix on Disparity merging candidate pruning + Clean up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77B0-F190-4D13-BC64-D5CBF39EF8AD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2268360" y="5961240"/>
            <a:ext cx="460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ults of bug-fix + clean up of HTM 10.0r1 (vs. HTM 10.0r1)</a:t>
            </a:r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  <p:pic>
        <p:nvPicPr>
          <p:cNvPr id="60" name="그림 1" descr=""/>
          <p:cNvPicPr/>
          <p:nvPr/>
        </p:nvPicPr>
        <p:blipFill>
          <a:blip r:embed="rId1"/>
          <a:stretch/>
        </p:blipFill>
        <p:spPr>
          <a:xfrm>
            <a:off x="520560" y="1973160"/>
            <a:ext cx="8102880" cy="37594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Comparison of Initial results of H0083 and H0083_r1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446C-5F1E-48B8-9AD7-34319FCC7AC8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2257560" y="3836880"/>
            <a:ext cx="46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ults of bug-fix + clean up of H0083 </a:t>
            </a:r>
            <a:r>
              <a:rPr b="1" lang="en-US" sz="1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(Before correction)</a:t>
            </a:r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  <p:pic>
        <p:nvPicPr>
          <p:cNvPr id="64" name="그림 1" descr=""/>
          <p:cNvPicPr/>
          <p:nvPr/>
        </p:nvPicPr>
        <p:blipFill>
          <a:blip r:embed="rId1"/>
          <a:stretch/>
        </p:blipFill>
        <p:spPr>
          <a:xfrm>
            <a:off x="2108160" y="4149720"/>
            <a:ext cx="4911840" cy="2278080"/>
          </a:xfrm>
          <a:prstGeom prst="rect">
            <a:avLst/>
          </a:prstGeom>
          <a:ln w="0">
            <a:noFill/>
          </a:ln>
        </p:spPr>
      </p:pic>
      <p:pic>
        <p:nvPicPr>
          <p:cNvPr id="65" name="그림 2" descr=""/>
          <p:cNvPicPr/>
          <p:nvPr/>
        </p:nvPicPr>
        <p:blipFill>
          <a:blip r:embed="rId2"/>
          <a:stretch/>
        </p:blipFill>
        <p:spPr>
          <a:xfrm>
            <a:off x="2104920" y="1557360"/>
            <a:ext cx="4915080" cy="227952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403280" y="6423120"/>
            <a:ext cx="655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ults of bug-fix + clean up of H0083_r1 </a:t>
            </a:r>
            <a:r>
              <a:rPr b="1" lang="en-US" sz="12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(After correction of wrong implementation on derivation of spatial neighboring DV)</a:t>
            </a:r>
            <a:endParaRPr b="0" lang="en-US" sz="1200" spc="-1" strike="noStrike">
              <a:solidFill>
                <a:srgbClr val="000000"/>
              </a:solidFill>
              <a:latin typeface="새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Initial results of H0083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DCB3-4CF2-4E2B-A0FA-646D11E45BE8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395280" y="3843360"/>
            <a:ext cx="795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atial neighboring disparity vector for deriving shifted disparity merging candidate</a:t>
            </a:r>
            <a:endParaRPr b="0" lang="en-US" sz="1600" spc="-1" strike="noStrike">
              <a:solidFill>
                <a:srgbClr val="000000"/>
              </a:solidFill>
              <a:latin typeface="새굴림"/>
            </a:endParaRPr>
          </a:p>
        </p:txBody>
      </p:sp>
      <p:pic>
        <p:nvPicPr>
          <p:cNvPr id="70" name="그림 5" descr=""/>
          <p:cNvPicPr/>
          <p:nvPr/>
        </p:nvPicPr>
        <p:blipFill>
          <a:blip r:embed="rId1"/>
          <a:stretch/>
        </p:blipFill>
        <p:spPr>
          <a:xfrm>
            <a:off x="2843280" y="1628640"/>
            <a:ext cx="3438360" cy="2173320"/>
          </a:xfrm>
          <a:prstGeom prst="rect">
            <a:avLst/>
          </a:prstGeom>
          <a:ln w="0">
            <a:noFill/>
          </a:ln>
        </p:spPr>
      </p:pic>
      <p:sp>
        <p:nvSpPr>
          <p:cNvPr id="71" name="TextBox 10"/>
          <p:cNvSpPr/>
          <p:nvPr/>
        </p:nvSpPr>
        <p:spPr>
          <a:xfrm>
            <a:off x="1116000" y="6438960"/>
            <a:ext cx="704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Unexpected simplification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: Wrong implementation only utilized A1 or B1.</a:t>
            </a:r>
            <a:endParaRPr b="0" lang="en-US" sz="1600" spc="-1" strike="noStrike">
              <a:solidFill>
                <a:srgbClr val="000000"/>
              </a:solidFill>
              <a:latin typeface="새굴림"/>
            </a:endParaRPr>
          </a:p>
        </p:txBody>
      </p:sp>
      <p:pic>
        <p:nvPicPr>
          <p:cNvPr id="72" name="그림 9" descr=""/>
          <p:cNvPicPr/>
          <p:nvPr/>
        </p:nvPicPr>
        <p:blipFill>
          <a:blip r:embed="rId2"/>
          <a:stretch/>
        </p:blipFill>
        <p:spPr>
          <a:xfrm>
            <a:off x="2847960" y="4275000"/>
            <a:ext cx="3433680" cy="2163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7020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8558280" y="258840"/>
            <a:ext cx="46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6ECC-AECC-4F60-854C-264875736D2B}" type="slidenum">
              <a:rPr b="0" lang="en-US" sz="14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새굴림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8000" y="1599840"/>
            <a:ext cx="8712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Bug-fix and clean up was done aligned to WD and independent simulation results are provid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A possibility on simplification of the shifted disparity merging candidate is detect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234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Recommend to further study on derivation process for the shifted disparity merging candidat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4:49:42Z</dcterms:created>
  <dc:creator>허영수</dc:creator>
  <dc:description/>
  <dc:language>en-US</dc:language>
  <cp:lastModifiedBy>ys</cp:lastModifiedBy>
  <dcterms:modified xsi:type="dcterms:W3CDTF">2014-04-01T10:50:06Z</dcterms:modified>
  <cp:revision>2670</cp:revision>
  <dc:subject/>
  <dc:title>슬라이드 1</dc:title>
</cp:coreProperties>
</file>