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BB74-A4CA-4E90-B6A9-93526BC02B87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F612-0268-4700-AD4C-6DAD138B1CBB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E093-68EE-4B5D-BFC2-B1C089C51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92E1-B578-4C50-A7BF-5DE772961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E4CC-3F3C-4BFF-953A-63BA2DD1C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94F8-47DF-465C-B9C9-7B2D6C2F6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6EF9-648A-4C76-B14D-343C271BB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21E9-91DD-4BF8-B03F-2880B9731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3F4-C09D-4BA7-8985-458280665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F124-EE4F-4978-8A06-E32A319F0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0AC6-3AC3-46E9-8F26-BCB066E5A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3E76-DCDC-42AD-8104-72C8A19EE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538B-786A-4399-8A40-CC281B7DD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FFC3-7844-44BA-AE28-532B38839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312D-1674-4DF9-A088-DABFFD642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On auxiliary pictures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P0071/JCT3V-G0088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an.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l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x_mask_fla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i] in VPS extension is proposed to indicate what kinds of auxiliary pictures are present in a CV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ful for session negotiation and sub-bitstream extr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DABA-5EB2-4219-BDD1-5C50176F8A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표 9" descr=""/>
          <p:cNvPicPr/>
          <p:nvPr/>
        </p:nvPicPr>
        <p:blipFill>
          <a:blip r:embed="rId1"/>
          <a:stretch/>
        </p:blipFill>
        <p:spPr>
          <a:xfrm>
            <a:off x="1285920" y="2073240"/>
            <a:ext cx="5906880" cy="1792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857160" y="4294800"/>
            <a:ext cx="7643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ps_aux_picture_use_fla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 to 1 specifies that auxiliary pictures are present in a bitstream, and aux_mask_flag[i] is present in VPS. vps_aux_picture_use_flag equal to 0 specifies that auxiliary pictures are not present in a bitstream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x_mask_fla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 i ] equal to 1 indicates that auxiliary pictures with the i-th auxiliay picture type are present in a bitstream. aux_mask_flag [ i ] equal to 0 indicates that auxiliary pictures with the i-th auxialiary picture type are not present in a bitstream. When not present, aux_mask_flag [ i ] is inferred to be equal to 0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yer dependency informatio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endency_fla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 i ][ j ]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endency_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 i ][ j ]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e signalled by grouping a layer with primary pictures and layers with the associated auxiliary pict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a layer with primary pictures and layers with auxiliary pictures associated with the primary pictures have the same layer dependency, a representative layer dependency information is signalled for the grouped lay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2D4-4177-476E-8A6D-A1926E280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표 9" descr=""/>
          <p:cNvPicPr/>
          <p:nvPr/>
        </p:nvPicPr>
        <p:blipFill>
          <a:blip r:embed="rId1"/>
          <a:stretch/>
        </p:blipFill>
        <p:spPr>
          <a:xfrm>
            <a:off x="1639800" y="2786040"/>
            <a:ext cx="6077160" cy="38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3-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constraints for auxiliary pictures are proposed. Those constraints are helpful for en-/decoder implemen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straint 1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present, the value of the slice segment header syntax elements pic_output_flag, no_output_of_prior_pics_flag, slice_pic_order_cnt_lsb, discardable_flag, cross_layer_bla_flag, poc_reset_flag, shall be the same in all slice segment headers of a primary coded picture and the associated auxiliary coded pictur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256F-48CA-45CD-9CF7-0FEE752ADB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3-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bling SAO for auxiliary pic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straint 2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For all slices of auxiliary pictur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lice_sao_luma_flag and slice_sao_chroma_flag shall both be equal to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AuxId[ lId ] is equal to AUX_DEPTH, slice_sao_luma_flag and slice_sao_chroma_flag shall both be equal to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B7C3-0291-4F00-A717-7D28EFF89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3-3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bling deblock filtering for auxiliary pic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straint 2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For all slices of auxiliary pictur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lice_deblocking_filter_disabled_flag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all be equal to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AuxId[ lId ] is equal to AUX_DEPTH, slice_deblocking_filter_disabled_flag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all be equal to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D7A-0420-4632-8557-66363CB2D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3EF0-5F44-40A1-A325-2AA17147AF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4-01-07T02:57:26Z</dcterms:modified>
  <cp:revision>4649</cp:revision>
  <dc:subject/>
  <dc:title>Visual SNHC Tools</dc:title>
</cp:coreProperties>
</file>