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0419-9B69-479E-B0A4-D41DC981ECC9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A4D-5944-4CB0-AD9D-76571D2C8336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712A-BE0F-4C7C-9B33-D6499552A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B38B-9569-420F-A59E-02557857B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87AF-E225-4EE9-A6E9-CD9526031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97D7-0725-4B5B-8ABA-A3B67E46F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E61A-28DC-4118-A04A-722516AE6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3C94-308D-47A8-AF44-F7792F535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EBDF-EC66-41CC-9C04-79304ED81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ADFE-64AC-40FA-9997-D24AC03A4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7A77-7CF9-4842-9BE2-6F65B15BF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342A-F9B9-4D84-AA74-B70087293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3363-1694-4208-9816-9CCED245B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0563-4EE1-4F44-9236-10AA2B24D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E5B3-4B96-4E0F-A331-B463FF3B98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Decoded picture buffer signalling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P0069/JCT3V-G0086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Jan. 20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 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The decoded picture buffer (DPB) size for each output layer set is signalled according to the maximum number of sub-layers of each output layer se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In VPS extension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x_sub_layers_output_layer_set_minus1[ i ] is proposed to indicate the maximum number of sub-layers for the i-th output layer se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max_sub_layers_output_layer_set_minus1[ i ] is present, syntax elements related to DPB-size (max_vps_dec_pic_buffering_minus1[ i ][ k ][ j ], max_vps_num_reorder_pics[ i ][ j ], max_vps_latency_increase_plus1[ i ][ j ]) are signaled as many as the values of max_sub_layers_output_layer_set_minus1[ i ]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wise, the maximum number of each output layer set can be inferred from other syntax elements, without explicit signal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4C50-74A3-4F33-AA0A-E63592CD7E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 syntax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내용 개체 틀 4" descr=""/>
          <p:cNvPicPr/>
          <p:nvPr/>
        </p:nvPicPr>
        <p:blipFill>
          <a:blip r:embed="rId1"/>
          <a:stretch/>
        </p:blipFill>
        <p:spPr>
          <a:xfrm>
            <a:off x="1620720" y="2000160"/>
            <a:ext cx="5907240" cy="3084480"/>
          </a:xfrm>
          <a:prstGeom prst="rect">
            <a:avLst/>
          </a:prstGeom>
          <a:ln w="0">
            <a:noFill/>
          </a:ln>
        </p:spPr>
      </p:pic>
      <p:sp>
        <p:nvSpPr>
          <p:cNvPr id="100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9D76-C271-4325-92DD-36CC55D0E4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 syntax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7F30-A244-4BDE-B03D-3985DE8463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내용 개체 틀 6" descr=""/>
          <p:cNvPicPr/>
          <p:nvPr/>
        </p:nvPicPr>
        <p:blipFill>
          <a:blip r:embed="rId1"/>
          <a:stretch/>
        </p:blipFill>
        <p:spPr>
          <a:xfrm>
            <a:off x="1719360" y="865080"/>
            <a:ext cx="5705280" cy="57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 2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propose that the DPB-size-related syntax elements for sub-layers of each output layer set move to VPS VUI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se syntax elements are informative without affecting the normative decoding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BEB8-2823-4697-AB32-4EFB6ACD67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A695-F86C-47BE-9420-297E419D6F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c</cp:lastModifiedBy>
  <dcterms:modified xsi:type="dcterms:W3CDTF">2014-01-07T04:39:41Z</dcterms:modified>
  <cp:revision>4665</cp:revision>
  <dc:subject/>
  <dc:title>Visual SNHC Tools</dc:title>
</cp:coreProperties>
</file>