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1027-6831-4F63-9CC9-CEDB56EDF8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0124-1C52-462C-A704-FE9B3DCEE5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3A04-B08E-4F80-8C2A-7892233A30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E92F0-4C67-4FBB-8CFD-41062A02A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DF9C-10B8-4E6D-B8D1-8F3170DC4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26261-AD20-42B4-8F03-0C76D8454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C8677-3941-4F10-9C1D-E59236A2E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895BD-2A3B-4F08-BC87-19CCA4AC1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C173E-04FD-4B3F-A968-4E4380454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D39A6-415B-4CB1-9D63-B1E51D34D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94CF9-DAD5-4D58-A492-30BC060D3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467D2-E89E-4DAC-9138-F10B88268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1C43-344D-440B-8AF4-22B7E3A7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AF535-9894-4FD4-93E8-21823D49F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82CF-4421-4516-923D-8FC07FA4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D9F5-C3E9-4AF6-92ED-12ADBEFAA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AC1E-EE88-483D-BA88-027A534E7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F69CD-4357-4CC7-9734-FC113FA1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CC881-5CBB-40E3-BAB2-53CE0D4D1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2174D-BD86-4DBE-85C6-A819A6C62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660A3-DCEB-47DE-B29C-8A239C00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D6EA7-EFB9-413A-894F-70D955D4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5054-B7A6-46AD-B74D-69ACB421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50F96-7D8E-4C3E-BD45-0DDC21C6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6390-8D69-45AF-9A0C-0BD1EA797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8B2D-A7AD-44E7-BA6D-9E34CA70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B23D-5552-4679-8387-B2AC9B19B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5AD2-1F1F-4735-944C-57AAAE50B5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D4D6-9F10-40FE-8710-573259DEBD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066320"/>
            <a:ext cx="7696440" cy="238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66"/>
                </a:solidFill>
                <a:latin typeface="Arial"/>
              </a:rPr>
              <a:t>CE3 related: Results on Limitation of the Range of NBDV</a:t>
            </a:r>
            <a:br>
              <a:rPr sz="4000"/>
            </a:br>
            <a:r>
              <a:rPr b="1" lang="en-US" sz="4000" spc="-1" strike="noStrike">
                <a:solidFill>
                  <a:srgbClr val="330066"/>
                </a:solidFill>
                <a:latin typeface="Arial"/>
              </a:rPr>
              <a:t>(</a:t>
            </a:r>
            <a:r>
              <a:rPr b="1" lang="en-CA" sz="4000" spc="-1" strike="noStrike">
                <a:solidFill>
                  <a:srgbClr val="0000ff"/>
                </a:solidFill>
                <a:latin typeface="Arial"/>
              </a:rPr>
              <a:t>JCT3V-G0082</a:t>
            </a:r>
            <a:r>
              <a:rPr b="1" lang="en-US" sz="4000" spc="-1" strike="noStrike">
                <a:solidFill>
                  <a:srgbClr val="330066"/>
                </a:solidFill>
                <a:latin typeface="Arial"/>
              </a:rPr>
              <a:t>) </a:t>
            </a:r>
            <a:endParaRPr b="1" lang="en-US" sz="4000" spc="-1" strike="noStrike">
              <a:solidFill>
                <a:srgbClr val="330066"/>
              </a:solidFill>
              <a:latin typeface="Arial"/>
            </a:endParaRPr>
          </a:p>
        </p:txBody>
      </p:sp>
      <p:sp>
        <p:nvSpPr>
          <p:cNvPr id="157" name="PlaceHolder 2"/>
          <p:cNvSpPr>
            <a:spLocks noGrp="1"/>
          </p:cNvSpPr>
          <p:nvPr>
            <p:ph type="subTitle"/>
          </p:nvPr>
        </p:nvSpPr>
        <p:spPr>
          <a:xfrm>
            <a:off x="1676160" y="4343400"/>
            <a:ext cx="5638680" cy="1905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 Lu and Lu Yu (</a:t>
            </a:r>
            <a:r>
              <a:rPr b="0" lang="en-US" sz="2800" spc="-1" strike="noStrike">
                <a:solidFill>
                  <a:srgbClr val="000000"/>
                </a:solidFill>
                <a:latin typeface="Arial"/>
              </a:rPr>
              <a:t>yul@zju.edu.c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1</a:t>
            </a:r>
            <a:endParaRPr b="0" lang="en-US" sz="3900" spc="-1" strike="noStrike">
              <a:solidFill>
                <a:srgbClr val="000000"/>
              </a:solidFill>
              <a:latin typeface="Arial"/>
            </a:endParaRPr>
          </a:p>
        </p:txBody>
      </p:sp>
      <p:sp>
        <p:nvSpPr>
          <p:cNvPr id="187"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a limitation can reduce the cache miss when fetching the reference views and save the bandwidth or on-chip memory for hardware design. </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erived NBDV is out of the possible disparity range, it can be improved by the above clipping process. Therefore, the accuracy of NBDV can be improved.</a:t>
            </a:r>
            <a:endParaRPr b="0" lang="en-US" sz="2000" spc="-1" strike="noStrike">
              <a:solidFill>
                <a:srgbClr val="000000"/>
              </a:solidFill>
              <a:latin typeface="Arial"/>
            </a:endParaRPr>
          </a:p>
        </p:txBody>
      </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1</a:t>
            </a:r>
            <a:endParaRPr b="0" lang="en-US" sz="3900" spc="-1" strike="noStrike">
              <a:solidFill>
                <a:srgbClr val="000000"/>
              </a:solidFill>
              <a:latin typeface="Arial"/>
            </a:endParaRPr>
          </a:p>
        </p:txBody>
      </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
          <p:cNvGraphicFramePr/>
          <p:nvPr/>
        </p:nvGraphicFramePr>
        <p:xfrm>
          <a:off x="266760" y="1905120"/>
          <a:ext cx="8496360" cy="4271760"/>
        </p:xfrm>
        <a:graphic>
          <a:graphicData uri="http://schemas.openxmlformats.org/drawingml/2006/table">
            <a:tbl>
              <a:tblPr/>
              <a:tblGrid>
                <a:gridCol w="1496880"/>
                <a:gridCol w="1068480"/>
                <a:gridCol w="1069920"/>
                <a:gridCol w="1214640"/>
                <a:gridCol w="1215720"/>
                <a:gridCol w="1214640"/>
                <a:gridCol w="1216080"/>
              </a:tblGrid>
              <a:tr h="639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video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total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nth PSNR / total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lloon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nd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8%</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83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spaper_CC</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_Fly</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Hall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7%</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Stree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o_Danc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445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hark</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24x7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43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20x108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3%</a:t>
                      </a:r>
                      <a:endParaRPr b="0" lang="en-US" sz="14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2</a:t>
            </a:r>
            <a:endParaRPr b="0" lang="en-US" sz="3900" spc="-1" strike="noStrike">
              <a:solidFill>
                <a:srgbClr val="000000"/>
              </a:solidFill>
              <a:latin typeface="Arial"/>
            </a:endParaRPr>
          </a:p>
        </p:txBody>
      </p:sp>
      <p:sp>
        <p:nvSpPr>
          <p:cNvPr id="195"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 depth map of the current texture view contains all possible depth values. Find a maximum disparity (DispMax) and a minimum disparity (DispMin) between the current view and reference view. </a:t>
            </a:r>
            <a:r>
              <a:rPr b="1" lang="en-US" sz="2000" spc="-1" strike="noStrike">
                <a:solidFill>
                  <a:srgbClr val="000000"/>
                </a:solidFill>
                <a:latin typeface="Arial"/>
              </a:rPr>
              <a:t>This is as the same as Method 1.</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the NBDV. During this process, if a candidate DV is out of the range [DispMin, DispMax], it will be ignored and the derivation process continues, otherwise, clip the vertical component of this candidate DV to [-CtbSizeY, CtbSizeY] and use this candidate DV as the final NBDV, where CtbSizeY is the size of LCU.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NBDV is derived, use the defualt DV with horizontal component equal to (DispMin+DispMax)&gt;&gt;1 and vertical component equal to 0.</a:t>
            </a:r>
            <a:endParaRPr b="0" lang="en-US" sz="2000" spc="-1" strike="noStrike">
              <a:solidFill>
                <a:srgbClr val="000000"/>
              </a:solidFill>
              <a:latin typeface="Arial"/>
            </a:endParaRPr>
          </a:p>
          <a:p>
            <a:pPr marL="457200" indent="-45720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2</a:t>
            </a:r>
            <a:endParaRPr b="0" lang="en-US" sz="3900" spc="-1" strike="noStrike">
              <a:solidFill>
                <a:srgbClr val="000000"/>
              </a:solidFill>
              <a:latin typeface="Arial"/>
            </a:endParaRPr>
          </a:p>
        </p:txBody>
      </p:sp>
      <p:sp>
        <p:nvSpPr>
          <p:cNvPr id="198"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2 is similar to Method 1, the range of NBDV and the possible accessed area in reference view can also be limited into a same rectangle area.  Thus method 2 can also bring the benefits in hardware implementation as method 1.</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2 also eliminates those candidate DVs that fall out of the disparity range, thus a more accurate NBDV may be found.</a:t>
            </a:r>
            <a:endParaRPr b="0" lang="en-US" sz="2000" spc="-1" strike="noStrike">
              <a:solidFill>
                <a:srgbClr val="000000"/>
              </a:solidFill>
              <a:latin typeface="Arial"/>
            </a:endParaRPr>
          </a:p>
        </p:txBody>
      </p:sp>
      <p:sp>
        <p:nvSpPr>
          <p:cNvPr id="1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2</a:t>
            </a:r>
            <a:endParaRPr b="0" lang="en-US" sz="3900" spc="-1" strike="noStrike">
              <a:solidFill>
                <a:srgbClr val="000000"/>
              </a:solidFill>
              <a:latin typeface="Arial"/>
            </a:endParaRPr>
          </a:p>
        </p:txBody>
      </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
          <p:cNvGraphicFramePr/>
          <p:nvPr/>
        </p:nvGraphicFramePr>
        <p:xfrm>
          <a:off x="266760" y="1905120"/>
          <a:ext cx="8496360" cy="4271760"/>
        </p:xfrm>
        <a:graphic>
          <a:graphicData uri="http://schemas.openxmlformats.org/drawingml/2006/table">
            <a:tbl>
              <a:tblPr/>
              <a:tblGrid>
                <a:gridCol w="1496880"/>
                <a:gridCol w="1068480"/>
                <a:gridCol w="1069920"/>
                <a:gridCol w="1214640"/>
                <a:gridCol w="1215720"/>
                <a:gridCol w="1214640"/>
                <a:gridCol w="1216080"/>
              </a:tblGrid>
              <a:tr h="639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video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total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nth PSNR / total bitrat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lloon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nd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83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spaper_CC</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_Fly</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Hall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27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Stree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o_Danc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445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hark</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24x7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43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20x108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268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a:t>
            </a:r>
            <a:endParaRPr b="1" lang="en-US" sz="3900" spc="-1" strike="noStrike">
              <a:solidFill>
                <a:srgbClr val="330066"/>
              </a:solidFill>
              <a:latin typeface="Arial"/>
            </a:endParaRPr>
          </a:p>
        </p:txBody>
      </p:sp>
      <p:sp>
        <p:nvSpPr>
          <p:cNvPr id="205" name="PlaceHolder 2"/>
          <p:cNvSpPr>
            <a:spLocks noGrp="1"/>
          </p:cNvSpPr>
          <p:nvPr>
            <p:ph/>
          </p:nvPr>
        </p:nvSpPr>
        <p:spPr>
          <a:xfrm>
            <a:off x="457200" y="19051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oposal gives two methods to limit the range of NBDV.</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Both of the two methods can limit the range NBDV into a rectangle area</a:t>
            </a:r>
            <a:r>
              <a:rPr b="0" lang="en-US" sz="2400" spc="-1" strike="noStrike">
                <a:solidFill>
                  <a:srgbClr val="000000"/>
                </a:solidFill>
                <a:latin typeface="Arial"/>
              </a:rPr>
              <a:t>. Such a limitation can reduce the cache miss when fetching the reference views and save the bandwidth or on-chip memory for hardware design.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posal can also improve the accuracy of NBDV and has some coding performance improvemen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mmend adopting the Method 1 because method 1 is simpler and without degradation of coding efficiency compared to Method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anks ZTE for crosscheck!</a:t>
            </a:r>
            <a:endParaRPr b="0" lang="en-US" sz="3900" spc="-1" strike="noStrike">
              <a:solidFill>
                <a:srgbClr val="000000"/>
              </a:solidFill>
              <a:latin typeface="Arial"/>
            </a:endParaRPr>
          </a:p>
          <a:p>
            <a:pPr marL="343080" indent="-343080">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Q &amp; 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ackgroud</a:t>
            </a:r>
            <a:endParaRPr b="1" lang="en-US" sz="3900" spc="-1" strike="noStrike">
              <a:solidFill>
                <a:srgbClr val="330066"/>
              </a:solidFill>
              <a:latin typeface="Arial"/>
            </a:endParaRPr>
          </a:p>
        </p:txBody>
      </p:sp>
      <p:sp>
        <p:nvSpPr>
          <p:cNvPr id="159" name="PlaceHolder 2"/>
          <p:cNvSpPr>
            <a:spLocks noGrp="1"/>
          </p:cNvSpPr>
          <p:nvPr>
            <p:ph/>
          </p:nvPr>
        </p:nvSpPr>
        <p:spPr>
          <a:xfrm>
            <a:off x="457200" y="16765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ing Block Disparity Vector (NBDV) is a estimated disparity vector used for IVMP, VSP and ARP. NBDV is also used to generate the DoNBDV when depth_refinement_flag is equal to 1.</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BDV is derived from the disparity vectors of DCP-coded neighboring bloc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 (1)</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rity vector represents the distance of the same object in different views. While the disparity vector of DCP neighboring blocks is derived by motion estimation, which takes both rate and distortion under consideration. Therefore, the disparity vector of DCP neighboring blocks may not be accu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 (2)</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BDV is used to fetch the texture and depth maps of the reference view.</a:t>
            </a:r>
            <a:endParaRPr b="0" lang="en-US" sz="2400" spc="-1" strike="noStrike">
              <a:solidFill>
                <a:srgbClr val="000000"/>
              </a:solidFill>
              <a:latin typeface="Arial"/>
            </a:endParaRPr>
          </a:p>
        </p:txBody>
      </p:sp>
      <p:graphicFrame>
        <p:nvGraphicFramePr>
          <p:cNvPr id="165" name="对象 1"/>
          <p:cNvGraphicFramePr/>
          <p:nvPr/>
        </p:nvGraphicFramePr>
        <p:xfrm>
          <a:off x="2209680" y="2590920"/>
          <a:ext cx="5181840" cy="3992400"/>
        </p:xfrm>
        <a:graphic>
          <a:graphicData uri="http://schemas.openxmlformats.org/presentationml/2006/ole">
            <p:oleObj r:id="rId1" spid="">
              <p:embed/>
              <p:pic>
                <p:nvPicPr>
                  <p:cNvPr id="166" name="对象 1" descr=""/>
                  <p:cNvPicPr/>
                  <p:nvPr/>
                </p:nvPicPr>
                <p:blipFill>
                  <a:blip r:embed="rId2"/>
                  <a:stretch/>
                </p:blipFill>
                <p:spPr>
                  <a:xfrm>
                    <a:off x="2209680" y="2590920"/>
                    <a:ext cx="5181840" cy="39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 (2)</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BDV is used to fetch the texture and depth maps of the reference view.</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urrent design, the range of NBDV is not limited. However, the range of all the possible disparity among two views is limited and is often much smaller.</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hardware implementation, the current design brings more cache miss and may request more bandwidth or on-chip memory than it really needs, especially for the coded depth map, which will only be accessed by NBD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posed method</a:t>
            </a:r>
            <a:endParaRPr b="0" lang="en-US" sz="3900" spc="-1" strike="noStrike">
              <a:solidFill>
                <a:srgbClr val="000000"/>
              </a:solidFill>
              <a:latin typeface="Arial"/>
            </a:endParaRPr>
          </a:p>
        </p:txBody>
      </p:sp>
      <p:sp>
        <p:nvSpPr>
          <p:cNvPr id="171"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olve the above problems, we propose to limit the range of NBDV when depth_refinement_flag equals to 1</a:t>
            </a:r>
            <a:r>
              <a:rPr b="0" lang="zh-CN" sz="2400" spc="-1" strike="noStrike">
                <a:solidFill>
                  <a:srgbClr val="000000"/>
                </a:solidFill>
                <a:latin typeface="Arial"/>
              </a:rPr>
              <a:t> </a:t>
            </a:r>
            <a:r>
              <a:rPr b="0" lang="en-US" sz="2400" spc="-1" strike="noStrike">
                <a:solidFill>
                  <a:srgbClr val="000000"/>
                </a:solidFill>
                <a:latin typeface="Arial"/>
              </a:rPr>
              <a:t>under the following considerations:</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range of all the possible disparity among two views is limited. This range can be calculated by assuming the depth map of the current view contains all possible depth values, e.g. from 0 to 255 when bit depth is 8.</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disparity vectors derived by motion estimation are not very accurate, even fall out of the possible disparity range sometimes. </a:t>
            </a: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1</a:t>
            </a:r>
            <a:endParaRPr b="0" lang="en-US" sz="3900" spc="-1" strike="noStrike">
              <a:solidFill>
                <a:srgbClr val="000000"/>
              </a:solidFill>
              <a:latin typeface="Arial"/>
            </a:endParaRPr>
          </a:p>
        </p:txBody>
      </p:sp>
      <p:sp>
        <p:nvSpPr>
          <p:cNvPr id="174"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 depth map of the current texture view contains all possible depth values. Find a maximum disparity (DispMax) and a minimum disparity (DispMin) between the current view and reference view. Note that DispMax and DispMin can be calculated once per slic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NBDV using current method.</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NBDV can be derived, clip the horizontal component of NBDV to [DispMin, DispMax] and clip the vertical component of NBDV to [-CtbSizeY, CtbSizeY], where CtbSizeY is the size of LCU.</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NBDV is derived, use the defualt DV with horizontal component equal to (DispMin+DispMax)&gt;&gt;1 and vertical component equal to 0.</a:t>
            </a:r>
            <a:endParaRPr b="0" lang="en-US" sz="2000" spc="-1" strike="noStrike">
              <a:solidFill>
                <a:srgbClr val="000000"/>
              </a:solidFill>
              <a:latin typeface="Arial"/>
            </a:endParaRPr>
          </a:p>
          <a:p>
            <a:pPr marL="457200" indent="-45720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1</a:t>
            </a:r>
            <a:endParaRPr b="0" lang="en-US" sz="3900" spc="-1" strike="noStrike">
              <a:solidFill>
                <a:srgbClr val="000000"/>
              </a:solidFill>
              <a:latin typeface="Arial"/>
            </a:endParaRPr>
          </a:p>
        </p:txBody>
      </p:sp>
      <p:sp>
        <p:nvSpPr>
          <p:cNvPr id="177"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pplying Method 1, the range of NBDV and the possible accessed area in reference view can be limited into a rectangle area, as the green rectangle area shown below.</a:t>
            </a:r>
            <a:endParaRPr b="0" lang="en-US" sz="2000" spc="-1" strike="noStrike">
              <a:solidFill>
                <a:srgbClr val="000000"/>
              </a:solidFill>
              <a:latin typeface="Arial"/>
            </a:endParaRPr>
          </a:p>
        </p:txBody>
      </p:sp>
      <p:sp>
        <p:nvSpPr>
          <p:cNvPr id="1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对象 2"/>
          <p:cNvGraphicFramePr/>
          <p:nvPr/>
        </p:nvGraphicFramePr>
        <p:xfrm>
          <a:off x="2133720" y="2741760"/>
          <a:ext cx="5333760" cy="4116240"/>
        </p:xfrm>
        <a:graphic>
          <a:graphicData uri="http://schemas.openxmlformats.org/presentationml/2006/ole">
            <p:oleObj r:id="rId1" spid="">
              <p:embed/>
              <p:pic>
                <p:nvPicPr>
                  <p:cNvPr id="180" name="对象 2" descr=""/>
                  <p:cNvPicPr/>
                  <p:nvPr/>
                </p:nvPicPr>
                <p:blipFill>
                  <a:blip r:embed="rId2"/>
                  <a:stretch/>
                </p:blipFill>
                <p:spPr>
                  <a:xfrm>
                    <a:off x="2133720" y="2741760"/>
                    <a:ext cx="5333760" cy="41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 1</a:t>
            </a:r>
            <a:endParaRPr b="0" lang="en-US" sz="3900" spc="-1" strike="noStrike">
              <a:solidFill>
                <a:srgbClr val="000000"/>
              </a:solidFill>
              <a:latin typeface="Arial"/>
            </a:endParaRPr>
          </a:p>
        </p:txBody>
      </p:sp>
      <p:sp>
        <p:nvSpPr>
          <p:cNvPr id="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
          <p:cNvGraphicFramePr/>
          <p:nvPr/>
        </p:nvGraphicFramePr>
        <p:xfrm>
          <a:off x="457200" y="1676520"/>
          <a:ext cx="8229600" cy="4778280"/>
        </p:xfrm>
        <a:graphic>
          <a:graphicData uri="http://schemas.openxmlformats.org/drawingml/2006/table">
            <a:tbl>
              <a:tblPr/>
              <a:tblGrid>
                <a:gridCol w="1538280"/>
                <a:gridCol w="847800"/>
                <a:gridCol w="1079280"/>
                <a:gridCol w="1078200"/>
                <a:gridCol w="952200"/>
                <a:gridCol w="952560"/>
                <a:gridCol w="878040"/>
                <a:gridCol w="903240"/>
              </a:tblGrid>
              <a:tr h="42228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cccc00"/>
                    </a:solidFill>
                  </a:tcPr>
                </a:tc>
                <a:tc gridSpan="3">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 Limitatio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 Limitatio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o</a:t>
                      </a:r>
                      <a:endParaRPr b="0" lang="en-US" sz="16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2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th</a:t>
                      </a:r>
                      <a:endParaRPr b="0" lang="en-US" sz="16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th</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ececc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loon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43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50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r>
              <a:tr h="42228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nd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43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50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8744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spaper_CC</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43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72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2228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_Fl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2228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znan_Hall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87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8744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znan_Stree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45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2372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_Danc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6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2228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ark</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8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2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22280">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cc00"/>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8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005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7.2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3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8:35:24Z</dcterms:created>
  <dc:creator>Yin Zhao</dc:creator>
  <dc:description/>
  <dc:language>en-US</dc:language>
  <cp:lastModifiedBy>MCL</cp:lastModifiedBy>
  <dcterms:modified xsi:type="dcterms:W3CDTF">2014-01-11T08:14:31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