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9B45-BF58-4BEB-8EA9-6D8346B0D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56D9-57BC-4CEB-89BF-08C11AF45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1965-6E15-46D2-873E-851E41B0C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60DE-7D91-422C-8737-2B173F11F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DA39-734E-44F5-B861-A25339729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F976-0328-4621-B7BC-EE6A90C30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CF0A-F4B0-4D66-99A1-E1C318F29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64B0-0761-4376-A534-E91C7E3CB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1B49-2004-4781-9344-75C0D4036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93D5-F45F-4831-B4CF-F541DEEC9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43BC-D0D1-4E42-B49F-B54EAA230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CDBC-4849-4194-8D7D-EC9F6B264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509E-994C-4168-9429-F82FF6A47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G00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G00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D-CE1 related: Restricted bi-prediction for sub-P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Jian-Liang Lin, Kai Zhang, Yi-Wen Che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able the bi-prediction for sub-PU smaller than 8x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ly disable bi-prediction for small sub-PU in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able bi-prediction for small Sub-PU in both inter-view motion prediction and V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igned with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% BD-rate saving for synthesized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AD07-9020-4F98-8C8D-E7580B7035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PU size in H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U inter-view motion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TC, the sub-PU can be smaller than 8x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U=16x4/4x16, the sub-PU=8x4/4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-PU size always 8x4 or 4x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HEVC, the bi-prediction in small PU sizes (8x4, 4x8) is disab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reduce the memor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ever, the sub-PU related methods in 3D-HEVC miss the restri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worst case memory bandwidth could be unaccep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ADAE-B795-4BC9-9C89-ADC2741F10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uggestion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able the bi-prediction for sub-PU smaller than 8x8 in inter-view motion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i-prediction for VSP is kept since only horizontal interpolation is used for V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ediction in list1 is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D303-8077-41FC-B18C-7BE08183D2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uggestion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371600"/>
            <a:ext cx="767412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able the bi-prediction for sub-PU smaller than 8x8 in both inter-view motion prediction and V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ediction in list1 is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0C2A-70D1-437B-A538-4B61EC1CFF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HTM9.0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757-5002-4267-A015-5EF1522708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050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able the bi-prediction for sub-PU smaller than 8x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ly disable bi-prediction for small sub-PU in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able bi-prediction for small Sub-PU in both inter-view motion prediction and V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igned with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% BD-rate saving for synthesized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696C-33A7-4E28-99FF-601A354D41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Jicheng</cp:lastModifiedBy>
  <dcterms:modified xsi:type="dcterms:W3CDTF">2014-01-11T04:20:57Z</dcterms:modified>
  <cp:revision>399</cp:revision>
  <dc:subject/>
  <dc:title>In slice header</dc:title>
</cp:coreProperties>
</file>