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38F17-01A8-4779-80FE-5977175F73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06D0F-848D-4590-B6E8-BC30089308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05FD8-C9D0-4024-93CE-B1622E6D23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D5ED1-0D22-49A9-ACFA-81EA3B78E7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68199-01CD-4B8B-B011-A82A6E6470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FA42B-A43A-4EDD-8B02-4CD409F0DB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8CB77-E3A8-4F7C-81E1-5F1D7DA220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C27A0-0AE6-492F-BF52-67C73B3FFB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CECC3-9F41-4F36-ACA2-9BAAABCB52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ECF9A-5C75-45BC-8624-CBF7E45BB7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DB455-6727-490F-B96B-F73165B9C4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73C53-0696-4AF9-A99D-258FF8C7BE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381A-4254-48FE-AA92-53157F41BA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3V-G00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1" descr="cover_back"/>
          <p:cNvPicPr/>
          <p:nvPr/>
        </p:nvPicPr>
        <p:blipFill>
          <a:blip r:embed="rId2"/>
          <a:stretch/>
        </p:blipFill>
        <p:spPr>
          <a:xfrm>
            <a:off x="0" y="1974960"/>
            <a:ext cx="9163080" cy="3352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6" descr="bar_white_bot"/>
          <p:cNvPicPr/>
          <p:nvPr/>
        </p:nvPicPr>
        <p:blipFill>
          <a:blip r:embed="rId3"/>
          <a:srcRect l="0" t="0" r="0" b="1708"/>
          <a:stretch/>
        </p:blipFill>
        <p:spPr>
          <a:xfrm>
            <a:off x="0" y="530388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8" descr="bar_white_2"/>
          <p:cNvPicPr/>
          <p:nvPr/>
        </p:nvPicPr>
        <p:blipFill>
          <a:blip r:embed="rId4"/>
          <a:stretch/>
        </p:blipFill>
        <p:spPr>
          <a:xfrm>
            <a:off x="0" y="0"/>
            <a:ext cx="9144000" cy="2009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4" descr="bar_white_2"/>
          <p:cNvPicPr/>
          <p:nvPr/>
        </p:nvPicPr>
        <p:blipFill>
          <a:blip r:embed="rId5"/>
          <a:srcRect l="47468" t="0" r="4235" b="0"/>
          <a:stretch/>
        </p:blipFill>
        <p:spPr>
          <a:xfrm>
            <a:off x="4178160" y="0"/>
            <a:ext cx="4416480" cy="20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9" descr="logo"/>
          <p:cNvPicPr/>
          <p:nvPr/>
        </p:nvPicPr>
        <p:blipFill>
          <a:blip r:embed="rId6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5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3V-G00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7" descr="bar_white_bot"/>
          <p:cNvPicPr/>
          <p:nvPr/>
        </p:nvPicPr>
        <p:blipFill>
          <a:blip r:embed="rId7"/>
          <a:srcRect l="36562" t="0" r="27741" b="1708"/>
          <a:stretch/>
        </p:blipFill>
        <p:spPr>
          <a:xfrm>
            <a:off x="3151080" y="5303880"/>
            <a:ext cx="3264120" cy="1554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8" descr="bar_white_bot"/>
          <p:cNvPicPr/>
          <p:nvPr/>
        </p:nvPicPr>
        <p:blipFill>
          <a:blip r:embed="rId8"/>
          <a:srcRect l="0" t="95606" r="0" b="0"/>
          <a:stretch/>
        </p:blipFill>
        <p:spPr>
          <a:xfrm>
            <a:off x="0" y="677052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3D-CE1 related: Restricted bi-prediction for sub-P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9600" y="4079880"/>
            <a:ext cx="8524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cheng An, Jian-Liang Lin, Kai Zhang, Yi-Wen Chen, and Shawmin 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all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opose to disable the bi-prediction for sub-PU smaller than 8x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ugges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nly disable bi-prediction for small sub-PU in inter-view motion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ugges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isable bi-prediction for small sub-PU in both inter-view motion prediction and V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ligned with HEV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2% BD-rate saving for synthesized vie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灯片编号占位符 7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0583-3F77-47E6-AFA6-136A1DC3A4D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-PU size in HT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-PU inter-view motion 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CTC, the sub-PU can be smaller than 8x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PU=16x4/4x16, the sub-PU=8x4/4x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b-PU size = 8x4 or 4x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 HEVC, the bi-prediction in small PU sizes (8x4, 4x8) is disabl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o reduce the memory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owever, the sub-PU related methods in 3D-HEVC miss the restri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worst case memory bandwidth could be unaccep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灯片编号占位符 7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2020-D02C-4512-891D-2ED904619DC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sugges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sable the bi-prediction for sub-PU smaller than 8x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ugges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nly disable bi-prediction for small sub-PU in inter-view motion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ugges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isable bi-prediction for small sub-PU in both inter-view motion prediction and V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ligned with HEV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2% BD-rate saving for synthesized vie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灯片编号占位符 7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C579-39D7-4F86-BD62-897CF9D1A94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on HTM9.0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灯片编号占位符 7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BC63-07F9-4447-B64D-D5219D35E36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212760" y="2209680"/>
            <a:ext cx="8702640" cy="30481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1447920" y="567864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crosschecked and confirmed in JCT3V-G0157 (N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tk02478</cp:lastModifiedBy>
  <dcterms:modified xsi:type="dcterms:W3CDTF">2014-01-11T19:43:30Z</dcterms:modified>
  <cp:revision>405</cp:revision>
  <dc:subject/>
  <dc:title>In slice head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143586224</vt:r8>
  </property>
  <property fmtid="{D5CDD505-2E9C-101B-9397-08002B2CF9AE}" pid="3" name="_AuthorEmail">
    <vt:lpwstr>jl.lin@mediatek.com</vt:lpwstr>
  </property>
  <property fmtid="{D5CDD505-2E9C-101B-9397-08002B2CF9AE}" pid="4" name="_AuthorEmailDisplayName">
    <vt:lpwstr>JL Lin (林建良)</vt:lpwstr>
  </property>
  <property fmtid="{D5CDD505-2E9C-101B-9397-08002B2CF9AE}" pid="5" name="_EmailSubject">
    <vt:lpwstr>JCT3V-G0069.ppt</vt:lpwstr>
  </property>
  <property fmtid="{D5CDD505-2E9C-101B-9397-08002B2CF9AE}" pid="6" name="_NewReviewCycle">
    <vt:lpwstr/>
  </property>
</Properties>
</file>