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9129-C833-459F-A665-EAB0A7AC3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8A9F-E7AA-4DB4-971F-1D42C8ECF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010E-B0FC-4E21-8025-EAD132319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F7AC-14E3-4747-BD31-32686F1BA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381E-9956-484C-BC5A-C67AA9C1E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7536-D580-4F1B-A76B-229565BEE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07AF-FAB7-425F-BE67-CCE3616C4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7E77-380B-4E98-A676-CF28C8E7C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F913-BE1C-4003-A0C8-3F8035D7E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3B4B-337C-44A3-98BE-6833D291A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7C40-4B35-48B5-8253-3DC4DF8A7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C6B6-7683-4EDC-B7F0-45C3752F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54E5-ECDD-4CB0-9B79-6E0ECF89339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3V-G0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3V-G0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D-CE1 related: Deblocking for sub-PU 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the sub-PU edge location incorrec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sub-PU edge as TU 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split form CU but sub-PU split from 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some locations of edge are set in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762120" y="50292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1371600" y="50292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762120" y="5638680"/>
            <a:ext cx="60948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1371600" y="5638680"/>
            <a:ext cx="60948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"/>
          <p:cNvSpPr/>
          <p:nvPr/>
        </p:nvSpPr>
        <p:spPr>
          <a:xfrm>
            <a:off x="1981080" y="5029200"/>
            <a:ext cx="60984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0"/>
          <p:cNvSpPr/>
          <p:nvPr/>
        </p:nvSpPr>
        <p:spPr>
          <a:xfrm>
            <a:off x="2590920" y="50292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1"/>
          <p:cNvSpPr/>
          <p:nvPr/>
        </p:nvSpPr>
        <p:spPr>
          <a:xfrm>
            <a:off x="1981080" y="5638680"/>
            <a:ext cx="60984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2"/>
          <p:cNvSpPr/>
          <p:nvPr/>
        </p:nvSpPr>
        <p:spPr>
          <a:xfrm>
            <a:off x="2590920" y="5638680"/>
            <a:ext cx="60948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3"/>
          <p:cNvSpPr/>
          <p:nvPr/>
        </p:nvSpPr>
        <p:spPr>
          <a:xfrm>
            <a:off x="762120" y="3809880"/>
            <a:ext cx="2438280" cy="121932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121932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x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标注 32"/>
          <p:cNvSpPr/>
          <p:nvPr/>
        </p:nvSpPr>
        <p:spPr>
          <a:xfrm>
            <a:off x="3276720" y="6248520"/>
            <a:ext cx="1066680" cy="457200"/>
          </a:xfrm>
          <a:prstGeom prst="wedgeRoundRectCallout">
            <a:avLst>
              <a:gd name="adj1" fmla="val -88601"/>
              <a:gd name="adj2" fmla="val -96851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右箭头 33"/>
          <p:cNvSpPr/>
          <p:nvPr/>
        </p:nvSpPr>
        <p:spPr>
          <a:xfrm>
            <a:off x="3581280" y="4343400"/>
            <a:ext cx="1828800" cy="1295280"/>
          </a:xfrm>
          <a:prstGeom prst="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s TU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4"/>
          <p:cNvSpPr/>
          <p:nvPr/>
        </p:nvSpPr>
        <p:spPr>
          <a:xfrm>
            <a:off x="5562720" y="510552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5"/>
          <p:cNvSpPr/>
          <p:nvPr/>
        </p:nvSpPr>
        <p:spPr>
          <a:xfrm>
            <a:off x="6172200" y="510552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6"/>
          <p:cNvSpPr/>
          <p:nvPr/>
        </p:nvSpPr>
        <p:spPr>
          <a:xfrm>
            <a:off x="5562720" y="57150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7"/>
          <p:cNvSpPr/>
          <p:nvPr/>
        </p:nvSpPr>
        <p:spPr>
          <a:xfrm>
            <a:off x="6172200" y="57150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8"/>
          <p:cNvSpPr/>
          <p:nvPr/>
        </p:nvSpPr>
        <p:spPr>
          <a:xfrm>
            <a:off x="6781680" y="5105520"/>
            <a:ext cx="60984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9"/>
          <p:cNvSpPr/>
          <p:nvPr/>
        </p:nvSpPr>
        <p:spPr>
          <a:xfrm>
            <a:off x="7391520" y="510552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0"/>
          <p:cNvSpPr/>
          <p:nvPr/>
        </p:nvSpPr>
        <p:spPr>
          <a:xfrm>
            <a:off x="6781680" y="5715000"/>
            <a:ext cx="60984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1"/>
          <p:cNvSpPr/>
          <p:nvPr/>
        </p:nvSpPr>
        <p:spPr>
          <a:xfrm>
            <a:off x="7391520" y="57150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2"/>
          <p:cNvSpPr/>
          <p:nvPr/>
        </p:nvSpPr>
        <p:spPr>
          <a:xfrm>
            <a:off x="5562720" y="3886200"/>
            <a:ext cx="1218960" cy="121932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3"/>
          <p:cNvSpPr/>
          <p:nvPr/>
        </p:nvSpPr>
        <p:spPr>
          <a:xfrm>
            <a:off x="6019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x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4"/>
          <p:cNvSpPr/>
          <p:nvPr/>
        </p:nvSpPr>
        <p:spPr>
          <a:xfrm>
            <a:off x="6781680" y="3886200"/>
            <a:ext cx="1219320" cy="121932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标注 45"/>
          <p:cNvSpPr/>
          <p:nvPr/>
        </p:nvSpPr>
        <p:spPr>
          <a:xfrm>
            <a:off x="7924680" y="6248520"/>
            <a:ext cx="1067040" cy="457200"/>
          </a:xfrm>
          <a:prstGeom prst="wedgeRoundRectCallout">
            <a:avLst>
              <a:gd name="adj1" fmla="val -68740"/>
              <a:gd name="adj2" fmla="val -91972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46"/>
          <p:cNvSpPr/>
          <p:nvPr/>
        </p:nvSpPr>
        <p:spPr>
          <a:xfrm>
            <a:off x="6477120" y="4114800"/>
            <a:ext cx="533160" cy="8380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47"/>
          <p:cNvSpPr/>
          <p:nvPr/>
        </p:nvSpPr>
        <p:spPr>
          <a:xfrm>
            <a:off x="7543800" y="3200400"/>
            <a:ext cx="1447920" cy="533520"/>
          </a:xfrm>
          <a:prstGeom prst="wedgeRoundRectCallout">
            <a:avLst>
              <a:gd name="adj1" fmla="val -86342"/>
              <a:gd name="adj2" fmla="val 194208"/>
              <a:gd name="adj3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n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 cases are not handl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U is AMP partition, then the sub-PU edges is not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PU size not correct for VS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CU-&gt;getSlice()-&gt;getVPS()-&gt;getSubPULog2Size( pcCU-&gt;getSlice()-&gt;getLayerId()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ag to derive sub-PU size for setting TU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 flag is only for sub-PU IVMP, not for V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SP, the sub-PU size should be 8x4 or 4x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TT G0148 VSP sub-PU deblocking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andle the VSP sub-PU 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-PU edge for sub-PU inter-view motion prediction is not hand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7BDB-AD52-4F25-922C-01E2AAEB327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Sub-PU edge as TU edge for D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blocking, the cbf flags of the two participating blocks should be checked for a TU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oth cbf=0, then there is no transform artifacts need to be filt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n there is transform artifacts need to be fi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sub-PU edge is actually not a TU edge, and has no transform artifacts, so checking cbf is 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result in unnecessary filtering if there is cbf!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-PU edge should be set as PU edge instead of TU edge for deblocki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7315200" y="5105520"/>
            <a:ext cx="68580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001000" y="5105520"/>
            <a:ext cx="68580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6"/>
          <p:cNvSpPr/>
          <p:nvPr/>
        </p:nvSpPr>
        <p:spPr>
          <a:xfrm>
            <a:off x="8001000" y="4800600"/>
            <a:ext cx="0" cy="1295280"/>
          </a:xfrm>
          <a:prstGeom prst="line">
            <a:avLst/>
          </a:prstGeom>
          <a:ln w="284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the sub-PU edge location incorrec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heck the VSP flag of the left-corner of current CU, so many cases are not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CU is 2NxN partition and the bottom PU uses VSP, the cases are not handled, i.e., the sub-PU edge is not fi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2743200" y="50292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6"/>
          <p:cNvSpPr/>
          <p:nvPr/>
        </p:nvSpPr>
        <p:spPr>
          <a:xfrm>
            <a:off x="3352680" y="5029200"/>
            <a:ext cx="60984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7"/>
          <p:cNvSpPr/>
          <p:nvPr/>
        </p:nvSpPr>
        <p:spPr>
          <a:xfrm>
            <a:off x="2743200" y="5638680"/>
            <a:ext cx="60948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8"/>
          <p:cNvSpPr/>
          <p:nvPr/>
        </p:nvSpPr>
        <p:spPr>
          <a:xfrm>
            <a:off x="3352680" y="5638680"/>
            <a:ext cx="60984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>
            <a:off x="3962520" y="50292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4572000" y="5029200"/>
            <a:ext cx="609480" cy="60948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1"/>
          <p:cNvSpPr/>
          <p:nvPr/>
        </p:nvSpPr>
        <p:spPr>
          <a:xfrm>
            <a:off x="3962520" y="5638680"/>
            <a:ext cx="60948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4572000" y="5638680"/>
            <a:ext cx="609480" cy="60984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2743200" y="3809880"/>
            <a:ext cx="2438280" cy="1219320"/>
          </a:xfrm>
          <a:prstGeom prst="rect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1"/>
          <p:cNvSpPr/>
          <p:nvPr/>
        </p:nvSpPr>
        <p:spPr>
          <a:xfrm>
            <a:off x="3200400" y="3287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x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标注 32"/>
          <p:cNvSpPr/>
          <p:nvPr/>
        </p:nvSpPr>
        <p:spPr>
          <a:xfrm>
            <a:off x="5257800" y="6172200"/>
            <a:ext cx="1219320" cy="533520"/>
          </a:xfrm>
          <a:prstGeom prst="wedgeRoundRectCallout">
            <a:avLst>
              <a:gd name="adj1" fmla="val -88601"/>
              <a:gd name="adj2" fmla="val -96851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P Sub-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29"/>
          <p:cNvSpPr/>
          <p:nvPr/>
        </p:nvSpPr>
        <p:spPr>
          <a:xfrm>
            <a:off x="5257800" y="3886200"/>
            <a:ext cx="1219320" cy="533520"/>
          </a:xfrm>
          <a:prstGeom prst="wedgeRoundRectCallout">
            <a:avLst>
              <a:gd name="adj1" fmla="val -117870"/>
              <a:gd name="adj2" fmla="val 4949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locking for sub-PU edge as PU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U edge for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U edge for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%, 0.5% BD-rate saving for video1 and vide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 BD-rate saving for synthesize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DCB6-12AA-4061-98E0-41404E63FAB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PU based processing in H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U inter-view motion prediction and V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U is divided into multiple sub-P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-PU has its own motion parameters for motion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deblocking process is still the same as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U and TU edges can be de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-PU edges are not considered for de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87C5-4CAC-4441-9863-3539AF3B97E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371600"/>
            <a:ext cx="767412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sub-PU edge to PU edge for deblo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-PU edge and PU edge have the same feature for deblocking, i.e., the two blocks of one edge may have different motion v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 VSP, store the finally used motion vectors for each sub-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ame as JCT3V-F01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B3AE-615C-4769-B15D-B67BBEDC606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HTM9.0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3B50-153E-4766-B11B-5AF6CF57268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49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locking for sub-PU edge as PU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U edge for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PU edge for V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%, 0.5% BD-rate saving for video1 and vide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 BD-rate saving for synthesize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7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4497-873F-4853-9A0A-03AB489A7A7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 F0135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Sub-PU edge as TU edge for D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blocking, the cbf flags of the two participating blocks should be checked for a TU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oth cbf=0, then there is no transform artifacts need to be filt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n there is transform artifacts need to be fi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sub-PU edge is actually not a TU edge, and has no transform artifacts, so checking cbf is 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result in unnecessary filtering if there is cbf!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-PU edge should be set as PU edge instead of TU edge for deblocki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7315200" y="5105520"/>
            <a:ext cx="68580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8001000" y="5105520"/>
            <a:ext cx="685800" cy="685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6"/>
          <p:cNvSpPr/>
          <p:nvPr/>
        </p:nvSpPr>
        <p:spPr>
          <a:xfrm>
            <a:off x="8001000" y="4800600"/>
            <a:ext cx="0" cy="1295280"/>
          </a:xfrm>
          <a:prstGeom prst="line">
            <a:avLst/>
          </a:prstGeom>
          <a:ln w="284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icheng</cp:lastModifiedBy>
  <dcterms:modified xsi:type="dcterms:W3CDTF">2014-01-08T07:01:13Z</dcterms:modified>
  <cp:revision>388</cp:revision>
  <dc:subject/>
  <dc:title>In slice hea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88573835</vt:r8>
  </property>
  <property fmtid="{D5CDD505-2E9C-101B-9397-08002B2CF9AE}" pid="3" name="_AuthorEmail">
    <vt:lpwstr>Jicheng.An@mediatek.com</vt:lpwstr>
  </property>
  <property fmtid="{D5CDD505-2E9C-101B-9397-08002B2CF9AE}" pid="4" name="_AuthorEmailDisplayName">
    <vt:lpwstr>Jicheng An (安基程)</vt:lpwstr>
  </property>
  <property fmtid="{D5CDD505-2E9C-101B-9397-08002B2CF9AE}" pid="5" name="_EmailSubject">
    <vt:lpwstr>G0067 ppt and updated G0068 ppt </vt:lpwstr>
  </property>
  <property fmtid="{D5CDD505-2E9C-101B-9397-08002B2CF9AE}" pid="6" name="_NewReviewCycle">
    <vt:lpwstr/>
  </property>
</Properties>
</file>