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1CFC-0030-402F-8408-06AC8D554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EE0A-B397-4D11-87BA-AAB87A74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D32B-D9BE-417A-8FE9-0DBF0C046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8A39-8E61-4670-863C-8A429DA13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F472-1559-47C9-9733-1A58347CE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F27F-54F8-41EA-AD2E-E53AA3AB6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E48-8CE1-4CF7-8F3A-D1955C60A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F8E8-D5FB-4AC9-AEFC-16E3F6518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A587-F66E-4869-9D7D-128CC155A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9F5-6721-4B7D-97BF-A3B26C7F1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C2A-C5CA-45CE-A9D4-88C5F434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43C-4440-42C6-913C-27C845B4B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929D-C1C4-4489-85BB-3FD1AEA3A9C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3V-G00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3V-G00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vailability checking of temporal inter-view MV candidate and VSP candi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Yi-Wen Che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the inter-view picture is not in the reference lists, the inter-view MV and VSP candidates will use an unavailable referenc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there is no inter-view picture in the current reference lists, the inter-view MV and VSP candidate are dis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 BD-rate change in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03BA-EF65-4B8B-950E-2F109EAEA66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vailable inter-view reference pi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inter-view picture in current reference lis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ference view of derived DV is unavail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mporal inter-view MV candidate (including sub-PU temporal inter-view MV candidate and shifted temporal inter-view MV candidate) and VSP candidate should not be used any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n current 3D-HEVC, the temporal inter-view MV candidate and VSP candidate are still be used, which will result in an unpredictable behavior because an improper reference view index value of derived DV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C94-CB5F-41AD-9259-FE156FC03CE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inter-view picture in the current 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the temporal inter-view MV candidate and VSP candidate, that is to say, the two kinds of candidates cannot be inserted into the merge candidat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ase can be identified by checking whether the derived DV has reference view index equal to -1 in the draft text and HTM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ormance change under C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8C2B-1319-4B91-8C9A-553BF224201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the inter-view picture is not in the reference lists, the inter-view MV and VSP candidates uses an unavailable referenc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there is no inter-view picture in the current reference lists, the inter-view MV and VSP candidate are dis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 BD-rate change in 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8610-4436-4F4D-A949-8AAD8D51BC8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Yulin Chang</cp:lastModifiedBy>
  <dcterms:modified xsi:type="dcterms:W3CDTF">2014-01-14T17:14:37Z</dcterms:modified>
  <cp:revision>411</cp:revision>
  <dc:subject/>
  <dc:title>In slice header</dc:title>
</cp:coreProperties>
</file>