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674-29BA-47F4-A649-F678D31E42DD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B53-7342-4BA8-B74F-7F2A507401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87B1-95A3-48B0-B98C-78A6A6281272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43E9-AEB3-4DBF-ADE3-AA978B0E8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4817DD3-ABF5-4D84-BA66-AF81755B952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720ED6B-5FF9-4B77-9102-1530DF93F20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3247920" y="3137040"/>
            <a:ext cx="6840720" cy="26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CT3V-F0170:  Simplification on SDC planar coding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iaozhen Zheng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FC1EDD8-8D90-4C4B-BCF0-92F8B210021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6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I (Test case3,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derive prediction block by first 32 neighbour sam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42840" y="2416320"/>
          <a:ext cx="8713800" cy="4392360"/>
        </p:xfrm>
        <a:graphic>
          <a:graphicData uri="http://schemas.openxmlformats.org/drawingml/2006/table">
            <a:tbl>
              <a:tblPr/>
              <a:tblGrid>
                <a:gridCol w="955800"/>
                <a:gridCol w="895320"/>
                <a:gridCol w="895320"/>
                <a:gridCol w="897120"/>
                <a:gridCol w="895320"/>
                <a:gridCol w="895320"/>
                <a:gridCol w="895320"/>
                <a:gridCol w="795240"/>
                <a:gridCol w="793800"/>
                <a:gridCol w="795240"/>
              </a:tblGrid>
              <a:tr h="57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9C86249-AC8E-46DF-AD56-7EFCB8EB11D7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adopting the proposed sub-sampling method to make the intra prediction process backward compatible with HEVC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ase3 is pref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2D60FDF-7965-4700-854E-B9407060729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110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E6A71EA-C943-46FC-8520-8E9727A745E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8497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64x64 planar coding when SDC is used as the maximum intra perdition blocksize in HEVC version 1 is up to 32x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ward compatible with HEVC version 1’s intra 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three test cases, which don’t have impact on coding performance and encoding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heck: JCT3V-F0232 by Media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urrent implementation in SDC planar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07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ing samples from the left-column and top-row are used to derive the prediction sample block. Thus, the prediction sample blocksize is same as the coding block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5030E60-541F-4F25-BF6F-5845EE274DA1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7" name="对象 4"/>
          <p:cNvGraphicFramePr/>
          <p:nvPr/>
        </p:nvGraphicFramePr>
        <p:xfrm>
          <a:off x="1087560" y="3063960"/>
          <a:ext cx="893916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3063960"/>
                    <a:ext cx="893916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simplification solu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074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 sub-sampling to the derivation process of the neighboring samples, and the generate the prediction sample block with the sub-sampling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EC91F21-3373-4FB7-87B3-1FA009CC0249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2" name="Rectangle 32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4" name="对象 5"/>
          <p:cNvGraphicFramePr/>
          <p:nvPr/>
        </p:nvGraphicFramePr>
        <p:xfrm>
          <a:off x="1274760" y="2992320"/>
          <a:ext cx="797868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对象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2992320"/>
                    <a:ext cx="79786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7" name="对象 7"/>
          <p:cNvGraphicFramePr/>
          <p:nvPr/>
        </p:nvGraphicFramePr>
        <p:xfrm>
          <a:off x="1274760" y="2992320"/>
          <a:ext cx="797868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对象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4760" y="2992320"/>
                    <a:ext cx="79786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2B2C729-86A3-40B5-B7DA-ED4FB53D3A5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C (Test case1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b-sampling for 64x64 SDC plan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71560" y="2416320"/>
          <a:ext cx="8569440" cy="4464000"/>
        </p:xfrm>
        <a:graphic>
          <a:graphicData uri="http://schemas.openxmlformats.org/drawingml/2006/table">
            <a:tbl>
              <a:tblPr/>
              <a:tblGrid>
                <a:gridCol w="939600"/>
                <a:gridCol w="881280"/>
                <a:gridCol w="879480"/>
                <a:gridCol w="880920"/>
                <a:gridCol w="881280"/>
                <a:gridCol w="880920"/>
                <a:gridCol w="880920"/>
                <a:gridCol w="781200"/>
                <a:gridCol w="781200"/>
                <a:gridCol w="7826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7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E65366A-19B3-46DC-8044-24A88A5A5F9E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2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 (Test case1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b-sampling for 64x64 SDC plan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71560" y="2271600"/>
          <a:ext cx="8785080" cy="4608720"/>
        </p:xfrm>
        <a:graphic>
          <a:graphicData uri="http://schemas.openxmlformats.org/drawingml/2006/table">
            <a:tbl>
              <a:tblPr/>
              <a:tblGrid>
                <a:gridCol w="963720"/>
                <a:gridCol w="903240"/>
                <a:gridCol w="901440"/>
                <a:gridCol w="903600"/>
                <a:gridCol w="903240"/>
                <a:gridCol w="903240"/>
                <a:gridCol w="903240"/>
                <a:gridCol w="800280"/>
                <a:gridCol w="801360"/>
                <a:gridCol w="801720"/>
              </a:tblGrid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4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4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31125AA-99F8-4B2E-946F-12FDEA3EFDC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3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C (Test case2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b-sampling for all SDC plan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71560" y="2344680"/>
          <a:ext cx="8713800" cy="4608720"/>
        </p:xfrm>
        <a:graphic>
          <a:graphicData uri="http://schemas.openxmlformats.org/drawingml/2006/table">
            <a:tbl>
              <a:tblPr/>
              <a:tblGrid>
                <a:gridCol w="955800"/>
                <a:gridCol w="895320"/>
                <a:gridCol w="895320"/>
                <a:gridCol w="895320"/>
                <a:gridCol w="895320"/>
                <a:gridCol w="895320"/>
                <a:gridCol w="897120"/>
                <a:gridCol w="793440"/>
                <a:gridCol w="795600"/>
                <a:gridCol w="795240"/>
              </a:tblGrid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5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7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13A1A0D-D808-4C5C-A828-68B391499AA8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4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 (Test case2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b-sampling for all SDC plan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71560" y="2344680"/>
          <a:ext cx="8856720" cy="4535640"/>
        </p:xfrm>
        <a:graphic>
          <a:graphicData uri="http://schemas.openxmlformats.org/drawingml/2006/table">
            <a:tbl>
              <a:tblPr/>
              <a:tblGrid>
                <a:gridCol w="971640"/>
                <a:gridCol w="909360"/>
                <a:gridCol w="911520"/>
                <a:gridCol w="909360"/>
                <a:gridCol w="911520"/>
                <a:gridCol w="909360"/>
                <a:gridCol w="909720"/>
                <a:gridCol w="808200"/>
                <a:gridCol w="807840"/>
                <a:gridCol w="808200"/>
              </a:tblGrid>
              <a:tr h="59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6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7A4771E4-95E6-4B4B-AA9D-E2F816BD4B1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perimental results (5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TC (Test case3,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derive prediction block by first 32 neighbour sam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1560" y="2344680"/>
          <a:ext cx="8713800" cy="4535640"/>
        </p:xfrm>
        <a:graphic>
          <a:graphicData uri="http://schemas.openxmlformats.org/drawingml/2006/table">
            <a:tbl>
              <a:tblPr/>
              <a:tblGrid>
                <a:gridCol w="955800"/>
                <a:gridCol w="895320"/>
                <a:gridCol w="895320"/>
                <a:gridCol w="895320"/>
                <a:gridCol w="895320"/>
                <a:gridCol w="895320"/>
                <a:gridCol w="897120"/>
                <a:gridCol w="793440"/>
                <a:gridCol w="795600"/>
                <a:gridCol w="795240"/>
              </a:tblGrid>
              <a:tr h="59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3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3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4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3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2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3-10-26T20:33:24Z</dcterms:modified>
  <cp:revision>7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840466</vt:lpwstr>
  </property>
</Properties>
</file>