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B2C4-2017-470F-908A-3EAD00F4289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C60D-86BB-4948-97B8-04EE6ACB1A25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3B9-C937-48C7-8434-9E8EA020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3DE0-22E6-4F0B-854F-71A05467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660-DDD1-457B-B71D-F0BDAEF6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6041-B7C2-4611-9DA8-903A8210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B367-C5F4-4C6F-A746-66C3AFE4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211E-0800-472C-A54B-477291CA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0B54-CD6F-4BD1-A665-F6EE9FD2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35DD-30EA-48BE-9A42-B6445F69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A1A0-8B09-4667-84F2-07FBABD4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F69B-F32C-4A61-A511-C897528A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21A0-4C25-4597-A258-AFDC8E51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92C-A2A0-44F7-9DAD-2EB916A7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2A7F-053E-45FF-9389-E9EB59EB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5812-D7AA-42BB-BA1D-C7167C61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9031-D4E3-447D-BC41-24F56B74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9C96-D66F-40FB-8ED6-FA2E599A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623D-94D3-49EC-AB50-4E1C3D8A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A7548-8249-42B4-ABA4-EB71B4D9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0C1E3-8CAF-4A15-9079-706EA853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DC79D-0A42-4102-9BBA-F4E7BDB8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04250-6636-465F-B9ED-8F1C77B1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D44E3-8F40-44FB-A09E-17AF9DD1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DD4B-F123-47FC-AC6E-9F0BDB14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8E29C-A7E4-4BAD-8823-CCA17D51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2FA6B-D456-4286-BEEE-01F60994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B6492-D9B5-47B5-8DFF-C177BB61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264D8-D9E8-4BD0-9E20-3AC6D884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3BF23-0FB8-4A03-B5B3-EDF23BAB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68591-0C8B-40D7-89E3-7E818995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C8BA5-0DB4-4751-942A-DA77D676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6DADB-D5D5-406C-BAD3-819743E6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20B10-EA99-4BF8-AC00-9125C76E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A62FF-4C4A-4160-8FE8-CC79C398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2A8B-37EC-47B5-9736-7F137887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C93E1-E6F5-45C0-A358-F61DC35A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89740-53E3-4DEF-B5A2-0DD5C788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F72EA-1875-4FEB-A281-85B896B1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4084D-4330-48C9-B26E-FCAEBEA9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0822E-BA91-4A81-8AAF-A381F572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56000-9600-48BA-A452-EEFC7DA4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9931F-012E-4148-962C-47C8D579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3D551-D69B-44B1-92CF-B5758C76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DAACD-01E6-48BB-A2DF-8577BCFE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4733E-D668-468C-B5D8-98410890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AE4A-D765-4A7D-9150-EB096803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B0CC9-A9AD-4CF4-85DE-C5BCDF14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6B296-FACE-4636-A9BD-16EE0751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6D8F8-E480-4D51-9EFC-C4FD19DB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EEE16-AB3E-49D3-85B5-639CE5F6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27C5E-67D4-4A26-A2BE-EFF39EDE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14CB5-6C06-4681-A078-85996329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86C9D-DD12-4D37-824A-267B891D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2F45C-C06F-4933-8587-F8507FB7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BFF3C-9725-44D2-AF77-B2834BC4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E466F-485F-4615-ACE0-DBDF61E8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9182-3FBA-4A4E-998A-F2B5A069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A480A-E742-4246-88DD-404F5166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5BA7B-AA96-4A9A-9590-440E0242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F4CE1-9B60-4529-8AD5-F8AD0AD5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8C27C-7204-4C58-9880-EA6FB8C5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B2923-BA1B-4577-9648-C5363867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1BCC6-6879-4277-834B-2319AEC7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3FF2D-6F7E-4588-BFB3-B96E9F83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52F54-4BA2-434E-821D-37209199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10CB8-13AB-429D-8354-D36126C9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AB5F1-FB7D-441E-B8FB-7EE739AA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78C-051E-464A-9273-80CB1F4A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B829C-8F3B-4BD2-8E3F-3FD54372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C018E-AB65-4AE3-B9D6-BDC5851E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05AF4-4D16-4743-B1C9-8288E734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7C96C-A922-42B6-AE52-16BA6D5F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4EAEB-F64D-400F-A572-6C5D44D7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F01D8-9AD9-4D38-A9CF-9DF58867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02011-F1E9-48C6-AE9F-2684F604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492F1-5763-49D5-A5D5-6BDC5036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39D86-4B35-46F7-99A4-0ADFF27E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A8466-2DB9-4BF7-97F7-88927D8C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CE79-D548-47A0-8819-A9153D28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BCD45-0504-494B-BA6F-EE0EFE37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268F3-1304-46ED-B1A4-D17094D0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6A4D1-908E-45F9-9D8D-F7C332A7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14365-8BC9-41E9-AD76-B79A61F6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97172-70D3-4231-9C49-559AF864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28E2F-6A58-49C5-87E3-104CDBF8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7B9E4-6369-4055-B317-41EB9F08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C5CE3-CBF3-4C67-B13C-F648CF67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80F7C-5047-46A8-B95B-6C857DCC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CF726-BF63-410A-B856-BE0A9D50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379E-F264-41AF-9C99-D6AED7F3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F5231-242C-439B-A261-BC4972C8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6DA95-DD52-4758-803C-9EFE96B8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2B38A-289E-4D72-B056-ED7851DB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0332E-AE99-4AC7-A6B4-54C25EA3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86EEE-1D09-4A8D-B89A-3EA365F6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89E84-937B-47A6-B875-BF1B635F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4F5CC-287A-455A-873A-E02959A1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6CCF-9E97-4740-8604-4CE85BE76D59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CFC3-0351-4F21-9349-A81C9B012D8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D50D-FA02-437B-AB5F-B9B066F3CABA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E81B-1B7C-4CF4-A69F-A542039069C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1FBD-7B02-4433-AB0D-8A5B6EBFE69D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0282-95D8-4B62-9F5B-49023FB97541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9E5C-30A7-4F60-B9DC-FF5DE529F8AB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A04D-3658-4686-85D9-F605C86DFBF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2483-62CC-4C82-9140-0BCF5485F002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1384-23BE-4940-9237-2F2B3DE7CFD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1352-6E21-4932-8CC6-20B6FE5BC312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5809-3547-4308-92C7-01896F02A46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7FF2-97DD-4016-AB01-8A02CE713289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FC87-1AEE-4550-82E4-5DA0B300E01A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1276-F289-4ABD-A4CD-CB8D9372DCC9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C261-083C-419A-8B40-14D5D28EC9B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1412640"/>
            <a:ext cx="8777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맑은 고딕"/>
              </a:rPr>
              <a:t>JCT3V-F0166</a:t>
            </a:r>
            <a:br>
              <a:rPr sz="2400"/>
            </a:br>
            <a:r>
              <a:rPr b="1" lang="en-CA" sz="3600" spc="-1" strike="noStrike">
                <a:solidFill>
                  <a:srgbClr val="000000"/>
                </a:solidFill>
                <a:latin typeface="맑은 고딕"/>
              </a:rPr>
              <a:t>Inter-view MV-based rate prediction for rate control of 3D multi-view video coding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2556000" y="393372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Times New Roman"/>
              </a:rPr>
              <a:t>W. Lim, H. Jo and D. S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Times New Roman"/>
              </a:rPr>
              <a:t>KWU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슬라이드 번호 개체 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E4F8-DAEE-4B2D-83D4-EC7F9444A4F1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 and future work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proposed a method to improve rate control of extended views in multi-view video coding based on HEVC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posed method led to better rate control accuracy and coding performanc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recommend the proposed method to be adopted to the current rate control for multi-view video coding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A748-3476-4B34-80D2-CACBC33308CB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view video coding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ession of multiple videos acquired by cameras with translated position at the same tim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se view is compatible to the single-view coding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nded views are not with the inter-view prediction to exploit high correlation between view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provide view scalability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control for 3D multi-view video coding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control is important in the practical use of video coding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Q (Unified Rate-Distortion) model-based rate control and R-lambda model-based rate control in HEVC reference softwar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multi-view extension of HEVC, inter-view MAD prediction has been proposed and adopted(JCT3V-E0227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CC8C-0EB6-46E7-92AB-AA09C979403C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vious research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6680" indent="-25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Q model-based rate contro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09480" indent="-266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Choi, J. Nam, J. Yoo, D. Sim, and I. V. Bajić, “Rate control based on unified RQ model for HEVC,” JCT-VC of ITU-T SG16 WP3 and ISO/IEC JTC1/SC29/WG11, JCT-VC H0213 (m23088), San Jos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, USA, Feb. 2012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09480" indent="-266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Choi, J. Nam, J. Yoo, D. Sim, and I. V. Bajić, “Improvement of the rate control based on pixel-based URQ model for HEVC,” JCT-VC of ITU-T SG16 WP3 and ISO/IEC JTC1/SC29/WG11, JCTVC-I0094 (m24333), Geneva, Switzerland, Apr.-May 2012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256680" indent="-25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view rate contro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09480" indent="-266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 Lim, H. Choi, J. Nam, H. Jo, D. Sim and I. Bajić, “Rate control for 3D multi-view video coding,” JCT3V of ITU-T SG16 WP3 and ISO/IEC JTC1/SC29/WG11, JCT3V-A0151, Stockholm, Sweden, Jul. 2012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09480" indent="-266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 Lim, H. Choi, J. Nam, H. Jo, D. Sim and I. Bajić, “Improvement of the rate control for 3D multi-view video coding,” JCT3V of ITU-T SG16 WP3 and ISO/IEC JTC1/SC29/WG11, JCT3V-B0030, Shanghai, China, Oct. 2012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09480" indent="-266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 Lim, D. Sim and I. Bajić, “Improvement of the rate control for 3D multi-view video coding,” JCT3V of ITU-T SG16 WP3 and ISO/IEC JTC1/SC29/WG11, JCT3V-C0090, Geneva, CH, Jan. 2013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09480" indent="-266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 Lim, H. Jo, D. Sim and I. Bajić, “The rate control schemes for 3D multi-view video coding,” JCT3V of ITU-T SG16 WP3 and ISO/IEC JTC1/SC29/WG11, JCT3V-D0111, Incheon, KR, Apr. 2013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09480" indent="-266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 Lim, H. Jo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Bajić and D. Sim, “Inter-view MAD prediction for rate control of 3D multi-view video coding,” JCT3V of ITU-T SG16 WP3 and ISO/IEC JTC1/SC29/WG11, JCT3V-E0227, Vienna, AT, Jul. 2013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E078-83AD-4E25-AA1D-06AEA3DC7B49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view MV-based rate predi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QPs among view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ly, the encoding environments of each view are different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ure complexity and bitrate can be different based on the QP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se view in the multi-view view video coding is compatible to HEVC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ventional rate control algorithms are suitable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nded view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d not only with the prediction in HEVC but also the inter-view prediction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motion correlation between the base view and the extended view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tion vector of the base view can be used for the current unit in the extended view to find the corresponding temporal position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exture complexity or rate can be  more accurately predicted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C3E6-F609-4422-874B-C670DBF71A37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view MV-based rate predic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select a QP value for the current CTU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ventional R-lambda model-based rate control algorithm needs to predict the bit weight value of the current CTU using previously encoded informat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ingle-view rate control, this is done by using the collocated block in the reference frame (temporal prediction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this may work well in the case of low mot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l rate prediction is less accurat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motion level increase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934D-CBC3-45B5-8C34-5688BE0E245C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view MV-based rate predic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l rate prediction based on the inter-view motion vecto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ventional rate control algorithm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temporal distance becomes further, the temporal correlation will be decreased not only in case of moving objects but also in case of camera panning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352" name="직선 화살표 연결선 5"/>
          <p:cNvCxnSpPr/>
          <p:nvPr/>
        </p:nvCxnSpPr>
        <p:spPr>
          <a:xfrm>
            <a:off x="1082160" y="6501960"/>
            <a:ext cx="7962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직선 화살표 연결선 6"/>
          <p:cNvCxnSpPr/>
          <p:nvPr/>
        </p:nvCxnSpPr>
        <p:spPr>
          <a:xfrm flipV="1">
            <a:off x="1082160" y="2685240"/>
            <a:ext cx="1080" cy="381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54" name="그림 7" descr=""/>
          <p:cNvPicPr/>
          <p:nvPr/>
        </p:nvPicPr>
        <p:blipFill>
          <a:blip r:embed="rId1"/>
          <a:stretch/>
        </p:blipFill>
        <p:spPr>
          <a:xfrm>
            <a:off x="1244520" y="2903400"/>
            <a:ext cx="2901960" cy="16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5" name="그림 8" descr=""/>
          <p:cNvPicPr/>
          <p:nvPr/>
        </p:nvPicPr>
        <p:blipFill>
          <a:blip r:embed="rId2"/>
          <a:stretch/>
        </p:blipFill>
        <p:spPr>
          <a:xfrm>
            <a:off x="1244520" y="4624560"/>
            <a:ext cx="2901960" cy="163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6" name="그림 9" descr=""/>
          <p:cNvPicPr/>
          <p:nvPr/>
        </p:nvPicPr>
        <p:blipFill>
          <a:blip r:embed="rId3"/>
          <a:stretch/>
        </p:blipFill>
        <p:spPr>
          <a:xfrm>
            <a:off x="6019920" y="2901960"/>
            <a:ext cx="2930400" cy="165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7" name="그림 10" descr=""/>
          <p:cNvPicPr/>
          <p:nvPr/>
        </p:nvPicPr>
        <p:blipFill>
          <a:blip r:embed="rId4"/>
          <a:stretch/>
        </p:blipFill>
        <p:spPr>
          <a:xfrm>
            <a:off x="6019920" y="4624560"/>
            <a:ext cx="2930400" cy="165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8" name="직사각형 11"/>
          <p:cNvSpPr/>
          <p:nvPr/>
        </p:nvSpPr>
        <p:spPr>
          <a:xfrm>
            <a:off x="7531200" y="3693960"/>
            <a:ext cx="288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직사각형 12"/>
          <p:cNvSpPr/>
          <p:nvPr/>
        </p:nvSpPr>
        <p:spPr>
          <a:xfrm>
            <a:off x="3075120" y="3697200"/>
            <a:ext cx="287280" cy="287280"/>
          </a:xfrm>
          <a:prstGeom prst="rect">
            <a:avLst/>
          </a:prstGeom>
          <a:noFill/>
          <a:ln w="25560">
            <a:solidFill>
              <a:srgbClr val="17375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직사각형 13"/>
          <p:cNvSpPr/>
          <p:nvPr/>
        </p:nvSpPr>
        <p:spPr>
          <a:xfrm>
            <a:off x="7551720" y="5425920"/>
            <a:ext cx="287280" cy="289080"/>
          </a:xfrm>
          <a:prstGeom prst="rect">
            <a:avLst/>
          </a:prstGeom>
          <a:noFill/>
          <a:ln w="25560">
            <a:solidFill>
              <a:srgbClr val="17375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361" name="구부러진 연결선 14"/>
          <p:cNvCxnSpPr>
            <a:stCxn id="359" idx="0"/>
            <a:endCxn id="358" idx="0"/>
          </p:cNvCxnSpPr>
          <p:nvPr/>
        </p:nvCxnSpPr>
        <p:spPr>
          <a:xfrm flipH="1" flipV="1" rot="5400000">
            <a:off x="5445720" y="1467000"/>
            <a:ext cx="3960" cy="4456440"/>
          </a:xfrm>
          <a:prstGeom prst="curvedConnector5">
            <a:avLst>
              <a:gd name="adj1" fmla="val 6420000"/>
              <a:gd name="adj2" fmla="val 50000"/>
              <a:gd name="adj3" fmla="val 6420000"/>
            </a:avLst>
          </a:prstGeom>
          <a:ln w="936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362" name="구부러진 연결선 15"/>
          <p:cNvCxnSpPr>
            <a:stCxn id="360" idx="3"/>
            <a:endCxn id="358" idx="3"/>
          </p:cNvCxnSpPr>
          <p:nvPr/>
        </p:nvCxnSpPr>
        <p:spPr>
          <a:xfrm flipH="1" flipV="1">
            <a:off x="7819200" y="3837960"/>
            <a:ext cx="19800" cy="1732680"/>
          </a:xfrm>
          <a:prstGeom prst="curvedConnector5">
            <a:avLst>
              <a:gd name="adj1" fmla="val -1127777"/>
              <a:gd name="adj2" fmla="val 50000"/>
              <a:gd name="adj3" fmla="val -1127777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63" name="TextBox 16"/>
          <p:cNvSpPr/>
          <p:nvPr/>
        </p:nvSpPr>
        <p:spPr>
          <a:xfrm>
            <a:off x="4764960" y="3321000"/>
            <a:ext cx="5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TextBox 17"/>
          <p:cNvSpPr/>
          <p:nvPr/>
        </p:nvSpPr>
        <p:spPr>
          <a:xfrm>
            <a:off x="4811760" y="5089680"/>
            <a:ext cx="5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TextBox 18"/>
          <p:cNvSpPr/>
          <p:nvPr/>
        </p:nvSpPr>
        <p:spPr>
          <a:xfrm>
            <a:off x="4118040" y="3027240"/>
            <a:ext cx="209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Texture complexity or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bit weight from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temporal corresponding block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TextBox 19"/>
          <p:cNvSpPr/>
          <p:nvPr/>
        </p:nvSpPr>
        <p:spPr>
          <a:xfrm>
            <a:off x="6869880" y="4044960"/>
            <a:ext cx="189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맑은 고딕"/>
              </a:rPr>
              <a:t>MV from inter-view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맑은 고딕"/>
              </a:rPr>
              <a:t>corresponding block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TextBox 20"/>
          <p:cNvSpPr/>
          <p:nvPr/>
        </p:nvSpPr>
        <p:spPr>
          <a:xfrm>
            <a:off x="-49680" y="363708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xtended view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TextBox 21"/>
          <p:cNvSpPr/>
          <p:nvPr/>
        </p:nvSpPr>
        <p:spPr>
          <a:xfrm>
            <a:off x="193320" y="536112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 view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TextBox 22"/>
          <p:cNvSpPr/>
          <p:nvPr/>
        </p:nvSpPr>
        <p:spPr>
          <a:xfrm>
            <a:off x="650880" y="254808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view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TextBox 23"/>
          <p:cNvSpPr/>
          <p:nvPr/>
        </p:nvSpPr>
        <p:spPr>
          <a:xfrm>
            <a:off x="8807040" y="6464160"/>
            <a:ext cx="23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TextBox 24"/>
          <p:cNvSpPr/>
          <p:nvPr/>
        </p:nvSpPr>
        <p:spPr>
          <a:xfrm>
            <a:off x="7039800" y="3403440"/>
            <a:ext cx="124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맑은 고딕"/>
              </a:rPr>
              <a:t>The current unit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직사각형 23"/>
          <p:cNvSpPr/>
          <p:nvPr/>
        </p:nvSpPr>
        <p:spPr>
          <a:xfrm>
            <a:off x="3098880" y="5454720"/>
            <a:ext cx="287280" cy="288720"/>
          </a:xfrm>
          <a:prstGeom prst="rect">
            <a:avLst/>
          </a:prstGeom>
          <a:noFill/>
          <a:ln w="25560">
            <a:solidFill>
              <a:srgbClr val="17375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373" name="직선 화살표 연결선 2"/>
          <p:cNvCxnSpPr/>
          <p:nvPr/>
        </p:nvCxnSpPr>
        <p:spPr>
          <a:xfrm flipH="1">
            <a:off x="3098160" y="5451120"/>
            <a:ext cx="4453560" cy="1080"/>
          </a:xfrm>
          <a:prstGeom prst="straightConnector1">
            <a:avLst/>
          </a:prstGeom>
          <a:ln w="9360">
            <a:solidFill>
              <a:srgbClr val="17375e"/>
            </a:solidFill>
            <a:miter/>
            <a:tailEnd len="med" type="triangle" w="med"/>
          </a:ln>
        </p:spPr>
      </p:cxnSp>
      <p:cxnSp>
        <p:nvCxnSpPr>
          <p:cNvPr id="374" name="직선 화살표 연결선 26"/>
          <p:cNvCxnSpPr/>
          <p:nvPr/>
        </p:nvCxnSpPr>
        <p:spPr>
          <a:xfrm flipH="1">
            <a:off x="3077640" y="3693600"/>
            <a:ext cx="4453920" cy="1080"/>
          </a:xfrm>
          <a:prstGeom prst="straightConnector1">
            <a:avLst/>
          </a:prstGeom>
          <a:ln w="9360">
            <a:solidFill>
              <a:srgbClr val="17375e"/>
            </a:solidFill>
            <a:miter/>
            <a:tailEnd len="med" type="triangle" w="med"/>
          </a:ln>
        </p:spPr>
      </p:cxnSp>
      <p:cxnSp>
        <p:nvCxnSpPr>
          <p:cNvPr id="375" name="직선 화살표 연결선 4"/>
          <p:cNvCxnSpPr/>
          <p:nvPr/>
        </p:nvCxnSpPr>
        <p:spPr>
          <a:xfrm flipV="1">
            <a:off x="4362120" y="3837960"/>
            <a:ext cx="1080" cy="1464120"/>
          </a:xfrm>
          <a:prstGeom prst="straightConnector1">
            <a:avLst/>
          </a:prstGeom>
          <a:ln w="9360">
            <a:solidFill>
              <a:srgbClr val="d99694"/>
            </a:solidFill>
            <a:miter/>
            <a:tailEnd len="med" type="triangle" w="med"/>
          </a:ln>
        </p:spPr>
      </p:cxnSp>
      <p:sp>
        <p:nvSpPr>
          <p:cNvPr id="376" name="TextBox 18"/>
          <p:cNvSpPr/>
          <p:nvPr/>
        </p:nvSpPr>
        <p:spPr>
          <a:xfrm>
            <a:off x="4313160" y="435456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view MV-based rate predic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5D7C-F1CD-4035-AECE-466C05499392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80" name="그림 4" descr=""/>
          <p:cNvPicPr/>
          <p:nvPr/>
        </p:nvPicPr>
        <p:blipFill>
          <a:blip r:embed="rId1"/>
          <a:stretch/>
        </p:blipFill>
        <p:spPr>
          <a:xfrm>
            <a:off x="755640" y="2247840"/>
            <a:ext cx="4334040" cy="29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1" name="그림 8" descr=""/>
          <p:cNvPicPr/>
          <p:nvPr/>
        </p:nvPicPr>
        <p:blipFill>
          <a:blip r:embed="rId2"/>
          <a:stretch/>
        </p:blipFill>
        <p:spPr>
          <a:xfrm>
            <a:off x="6012000" y="3605040"/>
            <a:ext cx="2305080" cy="160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2" name="그림 9" descr=""/>
          <p:cNvPicPr/>
          <p:nvPr/>
        </p:nvPicPr>
        <p:blipFill>
          <a:blip r:embed="rId3"/>
          <a:stretch/>
        </p:blipFill>
        <p:spPr>
          <a:xfrm>
            <a:off x="6012000" y="1916280"/>
            <a:ext cx="2305080" cy="153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3" name="직사각형 10"/>
          <p:cNvSpPr/>
          <p:nvPr/>
        </p:nvSpPr>
        <p:spPr>
          <a:xfrm>
            <a:off x="6443640" y="2349360"/>
            <a:ext cx="360360" cy="35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직사각형 12"/>
          <p:cNvSpPr/>
          <p:nvPr/>
        </p:nvSpPr>
        <p:spPr>
          <a:xfrm>
            <a:off x="6443640" y="4005360"/>
            <a:ext cx="360360" cy="36036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직사각형 14"/>
          <p:cNvSpPr/>
          <p:nvPr/>
        </p:nvSpPr>
        <p:spPr>
          <a:xfrm>
            <a:off x="1476360" y="2997360"/>
            <a:ext cx="719280" cy="792000"/>
          </a:xfrm>
          <a:prstGeom prst="rect">
            <a:avLst/>
          </a:prstGeom>
          <a:noFill/>
          <a:ln w="1260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6" name="직사각형 13"/>
          <p:cNvSpPr/>
          <p:nvPr/>
        </p:nvSpPr>
        <p:spPr>
          <a:xfrm>
            <a:off x="1763640" y="2997360"/>
            <a:ext cx="720720" cy="79200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387" name="직선 화살표 연결선 16"/>
          <p:cNvCxnSpPr/>
          <p:nvPr/>
        </p:nvCxnSpPr>
        <p:spPr>
          <a:xfrm>
            <a:off x="1186920" y="2133360"/>
            <a:ext cx="289440" cy="86436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triangle" w="med"/>
          </a:ln>
        </p:spPr>
      </p:cxnSp>
      <p:cxnSp>
        <p:nvCxnSpPr>
          <p:cNvPr id="388" name="직선 화살표 연결선 18"/>
          <p:cNvCxnSpPr/>
          <p:nvPr/>
        </p:nvCxnSpPr>
        <p:spPr>
          <a:xfrm flipH="1">
            <a:off x="1762920" y="2060640"/>
            <a:ext cx="864360" cy="9374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389" name="TextBox 19"/>
          <p:cNvSpPr/>
          <p:nvPr/>
        </p:nvSpPr>
        <p:spPr>
          <a:xfrm>
            <a:off x="3937320" y="224964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Base view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0" name="TextBox 20"/>
          <p:cNvSpPr/>
          <p:nvPr/>
        </p:nvSpPr>
        <p:spPr>
          <a:xfrm>
            <a:off x="7039800" y="19177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Extended view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직선 연결선 22"/>
          <p:cNvSpPr/>
          <p:nvPr/>
        </p:nvSpPr>
        <p:spPr>
          <a:xfrm>
            <a:off x="1476360" y="3789360"/>
            <a:ext cx="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392" name="직선 화살표 연결선 24"/>
          <p:cNvCxnSpPr/>
          <p:nvPr/>
        </p:nvCxnSpPr>
        <p:spPr>
          <a:xfrm>
            <a:off x="1476360" y="3860280"/>
            <a:ext cx="2880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93" name="TextBox 26"/>
          <p:cNvSpPr/>
          <p:nvPr/>
        </p:nvSpPr>
        <p:spPr>
          <a:xfrm>
            <a:off x="295560" y="1825560"/>
            <a:ext cx="178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Collocated position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TextBox 27"/>
          <p:cNvSpPr/>
          <p:nvPr/>
        </p:nvSpPr>
        <p:spPr>
          <a:xfrm>
            <a:off x="2415600" y="1822320"/>
            <a:ext cx="269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Actual corresponding position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직사각형 28"/>
          <p:cNvSpPr/>
          <p:nvPr/>
        </p:nvSpPr>
        <p:spPr>
          <a:xfrm>
            <a:off x="3348000" y="5373720"/>
            <a:ext cx="2160720" cy="503280"/>
          </a:xfrm>
          <a:prstGeom prst="rect">
            <a:avLst/>
          </a:prstGeom>
          <a:solidFill>
            <a:srgbClr val="8eb4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epth to disparity convers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직사각형 29"/>
          <p:cNvSpPr/>
          <p:nvPr/>
        </p:nvSpPr>
        <p:spPr>
          <a:xfrm>
            <a:off x="3348000" y="5973840"/>
            <a:ext cx="2160720" cy="504720"/>
          </a:xfrm>
          <a:prstGeom prst="rect">
            <a:avLst/>
          </a:prstGeom>
          <a:solidFill>
            <a:srgbClr val="e6b9b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verage MV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397" name="꺾인 연결선 31"/>
          <p:cNvCxnSpPr>
            <a:stCxn id="395" idx="1"/>
            <a:endCxn id="398" idx="2"/>
          </p:cNvCxnSpPr>
          <p:nvPr/>
        </p:nvCxnSpPr>
        <p:spPr>
          <a:xfrm rot="10800000">
            <a:off x="1618560" y="3975840"/>
            <a:ext cx="1729440" cy="16488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8" name="직사각형 33"/>
          <p:cNvSpPr/>
          <p:nvPr/>
        </p:nvSpPr>
        <p:spPr>
          <a:xfrm>
            <a:off x="1476360" y="3716280"/>
            <a:ext cx="287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399" name="꺾인 연결선 37"/>
          <p:cNvCxnSpPr>
            <a:stCxn id="386" idx="1"/>
            <a:endCxn id="396" idx="1"/>
          </p:cNvCxnSpPr>
          <p:nvPr/>
        </p:nvCxnSpPr>
        <p:spPr>
          <a:xfrm flipH="1" flipV="1" rot="10800000">
            <a:off x="1762560" y="3391560"/>
            <a:ext cx="1585080" cy="2834280"/>
          </a:xfrm>
          <a:prstGeom prst="bentConnector3">
            <a:avLst>
              <a:gd name="adj1" fmla="val -4245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TextBox 39"/>
          <p:cNvSpPr/>
          <p:nvPr/>
        </p:nvSpPr>
        <p:spPr>
          <a:xfrm>
            <a:off x="2072880" y="52959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disparity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TextBox 40"/>
          <p:cNvSpPr/>
          <p:nvPr/>
        </p:nvSpPr>
        <p:spPr>
          <a:xfrm>
            <a:off x="1317240" y="590544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Motion information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402" name="꺾인 연결선 41"/>
          <p:cNvCxnSpPr>
            <a:endCxn id="395" idx="3"/>
          </p:cNvCxnSpPr>
          <p:nvPr/>
        </p:nvCxnSpPr>
        <p:spPr>
          <a:xfrm rot="5400000">
            <a:off x="5436720" y="4437000"/>
            <a:ext cx="1259640" cy="11167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꺾인 연결선 44"/>
          <p:cNvCxnSpPr>
            <a:stCxn id="396" idx="3"/>
            <a:endCxn id="383" idx="3"/>
          </p:cNvCxnSpPr>
          <p:nvPr/>
        </p:nvCxnSpPr>
        <p:spPr>
          <a:xfrm flipV="1">
            <a:off x="5508720" y="2528640"/>
            <a:ext cx="1296000" cy="3697920"/>
          </a:xfrm>
          <a:prstGeom prst="bentConnector3">
            <a:avLst>
              <a:gd name="adj1" fmla="val 1176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TextBox 50"/>
          <p:cNvSpPr/>
          <p:nvPr/>
        </p:nvSpPr>
        <p:spPr>
          <a:xfrm>
            <a:off x="5502960" y="529272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Local depth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TextBox 51"/>
          <p:cNvSpPr/>
          <p:nvPr/>
        </p:nvSpPr>
        <p:spPr>
          <a:xfrm>
            <a:off x="6060240" y="59292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age error in the actual bitrate (%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-lambda + E0227 vs. R-lambda + F0166 (0.3% higher accuracy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8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0A45-ED67-4594-BB7C-24180799B2FE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50920" y="1957320"/>
          <a:ext cx="8661240" cy="4280040"/>
        </p:xfrm>
        <a:graphic>
          <a:graphicData uri="http://schemas.openxmlformats.org/drawingml/2006/table">
            <a:tbl>
              <a:tblPr/>
              <a:tblGrid>
                <a:gridCol w="1427040"/>
                <a:gridCol w="905040"/>
                <a:gridCol w="903240"/>
                <a:gridCol w="904680"/>
                <a:gridCol w="905040"/>
                <a:gridCol w="903240"/>
                <a:gridCol w="903240"/>
                <a:gridCol w="905040"/>
                <a:gridCol w="904680"/>
              </a:tblGrid>
              <a:tr h="959760">
                <a:tc row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Sequ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R-lambda model-based rate control + inter-view MAD predi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R-lambda model-based rate control + the proposed 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36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36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36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36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36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36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36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36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36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47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Ballo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4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8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7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Ken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2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47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Newspa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3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2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3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2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7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GTF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29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hall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8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8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70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.4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6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7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.9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.4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.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47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Danc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3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032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4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2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4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4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ession performance (BDrate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-lambda + E0227 vs. R-lambda + F0166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1FF7-EC5C-4997-97F4-9C275BDCF981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925560" y="2133720"/>
          <a:ext cx="7632720" cy="4032000"/>
        </p:xfrm>
        <a:graphic>
          <a:graphicData uri="http://schemas.openxmlformats.org/drawingml/2006/table">
            <a:tbl>
              <a:tblPr/>
              <a:tblGrid>
                <a:gridCol w="1668240"/>
                <a:gridCol w="2981520"/>
                <a:gridCol w="2982960"/>
              </a:tblGrid>
              <a:tr h="585720">
                <a:tc row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Sequ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Bdrate of R-lambda with inter-view MAD prediction vs. R-lambda + the prop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 view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 view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412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Ballo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232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Ken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6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Newspa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26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GTF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6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hall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4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4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412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6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Danc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232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4:04:58Z</dcterms:created>
  <dc:creator>Microsoft Corporation</dc:creator>
  <dc:description/>
  <dc:language>en-US</dc:language>
  <cp:lastModifiedBy>ipsl</cp:lastModifiedBy>
  <cp:lastPrinted>2011-07-17T23:54:03Z</cp:lastPrinted>
  <dcterms:modified xsi:type="dcterms:W3CDTF">2013-10-28T16:46:06Z</dcterms:modified>
  <cp:revision>347</cp:revision>
  <dc:subject/>
  <dc:title>PowerPoint 프레젠테이션</dc:title>
</cp:coreProperties>
</file>