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DE69-797A-4BC9-8EB3-6067A5DF9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B9C5-371D-4AE8-83C4-E15D8C08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196C-3A91-44A6-85F0-C9D54973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2096-EA80-407E-A38E-7087CF45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EFF2-84B1-4669-9C7E-99AFBF81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5879-515E-4E32-9A17-B186E62B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C9F5-B83D-4676-B354-27A8F0F7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A43F-B935-4602-851C-9B98E639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E1DF-D544-40A8-B878-FEF538F8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61DF-7089-429E-9632-54EB1481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EFA7-D5CA-4424-973A-E4CE65C9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D1FB-3344-45F8-905E-92E7D3D5A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ED3D4-406E-43B7-8CCC-B19E18DD21C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E076C-B29E-4400-91B4-881CE776C0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454C7-7C58-4C61-8C8F-4F68FABF0E2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90042-1AA9-4468-BA5C-5CA0417A9E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219A2-B82F-4AE0-92F7-F360E2164C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9B7DD-2F3E-4311-9862-F937A168BA3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D5134-0573-4D50-BC40-66889121E15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60695-B157-435D-8E39-B86FF72C817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2D8EC-2750-402D-9ABB-369BA4A904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42CD7-971C-4F62-A0FF-8E9D86C33A9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07495-0BC5-457B-BEEC-0A8A028ECD4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F2BE2-DBD4-4A56-93BE-618143AEBE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1"/>
          <p:cNvSpPr/>
          <p:nvPr/>
        </p:nvSpPr>
        <p:spPr>
          <a:xfrm>
            <a:off x="0" y="6453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Line 14"/>
          <p:cNvSpPr/>
          <p:nvPr/>
        </p:nvSpPr>
        <p:spPr>
          <a:xfrm>
            <a:off x="0" y="5349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0E5C-56D8-4B03-8790-7E7CED2D98DA}" type="slidenum">
              <a:rPr b="0" lang="ko-KR" sz="1200" spc="-1" strike="noStrike">
                <a:solidFill>
                  <a:srgbClr val="898989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Line 21"/>
          <p:cNvSpPr/>
          <p:nvPr/>
        </p:nvSpPr>
        <p:spPr>
          <a:xfrm>
            <a:off x="0" y="6453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Line 14"/>
          <p:cNvSpPr/>
          <p:nvPr/>
        </p:nvSpPr>
        <p:spPr>
          <a:xfrm>
            <a:off x="0" y="5349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Num" idx="4"/>
          </p:nvPr>
        </p:nvSpPr>
        <p:spPr>
          <a:xfrm>
            <a:off x="855324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466F-BBED-47EC-A1F6-C24E0DC4C8DC}" type="slidenum"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그림 5" descr="백색바탕.png"/>
          <p:cNvPicPr/>
          <p:nvPr/>
        </p:nvPicPr>
        <p:blipFill>
          <a:blip r:embed="rId1"/>
          <a:stretch/>
        </p:blipFill>
        <p:spPr>
          <a:xfrm>
            <a:off x="8388360" y="6012000"/>
            <a:ext cx="1290600" cy="6458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309600" y="1268280"/>
            <a:ext cx="9215280" cy="129708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돋움"/>
              </a:rPr>
              <a:t>CE2 related: Derivation of motion-aware temporal disparity vecto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돋움"/>
              </a:rPr>
              <a:t>(JCT3V-F0163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4048920" y="5378400"/>
            <a:ext cx="180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October 2013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 Box 36"/>
          <p:cNvSpPr/>
          <p:nvPr/>
        </p:nvSpPr>
        <p:spPr>
          <a:xfrm>
            <a:off x="3971880" y="575640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돋움"/>
              </a:rPr>
              <a:t>LG Electronic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Text Box 29"/>
          <p:cNvSpPr/>
          <p:nvPr/>
        </p:nvSpPr>
        <p:spPr>
          <a:xfrm>
            <a:off x="0" y="3714840"/>
            <a:ext cx="99061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돋움"/>
              </a:rPr>
              <a:t>Junghak Nam 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돋움"/>
              </a:rPr>
              <a:t>junghak.nam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돋움"/>
              </a:rPr>
              <a:t>@lge.com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돋움"/>
              </a:rPr>
              <a:t>Sehoon Yea (sehoon.yea@lge.com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5440" y="58320"/>
            <a:ext cx="8628120" cy="5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15800" y="692280"/>
            <a:ext cx="94140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Derivation of motion-aware temporal disparity vecto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Proposed metho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The position of corresponding block in temporal picture is derived by spatial neighboring block motion vector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Experimental resul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0.1% coding gain on synthesized view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Crosscheck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JCT3V-F0200 (by Samsu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슬라이드 번호 개체 틀 3"/>
          <p:cNvSpPr/>
          <p:nvPr/>
        </p:nvSpPr>
        <p:spPr>
          <a:xfrm>
            <a:off x="855360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A80B-369F-4834-8CBE-89186E80E183}" type="slidenum"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5440" y="58320"/>
            <a:ext cx="8628120" cy="5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Problem statement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In current 3D-HEVC, corresponding block of temporal disparity vector derivation is   always  co-located block (C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There is no consideration of whether current block has any mo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슬라이드 번호 개체 틀 3"/>
          <p:cNvSpPr/>
          <p:nvPr/>
        </p:nvSpPr>
        <p:spPr>
          <a:xfrm>
            <a:off x="855360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1FF4-70A7-483D-9090-420803BC6DD4}" type="slidenum"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31" name="그룹 21"/>
          <p:cNvGrpSpPr/>
          <p:nvPr/>
        </p:nvGrpSpPr>
        <p:grpSpPr>
          <a:xfrm>
            <a:off x="974520" y="1714680"/>
            <a:ext cx="7909200" cy="4679640"/>
            <a:chOff x="974520" y="1714680"/>
            <a:chExt cx="7909200" cy="4679640"/>
          </a:xfrm>
        </p:grpSpPr>
        <p:sp>
          <p:nvSpPr>
            <p:cNvPr id="132" name="직사각형 5"/>
            <p:cNvSpPr/>
            <p:nvPr/>
          </p:nvSpPr>
          <p:spPr>
            <a:xfrm>
              <a:off x="2755440" y="3209040"/>
              <a:ext cx="336240" cy="27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맑은 고딕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" name="직사각형 6"/>
            <p:cNvSpPr/>
            <p:nvPr/>
          </p:nvSpPr>
          <p:spPr>
            <a:xfrm>
              <a:off x="3426480" y="2665800"/>
              <a:ext cx="336240" cy="27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맑은 고딕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" name="직사각형 7"/>
            <p:cNvSpPr/>
            <p:nvPr/>
          </p:nvSpPr>
          <p:spPr>
            <a:xfrm>
              <a:off x="1469880" y="2071440"/>
              <a:ext cx="3322440" cy="1995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" name="직사각형 8"/>
            <p:cNvSpPr/>
            <p:nvPr/>
          </p:nvSpPr>
          <p:spPr>
            <a:xfrm>
              <a:off x="5561280" y="2071440"/>
              <a:ext cx="3322440" cy="1995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" name="직사각형 9"/>
            <p:cNvSpPr/>
            <p:nvPr/>
          </p:nvSpPr>
          <p:spPr>
            <a:xfrm>
              <a:off x="3089880" y="2936880"/>
              <a:ext cx="672840" cy="544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맑은 고딕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" name="직사각형 10"/>
            <p:cNvSpPr/>
            <p:nvPr/>
          </p:nvSpPr>
          <p:spPr>
            <a:xfrm>
              <a:off x="1469880" y="4399200"/>
              <a:ext cx="3322440" cy="1995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" name="직사각형 11"/>
            <p:cNvSpPr/>
            <p:nvPr/>
          </p:nvSpPr>
          <p:spPr>
            <a:xfrm>
              <a:off x="5561280" y="4399200"/>
              <a:ext cx="3322440" cy="1995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" name="직사각형 12"/>
            <p:cNvSpPr/>
            <p:nvPr/>
          </p:nvSpPr>
          <p:spPr>
            <a:xfrm>
              <a:off x="3078720" y="5263920"/>
              <a:ext cx="672840" cy="544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맑은 고딕"/>
                </a:rPr>
                <a:t>C’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40" name="직선 화살표 연결선 13"/>
            <p:cNvCxnSpPr>
              <a:stCxn id="139" idx="3"/>
            </p:cNvCxnSpPr>
            <p:nvPr/>
          </p:nvCxnSpPr>
          <p:spPr>
            <a:xfrm flipV="1">
              <a:off x="3751920" y="5312880"/>
              <a:ext cx="3796560" cy="2228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41" name="직사각형 14"/>
            <p:cNvSpPr/>
            <p:nvPr/>
          </p:nvSpPr>
          <p:spPr>
            <a:xfrm>
              <a:off x="6639840" y="1714680"/>
              <a:ext cx="11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맑은 고딕"/>
                </a:rPr>
                <a:t>Base view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" name="직사각형 15"/>
            <p:cNvSpPr/>
            <p:nvPr/>
          </p:nvSpPr>
          <p:spPr>
            <a:xfrm>
              <a:off x="4887360" y="517824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맑은 고딕"/>
                </a:rPr>
                <a:t>DVc’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43" name="직선 화살표 연결선 16"/>
            <p:cNvCxnSpPr/>
            <p:nvPr/>
          </p:nvCxnSpPr>
          <p:spPr>
            <a:xfrm flipV="1">
              <a:off x="3764160" y="3483360"/>
              <a:ext cx="1080" cy="1770480"/>
            </a:xfrm>
            <a:prstGeom prst="straightConnector1">
              <a:avLst/>
            </a:prstGeom>
            <a:ln w="25560">
              <a:solidFill>
                <a:srgbClr val="000000"/>
              </a:solidFill>
              <a:prstDash val="sysDash"/>
              <a:miter/>
            </a:ln>
          </p:spPr>
        </p:cxnSp>
        <p:cxnSp>
          <p:nvCxnSpPr>
            <p:cNvPr id="144" name="직선 화살표 연결선 17"/>
            <p:cNvCxnSpPr/>
            <p:nvPr/>
          </p:nvCxnSpPr>
          <p:spPr>
            <a:xfrm flipV="1">
              <a:off x="3089880" y="3483360"/>
              <a:ext cx="1080" cy="1770480"/>
            </a:xfrm>
            <a:prstGeom prst="straightConnector1">
              <a:avLst/>
            </a:prstGeom>
            <a:ln w="25560">
              <a:solidFill>
                <a:srgbClr val="000000"/>
              </a:solidFill>
              <a:prstDash val="sysDash"/>
              <a:miter/>
            </a:ln>
          </p:spPr>
        </p:cxnSp>
        <p:sp>
          <p:nvSpPr>
            <p:cNvPr id="145" name="직사각형 18"/>
            <p:cNvSpPr/>
            <p:nvPr/>
          </p:nvSpPr>
          <p:spPr>
            <a:xfrm>
              <a:off x="2230560" y="1714680"/>
              <a:ext cx="167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맑은 고딕"/>
                </a:rPr>
                <a:t>Dependent view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직사각형 19"/>
            <p:cNvSpPr/>
            <p:nvPr/>
          </p:nvSpPr>
          <p:spPr>
            <a:xfrm>
              <a:off x="1069560" y="28818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맑은 고딕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직사각형 20"/>
            <p:cNvSpPr/>
            <p:nvPr/>
          </p:nvSpPr>
          <p:spPr>
            <a:xfrm>
              <a:off x="974520" y="525960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맑은 고딕"/>
                </a:rPr>
                <a:t>t-1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15440" y="58320"/>
            <a:ext cx="8628120" cy="5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Proposed metho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A disparity (DVc") is derived from motion-aware corresponding block (C") which is shifted by a motion vector of neighboring left or above blocks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855360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93C5-C50A-4766-A173-A2DA15DFBF87}" type="slidenum"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1" name="그룹 54"/>
          <p:cNvGrpSpPr/>
          <p:nvPr/>
        </p:nvGrpSpPr>
        <p:grpSpPr>
          <a:xfrm>
            <a:off x="964080" y="1714680"/>
            <a:ext cx="7911720" cy="4679640"/>
            <a:chOff x="964080" y="1714680"/>
            <a:chExt cx="7911720" cy="4679640"/>
          </a:xfrm>
        </p:grpSpPr>
        <p:sp>
          <p:nvSpPr>
            <p:cNvPr id="152" name="직사각형 21"/>
            <p:cNvSpPr/>
            <p:nvPr/>
          </p:nvSpPr>
          <p:spPr>
            <a:xfrm>
              <a:off x="2745000" y="3215160"/>
              <a:ext cx="336960" cy="271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맑은 고딕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직사각형 22"/>
            <p:cNvSpPr/>
            <p:nvPr/>
          </p:nvSpPr>
          <p:spPr>
            <a:xfrm>
              <a:off x="3417480" y="2672640"/>
              <a:ext cx="335160" cy="271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맑은 고딕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직사각형 23"/>
            <p:cNvSpPr/>
            <p:nvPr/>
          </p:nvSpPr>
          <p:spPr>
            <a:xfrm>
              <a:off x="1460160" y="2078640"/>
              <a:ext cx="3322440" cy="1991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직사각형 33"/>
            <p:cNvSpPr/>
            <p:nvPr/>
          </p:nvSpPr>
          <p:spPr>
            <a:xfrm>
              <a:off x="5551920" y="2078640"/>
              <a:ext cx="3323880" cy="1991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직사각형 34"/>
            <p:cNvSpPr/>
            <p:nvPr/>
          </p:nvSpPr>
          <p:spPr>
            <a:xfrm>
              <a:off x="3080520" y="2943000"/>
              <a:ext cx="672120" cy="543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맑은 고딕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직사각형 37"/>
            <p:cNvSpPr/>
            <p:nvPr/>
          </p:nvSpPr>
          <p:spPr>
            <a:xfrm>
              <a:off x="1460160" y="4402800"/>
              <a:ext cx="3322440" cy="1991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직사각형 38"/>
            <p:cNvSpPr/>
            <p:nvPr/>
          </p:nvSpPr>
          <p:spPr>
            <a:xfrm>
              <a:off x="5551920" y="4402800"/>
              <a:ext cx="3323880" cy="1991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직사각형 39"/>
            <p:cNvSpPr/>
            <p:nvPr/>
          </p:nvSpPr>
          <p:spPr>
            <a:xfrm>
              <a:off x="3069360" y="5265720"/>
              <a:ext cx="672120" cy="543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맑은 고딕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60" name="직선 화살표 연결선 40"/>
            <p:cNvCxnSpPr>
              <a:stCxn id="159" idx="3"/>
            </p:cNvCxnSpPr>
            <p:nvPr/>
          </p:nvCxnSpPr>
          <p:spPr>
            <a:xfrm flipV="1">
              <a:off x="3741480" y="5314680"/>
              <a:ext cx="3797640" cy="2228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61" name="직사각형 41"/>
            <p:cNvSpPr/>
            <p:nvPr/>
          </p:nvSpPr>
          <p:spPr>
            <a:xfrm>
              <a:off x="6631560" y="1714680"/>
              <a:ext cx="11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맑은 고딕"/>
                </a:rPr>
                <a:t>Base view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직사각형 42"/>
            <p:cNvSpPr/>
            <p:nvPr/>
          </p:nvSpPr>
          <p:spPr>
            <a:xfrm>
              <a:off x="4882320" y="50986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맑은 고딕"/>
                </a:rPr>
                <a:t>DVc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63" name="직선 화살표 연결선 43"/>
            <p:cNvCxnSpPr/>
            <p:nvPr/>
          </p:nvCxnSpPr>
          <p:spPr>
            <a:xfrm flipV="1">
              <a:off x="3754080" y="3487680"/>
              <a:ext cx="1080" cy="1767240"/>
            </a:xfrm>
            <a:prstGeom prst="straightConnector1">
              <a:avLst/>
            </a:prstGeom>
            <a:ln w="25560">
              <a:solidFill>
                <a:srgbClr val="000000"/>
              </a:solidFill>
              <a:prstDash val="sysDash"/>
              <a:miter/>
            </a:ln>
          </p:spPr>
        </p:cxnSp>
        <p:cxnSp>
          <p:nvCxnSpPr>
            <p:cNvPr id="164" name="직선 화살표 연결선 44"/>
            <p:cNvCxnSpPr>
              <a:stCxn id="152" idx="2"/>
              <a:endCxn id="165" idx="0"/>
            </p:cNvCxnSpPr>
            <p:nvPr/>
          </p:nvCxnSpPr>
          <p:spPr>
            <a:xfrm flipH="1">
              <a:off x="1961280" y="3486960"/>
              <a:ext cx="952920" cy="1611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66" name="직선 화살표 연결선 45"/>
            <p:cNvCxnSpPr>
              <a:stCxn id="167" idx="3"/>
            </p:cNvCxnSpPr>
            <p:nvPr/>
          </p:nvCxnSpPr>
          <p:spPr>
            <a:xfrm flipV="1">
              <a:off x="2801880" y="4689360"/>
              <a:ext cx="3552480" cy="40860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68" name="직사각형 46"/>
            <p:cNvSpPr/>
            <p:nvPr/>
          </p:nvSpPr>
          <p:spPr>
            <a:xfrm>
              <a:off x="4001040" y="4579200"/>
              <a:ext cx="69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맑은 고딕"/>
                </a:rPr>
                <a:t>DVc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”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69" name="직선 화살표 연결선 47"/>
            <p:cNvCxnSpPr/>
            <p:nvPr/>
          </p:nvCxnSpPr>
          <p:spPr>
            <a:xfrm flipV="1">
              <a:off x="3080160" y="3487680"/>
              <a:ext cx="1080" cy="1767240"/>
            </a:xfrm>
            <a:prstGeom prst="straightConnector1">
              <a:avLst/>
            </a:prstGeom>
            <a:ln w="25560">
              <a:solidFill>
                <a:srgbClr val="000000"/>
              </a:solidFill>
              <a:prstDash val="sysDash"/>
              <a:miter/>
            </a:ln>
          </p:spPr>
        </p:cxnSp>
        <p:sp>
          <p:nvSpPr>
            <p:cNvPr id="165" name="직사각형 48"/>
            <p:cNvSpPr/>
            <p:nvPr/>
          </p:nvSpPr>
          <p:spPr>
            <a:xfrm>
              <a:off x="1794240" y="5097960"/>
              <a:ext cx="336960" cy="271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맑은 고딕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”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직사각형 49"/>
            <p:cNvSpPr/>
            <p:nvPr/>
          </p:nvSpPr>
          <p:spPr>
            <a:xfrm>
              <a:off x="2127960" y="4825800"/>
              <a:ext cx="673920" cy="543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맑은 고딕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”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직사각형 50"/>
            <p:cNvSpPr/>
            <p:nvPr/>
          </p:nvSpPr>
          <p:spPr>
            <a:xfrm>
              <a:off x="2220840" y="1714680"/>
              <a:ext cx="167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맑은 고딕"/>
                </a:rPr>
                <a:t>Dependent view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직사각형 51"/>
            <p:cNvSpPr/>
            <p:nvPr/>
          </p:nvSpPr>
          <p:spPr>
            <a:xfrm>
              <a:off x="1059480" y="28879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맑은 고딕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직사각형 52"/>
            <p:cNvSpPr/>
            <p:nvPr/>
          </p:nvSpPr>
          <p:spPr>
            <a:xfrm>
              <a:off x="964080" y="526176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맑은 고딕"/>
                </a:rPr>
                <a:t>t-1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직사각형 53"/>
            <p:cNvSpPr/>
            <p:nvPr/>
          </p:nvSpPr>
          <p:spPr>
            <a:xfrm>
              <a:off x="2016000" y="3697200"/>
              <a:ext cx="628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맑은 고딕"/>
                </a:rPr>
                <a:t>M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맑은 고딕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5440" y="58320"/>
            <a:ext cx="8628120" cy="5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슬라이드 번호 개체 틀 3"/>
          <p:cNvSpPr/>
          <p:nvPr/>
        </p:nvSpPr>
        <p:spPr>
          <a:xfrm>
            <a:off x="855360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08DE-9155-4915-9C7D-D01CA47D26B8}" type="slidenum"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738360" y="642960"/>
            <a:ext cx="84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The proposed method vs. HTM 8.0 on CTC&gt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452520" y="1262160"/>
            <a:ext cx="89708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5440" y="58320"/>
            <a:ext cx="8628120" cy="5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Derivation of motion-aware temporal disparity vector are proposed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0.1% coding gain for synthesized view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It is recommended to adopt proposed method into 3D-HEV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855360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43BF-F16F-454F-B478-ABF55B19C02F}" type="slidenum">
              <a:rPr b="1" lang="ko-K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1:02:19Z</dcterms:created>
  <dc:creator>남정학/선임연구원/Convergence(연)ATS팀(junghak.nam@lge.com)</dc:creator>
  <dc:description/>
  <dc:language>en-US</dc:language>
  <cp:lastModifiedBy>junghak.nam</cp:lastModifiedBy>
  <dcterms:modified xsi:type="dcterms:W3CDTF">2013-10-24T12:46:50Z</dcterms:modified>
  <cp:revision>20</cp:revision>
  <dc:subject/>
  <dc:title>슬라이드 1</dc:title>
</cp:coreProperties>
</file>