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263F-356F-4CAA-8424-52630195C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A459-4CB5-40B9-9EB9-72476080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4803-A0EF-4748-ACFA-36963885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CAE2-1896-4D20-BE2D-A1651D9B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1A9B-879D-4511-8A33-BB7BBBC5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2580-8C90-4B52-ADA3-9E78F73C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47C9-B20A-4A56-B278-407024A0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2EA3-D3BF-43C2-936D-AF07B53F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E193-2C8C-4CC3-B2CB-3BFB4F88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18CA-F537-48CD-9E26-7CEF0823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39F5-3C07-4FB7-A4B5-5C022681B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8637-EC18-4CAB-9FD4-3E2489218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93547A-1110-47C8-8F9C-E7661D3E000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BF337-FC96-46F4-B933-45DDB8322FC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38D1C-1D6C-4F6A-95CD-03BD07F11A4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66CB0-C204-47A2-8660-BFEBD0AC602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8885A-3D34-43C4-AA13-FA6EB60179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837CC-6323-49B0-9BB1-A6D31C8EBD6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63D9C-7484-4607-8FAF-496D06A93DB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FE053-DC71-48A8-BA2E-BB57199FC0D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C5C6B-D048-49EE-987E-4C3AE68E2C1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C0521-5F94-4AF4-A7FE-9FD2F0C88BB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6340F-C1A9-441A-BD14-30A3F3B1ECA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7133A-EC8F-4DE4-B3FE-C69164BAEE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1"/>
          <p:cNvSpPr/>
          <p:nvPr/>
        </p:nvSpPr>
        <p:spPr>
          <a:xfrm>
            <a:off x="0" y="6453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Line 14"/>
          <p:cNvSpPr/>
          <p:nvPr/>
        </p:nvSpPr>
        <p:spPr>
          <a:xfrm>
            <a:off x="0" y="5349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24A1-74CB-474B-A013-614319487B16}" type="slidenum">
              <a:rPr b="0" lang="ko-KR" sz="1200" spc="-1" strike="noStrike">
                <a:solidFill>
                  <a:srgbClr val="898989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Line 21"/>
          <p:cNvSpPr/>
          <p:nvPr/>
        </p:nvSpPr>
        <p:spPr>
          <a:xfrm>
            <a:off x="0" y="6453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Line 14"/>
          <p:cNvSpPr/>
          <p:nvPr/>
        </p:nvSpPr>
        <p:spPr>
          <a:xfrm>
            <a:off x="0" y="5349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Num" idx="4"/>
          </p:nvPr>
        </p:nvSpPr>
        <p:spPr>
          <a:xfrm>
            <a:off x="8553240" y="6453360"/>
            <a:ext cx="85716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D9B8-DA63-4BE5-8005-D6C0636CFE0C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그림 5" descr="백색바탕.png"/>
          <p:cNvPicPr/>
          <p:nvPr/>
        </p:nvPicPr>
        <p:blipFill>
          <a:blip r:embed="rId1"/>
          <a:stretch/>
        </p:blipFill>
        <p:spPr>
          <a:xfrm>
            <a:off x="8388360" y="6012000"/>
            <a:ext cx="1290600" cy="6458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330120" y="1268280"/>
            <a:ext cx="9250560" cy="129708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CE4 related: Coding of weighting factor of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advanced residual predic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(JCT3V-F0161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4182480" y="537840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돋움"/>
              </a:rPr>
              <a:t>Oct. 2013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 Box 36"/>
          <p:cNvSpPr/>
          <p:nvPr/>
        </p:nvSpPr>
        <p:spPr>
          <a:xfrm>
            <a:off x="3913200" y="575640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돋움"/>
              </a:rPr>
              <a:t>LG Electronic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Text Box 29"/>
          <p:cNvSpPr/>
          <p:nvPr/>
        </p:nvSpPr>
        <p:spPr>
          <a:xfrm>
            <a:off x="0" y="3714840"/>
            <a:ext cx="990612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Jin Heo (jin78.heo@lge.com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Sunmi Yoo (sunmi.yoo@lge.com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Sehoon Yea (sehoon.yea@lge.com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5440" y="58680"/>
            <a:ext cx="86281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15800" y="691920"/>
            <a:ext cx="9180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posed metho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y initial value of CABAC context model of ARP weighting factor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% coding gain under CT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osscheck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CT3V-F0206 (by Samsu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15440" y="58680"/>
            <a:ext cx="86281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osed Metho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15800" y="692280"/>
            <a:ext cx="89949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yntax elements of ARP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_res_pred_flag: indicate whether inter-view residual prediction is use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se three contexts decided by the presence of the iv_res_pred_flag in the above and the left CU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txIdx: 0~2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_res_pred_weight_idx: specify the index of the weighting facto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se one contex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txIdx: 3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309680" y="3571920"/>
          <a:ext cx="7286760" cy="1127160"/>
        </p:xfrm>
        <a:graphic>
          <a:graphicData uri="http://schemas.openxmlformats.org/drawingml/2006/table">
            <a:tbl>
              <a:tblPr/>
              <a:tblGrid>
                <a:gridCol w="1366920"/>
                <a:gridCol w="739800"/>
                <a:gridCol w="739800"/>
                <a:gridCol w="739800"/>
                <a:gridCol w="739800"/>
                <a:gridCol w="741240"/>
                <a:gridCol w="739800"/>
                <a:gridCol w="739800"/>
                <a:gridCol w="73980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tialization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ri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txIdx of iv_res_pred_weight_id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t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309680" y="5159520"/>
          <a:ext cx="7286760" cy="1127160"/>
        </p:xfrm>
        <a:graphic>
          <a:graphicData uri="http://schemas.openxmlformats.org/drawingml/2006/table">
            <a:tbl>
              <a:tblPr/>
              <a:tblGrid>
                <a:gridCol w="1366920"/>
                <a:gridCol w="739800"/>
                <a:gridCol w="739800"/>
                <a:gridCol w="739800"/>
                <a:gridCol w="739800"/>
                <a:gridCol w="741240"/>
                <a:gridCol w="739800"/>
                <a:gridCol w="739800"/>
                <a:gridCol w="73980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tialization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ri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txIdx of iv_res_pred_weight_id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t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아래쪽 화살표 6"/>
          <p:cNvSpPr/>
          <p:nvPr/>
        </p:nvSpPr>
        <p:spPr>
          <a:xfrm>
            <a:off x="4595760" y="4794120"/>
            <a:ext cx="71460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5440" y="58680"/>
            <a:ext cx="86281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erimental Result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15800" y="692280"/>
            <a:ext cx="89949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T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776160" y="1285920"/>
            <a:ext cx="8353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5440" y="58680"/>
            <a:ext cx="86281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15800" y="692280"/>
            <a:ext cx="89949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posed method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nge initial value of CABAC context model of ARP weighting factor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% coding gain under common test condi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05:44:28Z</dcterms:created>
  <dc:creator>admin</dc:creator>
  <dc:description/>
  <dc:language>en-US</dc:language>
  <cp:lastModifiedBy>김태섭/연구원/Convergence(연)ATS팀(taesup.kim@lge.com)</cp:lastModifiedBy>
  <dcterms:modified xsi:type="dcterms:W3CDTF">2013-10-25T04:14:06Z</dcterms:modified>
  <cp:revision>2741</cp:revision>
  <dc:subject/>
  <dc:title>슬라이드 1</dc:title>
</cp:coreProperties>
</file>