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0AF1-1916-4EBF-B6D7-70485F6E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526-E189-4653-A427-F7D4C90A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96E0-A90A-4B4E-BAE8-42A55A7E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9E6E-5D86-4A05-9011-523C9B24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873F-B1C0-4318-A0B7-4016743F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06B-6CF7-4194-AD87-127E6CE6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F7BD-0708-465F-B925-DF3791A8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B84-8AB6-4703-86D2-561348C5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5D4E-E2F8-42DC-9D00-07B86401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C80-A89C-40AC-9ECC-CF523155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4EA-3ECF-4AA7-8FB6-A8B7DE98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4646-8D05-4F62-A209-48139F7E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5B903-BD83-4FE7-9E18-C110D35C65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E7AD0-E1D2-4C81-9CE8-A70C2BC5F7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00971-EDE4-4CCB-BEEE-73A32E6F33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1E259-C3A3-4C55-A1B6-4EB27EF154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DC21C-E34B-4BF8-8801-E91C265D57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D1AF7-D29E-4CC1-BE4C-6F116FC672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1E339-2B98-4588-81A5-1542C62103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B363E-0AAA-4FC3-89A9-D0933C1011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6CA35-9A27-4BE6-BA7D-9B149805E7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7888D-4C9D-4883-A9B5-74CD6A28D0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25849-6B11-443D-8D2D-F391647071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64E1B-D68B-42A5-9F5D-274BE844F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3C97-5187-4B6F-B54C-EB70869A58FE}" type="slidenum">
              <a:rPr b="0" lang="ko-KR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Num" idx="4"/>
          </p:nvPr>
        </p:nvSpPr>
        <p:spPr>
          <a:xfrm>
            <a:off x="855324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5A69-AE2C-479B-B3BE-5F52A60C9F93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그림 5" descr="백색바탕.png"/>
          <p:cNvPicPr/>
          <p:nvPr/>
        </p:nvPicPr>
        <p:blipFill>
          <a:blip r:embed="rId1"/>
          <a:stretch/>
        </p:blipFill>
        <p:spPr>
          <a:xfrm>
            <a:off x="8388360" y="6012000"/>
            <a:ext cx="1290600" cy="6458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330120" y="1268280"/>
            <a:ext cx="9250560" cy="129708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Non-CE: Illumination compensation flag cod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(JCT3V-F0160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182480" y="53784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Oct. 201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36"/>
          <p:cNvSpPr/>
          <p:nvPr/>
        </p:nvSpPr>
        <p:spPr>
          <a:xfrm>
            <a:off x="3913200" y="575640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LG Electronic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0" y="3714840"/>
            <a:ext cx="99061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Jin Heo (jin78.heo@lge.co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Sehoon Yea (sehoon.yea@lge.co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15800" y="691920"/>
            <a:ext cx="918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ed metho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the proper context model among several context models adaptivel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2% coding gain under CT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osschec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CT3V-F0208 (by Samsu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xt model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three context models for IC flag cod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the IC context model from the presence of the IC flag of the neighboring block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value sett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9" name="그룹 6"/>
          <p:cNvGrpSpPr/>
          <p:nvPr/>
        </p:nvGrpSpPr>
        <p:grpSpPr>
          <a:xfrm>
            <a:off x="1166760" y="2357280"/>
            <a:ext cx="1981080" cy="1984680"/>
            <a:chOff x="1166760" y="2357280"/>
            <a:chExt cx="1981080" cy="1984680"/>
          </a:xfrm>
        </p:grpSpPr>
        <p:sp>
          <p:nvSpPr>
            <p:cNvPr id="130" name="직사각형 3"/>
            <p:cNvSpPr/>
            <p:nvPr/>
          </p:nvSpPr>
          <p:spPr>
            <a:xfrm>
              <a:off x="1706400" y="2901960"/>
              <a:ext cx="1441440" cy="144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urrent 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직사각형 4"/>
            <p:cNvSpPr/>
            <p:nvPr/>
          </p:nvSpPr>
          <p:spPr>
            <a:xfrm>
              <a:off x="2608200" y="2357280"/>
              <a:ext cx="539640" cy="53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직사각형 5"/>
            <p:cNvSpPr/>
            <p:nvPr/>
          </p:nvSpPr>
          <p:spPr>
            <a:xfrm>
              <a:off x="1166760" y="3799080"/>
              <a:ext cx="539640" cy="53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3" name="TextBox 7"/>
          <p:cNvSpPr/>
          <p:nvPr/>
        </p:nvSpPr>
        <p:spPr>
          <a:xfrm>
            <a:off x="3290760" y="3259080"/>
            <a:ext cx="628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txIdx = (ic_flag(A1) != 0) ? 1 : 0 + (ic_flag(B1) != 0) ? 1 : 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38360" y="5059440"/>
          <a:ext cx="2571480" cy="1260360"/>
        </p:xfrm>
        <a:graphic>
          <a:graphicData uri="http://schemas.openxmlformats.org/drawingml/2006/table">
            <a:tbl>
              <a:tblPr/>
              <a:tblGrid>
                <a:gridCol w="1143000"/>
                <a:gridCol w="714240"/>
                <a:gridCol w="714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lization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i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txIdx of ic_f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309920" y="5059440"/>
          <a:ext cx="4857840" cy="1260360"/>
        </p:xfrm>
        <a:graphic>
          <a:graphicData uri="http://schemas.openxmlformats.org/drawingml/2006/table">
            <a:tbl>
              <a:tblPr/>
              <a:tblGrid>
                <a:gridCol w="1143000"/>
                <a:gridCol w="619200"/>
                <a:gridCol w="619200"/>
                <a:gridCol w="619200"/>
                <a:gridCol w="619200"/>
                <a:gridCol w="618840"/>
                <a:gridCol w="61920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lization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i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txIdx of ic_f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오른쪽 화살표 16"/>
          <p:cNvSpPr/>
          <p:nvPr/>
        </p:nvSpPr>
        <p:spPr>
          <a:xfrm>
            <a:off x="3541680" y="5462640"/>
            <a:ext cx="571680" cy="4284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T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774720" y="1285920"/>
            <a:ext cx="8353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ed method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an adaptive context model selection method for illumination compens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 the initial value of each context mod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.2% coding gain under CTC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5:44:28Z</dcterms:created>
  <dc:creator>admin</dc:creator>
  <dc:description/>
  <dc:language>en-US</dc:language>
  <cp:lastModifiedBy>김태섭/연구원/Convergence(연)ATS팀(taesup.kim@lge.com)</cp:lastModifiedBy>
  <dcterms:modified xsi:type="dcterms:W3CDTF">2013-10-23T08:40:22Z</dcterms:modified>
  <cp:revision>2741</cp:revision>
  <dc:subject/>
  <dc:title>슬라이드 1</dc:title>
</cp:coreProperties>
</file>