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F38-8BEB-45DF-AB14-E3EDAC507C1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슬라이드 번호 개체 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08B6-BBB4-443D-88E5-F8FEB86AFE3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F5C-DD18-4B47-81BD-695A71BB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3B1-914F-41BC-9035-621EDA3F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2C9-42E7-4D89-A2EC-7F44267A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824-7069-417C-8A8E-5FFC30B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11A-AE6E-4E84-B659-FEA3B6F6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DFE-9E52-4461-85E7-0FA13FF5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ED5-A29B-4184-96E3-35645DD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867-E956-403F-979E-219362DB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A09-7134-4060-8F27-CE2F519A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A1F-BF47-422B-B8FF-275902C8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EA5-3A33-4E00-A837-385B368B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52B-BE8F-411B-AA24-B292265D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31A4F-9432-4206-A2FD-AF3A51CFB8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F07B8-DD63-42A0-B796-07ED175C8F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9AA89-D7C6-4A7E-ABC3-789BD6BE04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A9611-296B-4D38-A372-F2AFF7462A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984EC-2BE6-4A8A-9343-3A7617F6E7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5DA28-6DF1-4F82-BDA6-1AC23A77F0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906D2-613F-4D7C-9E6E-ACA9BFD0D1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9DE3F-E0F7-4DE1-9F59-3B65345829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51DBB-E039-4F50-9FFF-A6BBC85E38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C3A91-7B99-41E7-B180-A4552F907D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E01F4-6C92-478E-9D50-F9297318B7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2B021-2427-45EF-AEBF-BCB26FC6B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073-C915-4479-B0AF-80376159AC7F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C7DF-862A-4295-9974-D3B5624D06F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330120" y="1268280"/>
            <a:ext cx="9250560" cy="1297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3D-CE5.h Fast depth lookup table application metho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to intra modes for Depth dat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(JCT3V-F0159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182480" y="53784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Oct. 20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3913200" y="5756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0" y="3714840"/>
            <a:ext cx="990612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Jin Heo (jin78.heo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Jie Jia (jie.ji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ehoon Yea (sehoon.ye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5800" y="691920"/>
            <a:ext cx="918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CT3V-E015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y DLT to all intra modes of depth ma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TC: 0.3% coding gain, enc/dec time: 96.6%/98.8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: 0.5% coding gain, enc/dec time: 149.9%/103.7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 of encoding ti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st DLT application method to all intra modes of depth ma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ssche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0207 (by Samsu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CT3V-E015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ide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 residual as the difference of DLT index of original and prediction pixel valu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two different residu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idue by the original method: Resi[x] = org[x] – pred[x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idue by the proposed method: Resi[x] = DLT[org[x]] – DLT[pred[x]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intra modes excluding SDC are tested tw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od I: applying DLT to 2Nx2N block siz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y DLT to all intra modes of depth map only in 2Nx2N block siz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od II: Method I + reduction of the number of candidate mod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ified RDO: select 8 modes among 35 mod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method: select 4 modes among 35 modes in simplified RD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od III: applying DLT to particular mod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ace original residual generation method with applying DLT method in particular intra modes; DMM, RBC, DC, vertical, and horizont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thout interpolation 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ta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necessariness of a flag bi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ss complexity compared to Method I and Method II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 I: applying DLT to 2Nx2N block siz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T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789200" y="646200"/>
            <a:ext cx="7807320" cy="2854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1789200" y="3575160"/>
            <a:ext cx="780732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800" y="58680"/>
            <a:ext cx="918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 II: Method I + reduction of the number of candidat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T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809720" y="646200"/>
            <a:ext cx="7807320" cy="2854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809720" y="3575160"/>
            <a:ext cx="780732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 III: applying DLT to particular mod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T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646280" y="642960"/>
            <a:ext cx="7807320" cy="2854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1646280" y="3575160"/>
            <a:ext cx="780732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metho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st DLT application to all intra modes excluding SDC mod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 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TC: -0.1% gain, Encoding time: 102.9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: -0.3% gain, Encoding time: 110.2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 I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TC: -0.1% gain, Encoding time: 101.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: -0.2% gain, Encoding time: 107.1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 III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TC: -0.1% gain, Encoding time: 100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: -0.2% gain, Encoding time: 100.5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김태섭/연구원/Convergence(연)ATS팀(taesup.kim@lge.com)</cp:lastModifiedBy>
  <dcterms:modified xsi:type="dcterms:W3CDTF">2013-10-26T05:38:41Z</dcterms:modified>
  <cp:revision>2744</cp:revision>
  <dc:subject/>
  <dc:title>슬라이드 1</dc:title>
</cp:coreProperties>
</file>