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B91-B484-4092-A60F-47B37BB2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776-53DC-4BAA-9068-D25012A0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622-EC2D-4044-BC12-BA775316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683-BA5C-422B-B9B5-CC2A22C6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F64-F638-475A-AA3A-84046096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908-9DE8-47E9-BF4A-1BDF2017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980-BBD6-4E7C-A312-A953E3F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4D6-D6D2-49D1-80B4-B2F3383D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0C2-2CE6-492D-9B09-D0598F2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5C9-91F6-42A5-B00E-EEEE65B9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A26-FA0C-4B51-97F5-CEEBD0E2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03C-7229-46DD-B4E3-3642110F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6B7C5-8899-4C36-AFBF-384D3EDCB0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87032-E115-494E-A362-324569003C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E615D-71E6-4079-94F3-CD86CB7B6F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E11B8-236A-47C0-86AD-35A8229999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01413-2F73-4016-8C2E-CB90FECC2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46EDC-BB93-41E7-9AE2-FE44802C6E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6658D-075E-4F3C-B70E-1223D23FF8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B24AF-5877-4B06-8708-6C606D8D13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58956-2997-4580-9180-A3A5463E0F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04D13-F907-417E-9271-4783DF3BEA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E4B82-4F7E-4149-90EF-CE44A29B4F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73838-1C25-4109-8F4F-92E627143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998A-59CC-4806-B74F-276577E69658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FF5B-F070-4282-B5B2-254275A8C87A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30120" y="1268280"/>
            <a:ext cx="9250560" cy="129708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E5.h related: Software bug-fix on all zero residual metho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in intra-pi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(JCT3V-F0158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182480" y="53784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Oct. 20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3913200" y="5756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0" y="3714840"/>
            <a:ext cx="9906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Jin Heo (jin78.heo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ehoon Yea (sehoon.yea@lge.com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Bu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5800" y="691920"/>
            <a:ext cx="918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CT2-A0087, Rate distortion optimized selection between non-zero residual and all-zero residual in intra coding of dept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ate distortion optimization (RDO) selection between non-zero and all-zero residuals in intra mode co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appl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-picture of dep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Bu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apply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ra-picture of dep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current 3D-HEVC softwa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ssche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CT3V-F0226 (by Samsu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T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666800" y="600120"/>
            <a:ext cx="7807320" cy="2854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666800" y="3546360"/>
            <a:ext cx="780732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bu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 coding performance and complexity of both CTC and A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pecially, more sensitive to AI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TC: 0.0%, enc/dec time: 97.7%/93.3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: 0.3% loss, enc/dec time: 76.9%/97.0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김태섭/연구원/Convergence(연)ATS팀(taesup.kim@lge.com)</cp:lastModifiedBy>
  <dcterms:modified xsi:type="dcterms:W3CDTF">2013-10-24T13:16:41Z</dcterms:modified>
  <cp:revision>2749</cp:revision>
  <dc:subject/>
  <dc:title>슬라이드 1</dc:title>
</cp:coreProperties>
</file>