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94.xml" ContentType="application/vnd.openxmlformats-officedocument.theme+xml"/>
  <Override PartName="/ppt/theme/theme29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62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1.xml" ContentType="application/vnd.openxmlformats-officedocument.theme+xml"/>
  <Override PartName="/ppt/theme/theme96.xml" ContentType="application/vnd.openxmlformats-officedocument.theme+xml"/>
  <Override PartName="/ppt/theme/theme95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media/image11.png" ContentType="image/png"/>
  <Override PartName="/ppt/media/image14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</p:sldMasterIdLst>
  <p:notesMasterIdLst>
    <p:notesMasterId r:id="rId98"/>
  </p:notesMasterIdLst>
  <p:sldIdLst>
    <p:sldId id="256" r:id="rId99"/>
    <p:sldId id="257" r:id="rId100"/>
    <p:sldId id="258" r:id="rId101"/>
    <p:sldId id="259" r:id="rId102"/>
    <p:sldId id="260" r:id="rId103"/>
    <p:sldId id="261" r:id="rId104"/>
    <p:sldId id="262" r:id="rId105"/>
    <p:sldId id="263" r:id="rId106"/>
    <p:sldId id="264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notesMaster" Target="notesMasters/notesMaster1.xml"/><Relationship Id="rId99" Type="http://schemas.openxmlformats.org/officeDocument/2006/relationships/slide" Target="slides/slide1.xml"/><Relationship Id="rId100" Type="http://schemas.openxmlformats.org/officeDocument/2006/relationships/slide" Target="slides/slide2.xml"/><Relationship Id="rId101" Type="http://schemas.openxmlformats.org/officeDocument/2006/relationships/slide" Target="slides/slide3.xml"/><Relationship Id="rId102" Type="http://schemas.openxmlformats.org/officeDocument/2006/relationships/slide" Target="slides/slide4.xml"/><Relationship Id="rId103" Type="http://schemas.openxmlformats.org/officeDocument/2006/relationships/slide" Target="slides/slide5.xml"/><Relationship Id="rId104" Type="http://schemas.openxmlformats.org/officeDocument/2006/relationships/slide" Target="slides/slide6.xml"/><Relationship Id="rId105" Type="http://schemas.openxmlformats.org/officeDocument/2006/relationships/slide" Target="slides/slide7.xml"/><Relationship Id="rId106" Type="http://schemas.openxmlformats.org/officeDocument/2006/relationships/slide" Target="slides/slide8.xml"/><Relationship Id="rId107" Type="http://schemas.openxmlformats.org/officeDocument/2006/relationships/slide" Target="slides/slide9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 type="dt" idx="2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 type="ftr" idx="2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 type="sldNum" idx="2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4EB-7F12-4537-87AB-B8DB124C72A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6613-F5EF-40D9-BD18-540EB9779B8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5C8F-B96F-4AA5-AD43-E74C37C4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C4ED-43C8-451F-BC55-74B1BFE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155F3-3043-468F-A8B6-7DF272D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D0DD1E6-F1FF-462D-8DAC-5D902251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9B6FDFE-1F9A-4D46-A2EA-772E120A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BB9061-9DF2-43F2-BEC7-1068804D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47DE5E7-EA0D-4452-A0DD-C41DFC0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E0CA2D4-81B5-4662-A90C-D8192C1A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1B3419C-B3F4-42C5-8986-173A61E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F3EF346-7227-44C9-9170-6B422AD1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35A0F36-A26A-4C83-936D-E195FC91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346B2E7-A898-4F52-9E0B-077D918C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9F638B3-AB2D-49E4-BA7D-8C40BAC8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F27C4-5B46-4951-A41B-EBDB7F3E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4D77FF0-F208-4DE2-8F65-F422004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D8705B2-45EE-46E8-82AE-11EC89C1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6BE8FA2-A11D-42F7-AAFF-EDC4F6E1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0FEA9A7-B33E-4A46-ABBB-687017A6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FEBBF5E-4750-4864-B9F2-93FFBF8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4A1000D-7682-480B-92D0-72914E1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B6ECA46-3549-4718-B97F-18011AC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FEB332D-2F48-48E6-B4E9-24F8356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56264B0-77F7-4AA7-BF73-597D98D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B4FE3A5-B036-4B21-9A77-CF7C1CE5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208BE-6944-44DB-82EC-B600FEF5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A1A88A4-75AD-47B0-B6EA-1CBD9DEB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3F26538-2FC7-45CE-9AC5-8F58F86085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CF7020D-A35F-4895-8C3B-C51A528B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39C2FCC-EEF5-4E77-8774-123E663D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21FEA44-25F8-42B5-8978-F652DBD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2E733ED-7B1E-4FB6-8F0D-AE5EFA08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37AB22B-E17A-4306-8626-C9D7369B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DD36046-B1CD-495A-88C5-A82A172A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87FD868-1C56-434F-93CA-F0EBE40F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46629C3-B5A5-47A5-A84B-9F5B1688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17773-F40B-4C84-981A-5AAC81DE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CB62A98-24EC-42F6-AEEB-A04C5BDF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FD2804F-8D32-4588-9A3C-C7192FD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BE84EC7-BA68-4EF4-88CE-75452F45E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270F52B-C076-4F26-B98A-AFE25D887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8324533A-C3F0-43E4-9C38-3294456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5E95F23-C65E-44F3-9491-7FD1FD6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0D4BBD6-CF06-4B07-BE2D-3D62257C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636311E9-526A-4682-A79C-71E73661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BF9E605-EA7E-440B-9513-0182EFCD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46141992-816E-491A-B062-5645DF6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7BFFA-A07D-474F-9031-8E184B5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6270CC08-F820-4951-85E8-4F1F5AC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03A97CA-5D10-447C-B665-D1821501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C4F52952-BBF1-4DDC-8EB6-3C29D465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8E0605B-18B9-4289-A3DF-40D7DD1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1B6EECA-63CA-4220-976E-9BB8B0EE1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1E4F4AC-2DD6-47D4-AE26-23D0F2BE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414A058-0A02-4F86-B46D-C2EA466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0B1F36D-D0CF-4FD2-930D-CF672F34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743E9F5-F194-4533-A8BD-7BDDA4E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B8DB8D8-F899-48A1-B0A3-8F4C155E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C2559-1AA4-4C9F-95B2-1E9DA2D5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668D4F2-DF58-4E34-95B6-BD4DB5F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1BC2448-222E-4227-82F4-85DB086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B4DE087-B636-40E5-A483-14A96D7D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9F13DCB-5C01-4E90-8DAD-D5FE818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4CB9311-B521-459B-9AF3-9AAA739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650F111-A506-45C6-81D5-FA1E4180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089B4AC-C069-4A07-987F-0B9C6EE8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9F930E1-9E7D-4B63-8D99-06EAF60D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96AEA78-E3F1-41BC-8A82-63BE2062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B49574D-3898-4ED0-942A-CBACCB9E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375EA-75A7-4760-BCBA-03B5F8DB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FEC4247-4877-465B-8A1A-A387B51D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C1010F3-10EE-4A9C-AD7F-FCFBDD3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D33DFAD-B19D-4A90-9015-407C3B8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4E4259A-2C75-4DD1-AF9E-5FBFB59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B5EC8D6-0A73-4528-8FAD-CAD20D6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5CA24F1-B3BA-4F94-A18F-56E1F34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6738F82-F7D5-438D-9655-FAB298B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C23398A-EC95-4EB5-8739-5B59E8B6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7220CF2-CE00-4A43-809B-6C9A64FA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594D5E2-5BDE-404B-A8A0-6546DA23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E522A0-6910-4260-9962-257E68BD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2CCA9D3-C367-4F71-96A4-98D5CEBA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09913A9-4A63-4085-80C5-36C944AB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093A518-4FE2-40FB-B7EA-14F6CDB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B0002D1-0565-4534-8DEA-1392BF7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5F028FD-7D15-476A-BDDE-42B622F3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6F59964-CBC2-46F4-998B-6BE7F4E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0A006E9-6E40-4F0A-A968-ED1F15DF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230A066-1BF6-4541-83A5-E78FE18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8E87B89-ABDB-4D88-9D50-13EA5889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9F59CE3-CD51-472B-86BD-3AF0FB37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6F5469-A0E2-4354-96A7-3B47FB725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B9285E2-0022-421D-8071-2402A453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883BE08-986C-4D74-8ADF-20F2853B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03BCE3B-25A1-4862-B6B9-B2F78578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F17C37C-CD6F-43F2-B7E4-5403CEF7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AA86ECB-C622-41C3-9656-00CA237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34C5070-58B2-48E3-AEA2-8C7F25C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5FA6672-2CF3-4869-99C9-7BBF389F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D9279B0-39F5-4A9C-8836-4158C834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8C2ED32-F68F-417E-A95E-B118AFA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83FB3B4-DD3D-4683-902C-50A69EC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6985E-BB0A-45FD-A150-18214D5F7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5033845-2CC7-4D5D-A552-B4790F32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254D8FC-987B-4CC7-957A-4CB0046B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8ABDD9B-C279-4215-8BA2-239E3239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22B66F5-BB9C-4415-A851-AC48AF4B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D57F8AE-46F3-4524-B1C4-D3C6EBEA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ED0F951-3840-41F3-B8BF-B86BE5E1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FDBAE79-C518-4684-93FC-6794547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F606214-D45C-4900-8705-E6D4AC2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AD64581-156D-45C4-8060-0713F20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A478202-6AA6-4C3E-BEBD-77DC6AA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E655-7E38-4D45-B240-3098871B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F3A0E-2B9D-43F6-BDE3-99B7715F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DEE3EDD-F33F-49D9-BDCE-3A6A554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DACF792-40E6-4DE2-B3EE-BCB41A79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C67978C-6B7F-4976-9279-20C9635C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585B96A-3016-4E5A-8797-A2F06A8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4710C1F-A336-4A96-9F7F-271F7E12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DB37D0F-7588-4F40-84C7-E494F083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3C84FD1-B84C-4BB9-B35B-863F3006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101E22B-34ED-4001-92FB-A7F0106E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DCAD167-D2CE-41C6-A22A-91EB87C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61DDF11-49B2-45FC-8CE7-405D8AB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62205-7C25-43F4-95FB-14764CD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1E4C43F-5782-4063-AB42-16E2AC6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DEBF8CE-9D94-489E-9BF7-0A90348D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21885FB-4C71-4A2C-BB7E-0A3B3CA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D680136-9732-48F4-8C4F-FFF11416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DE77A9A-DAE7-4B86-A3FE-E0550B9B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8398119-2BC6-47C8-A791-3E6C4169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9DD359F-EBB6-41BB-817E-2617ABF9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71A5E74-732F-4912-A0B5-763F6850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E42A4C9-5230-4D48-AA5A-A7E2842F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660BC72-0A02-4CB9-8AF7-A9BB113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B8678-2CA1-4366-814F-05027C8D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5FD459F-AA96-4EE9-B0E3-D986EB3B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872D16F-D2A8-41C0-9387-8BD49C6A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BF13464-8178-4E59-955A-F031CAFE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7E9698F-55A5-43D4-ACE4-24B15EC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7EACC12B-A8BE-4B21-8419-95E3B228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A0C2B3E-56A0-4203-BFC8-E23CA6F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2843DF8-62AF-4CB2-8BD9-F8DE441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BD99D7F-2E42-49D9-9AA4-5355CE9A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27E1B35-8F9E-49D7-8D4F-E66784F5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0E4AEBF2-47EE-4C5E-BA8A-6907150C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2464F-0B7A-4345-888E-F5A8BC1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576B8118-76E1-4604-A5F7-2C9217D5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E0853BA-9697-4F46-A9FB-10D9081F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1374A26A-C39B-42BE-B15B-19D3D5DF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9FBEFDDD-F056-45C0-8F9B-E8F7CCED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A5BA3BA2-ED6A-43CC-8B18-F05CBC82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1C51547C-2958-4FE9-BF10-A256198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3C315E8-C32D-4469-B0BE-D9B4D21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9E33165-9866-4B78-B3CF-6E24D12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C0186712-189E-418B-91D9-CA0C9BD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E51316B9-6B7E-459C-B6C8-65F4BF00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5610D-9313-4E01-B418-11B1DD30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8A45F18D-0747-4641-9729-6F897ECA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1825CC0-85C9-4687-9B41-9A72FD0A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A5F4193A-E997-4024-AFC1-815077F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2307FFC7-77C3-4B8F-924E-E9C79023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EEC7173F-AA17-4EAC-A3C1-086FD33C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7E27B1EB-1E66-4653-896A-37AB90B5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9FCF33CD-CD37-4741-B0D9-389DE68E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D73A7538-7035-47A1-AC05-075CFB0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8474670-59E9-4668-9BD9-1F11C5D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5DC385DE-AFD7-4549-9B76-7ED2DD0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40A1A-2896-4D56-9B88-38762C5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1872E00F-DC9E-42A7-A01F-801B7C15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09CA2CA3-BDAC-406C-A0E5-3B91AD83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9AE76DFC-1E15-49D4-8834-DF4286D3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DEB2F-ED96-4D52-BF03-98B1D68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AE909-ADE8-424B-9CE0-E1A26B7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BEF51-9091-49D4-8704-1438FEDC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A3E2E-72DD-477F-B91D-94C3B80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D862-96D4-49BE-AD3B-30CB5E19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891B1-D231-4656-BFFC-2D359AE7D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5307D-07F5-42E7-B597-971E65AA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829D0-21AE-47A5-8409-0FEFA691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DE6B6-3FDB-4026-911D-BB29BB1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9D865-0ABF-405C-81B0-6DC3EB24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0F3C4-D454-41EB-9BF0-DACC4A3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7402-600E-4428-BB2F-73CD49CA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BF7C9-41F4-4BD0-BE51-0D7A8A0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ED381-872F-42D1-A12E-A53DC4A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E2B9F-5665-4895-BA6C-FC1CFD9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64F7E-22D6-493B-AD50-222508D9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7254-D7BE-4719-A532-A3407105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A8AC0-261B-4E96-9604-8D2A597A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1016D-98BE-4BCC-B858-9EADB437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D6427-745A-4E68-93E2-998FF9A2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CEAD3-74F7-48B2-AF4D-81847AC2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5CE7B-3385-4FF8-AFDE-5436927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ED57-790E-4BCD-BE56-9F9E3595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09D3-547B-4B7C-9E79-0CA3B8E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2379C-91EE-46D6-AFC9-92FEDCE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0DE87-476B-4891-A7C5-520D201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8EDF-DAFC-4B63-BC75-8CC9A0C1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179D5-9E26-4AF1-A68B-358D356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3A00-3E8C-4979-8AD3-73BBE6C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835E8-084F-4998-98A2-BCE8ACA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1A793-F1BF-4BDC-A5B7-D48AFE4A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AC1CF-9BD7-49BC-B387-556DA162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364D5-DDA2-4498-8DCB-A259E3A6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90DBE-05D8-48D9-9EAC-7DED686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6DBA2-2B60-4313-99D2-16F39B0B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A4AA8-8A7D-4AB4-81D7-34D6EF05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C7F58-C936-4652-924F-F415AB9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E1CB0-479A-4154-B1A0-A8073B05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523E2-826E-430F-86C0-393AB2ED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71B58-067A-4751-8453-9CCDA90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824B7-3CDA-4DCC-947F-CEEE8AC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42F31-9E1F-4C26-B851-6C84B73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66DDF-6326-48BF-B0DC-FB5F8C4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4FD1F-73E7-4BD3-82DA-7E8CD9A5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B3A28-EBF8-49C8-B5CD-AC20CAED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FE0B7-886E-4F32-A6FA-4409400F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094A5-CB76-416F-84D8-48AA6549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74BA1-39B7-4C65-B937-984E5F02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9705C-563F-4396-9215-B68C88BF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E8B5C-5C9E-482F-8564-477B4EC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3A5A7-8E9A-4693-9218-0E8A85A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76C14-1847-4A44-97CE-84EA7CE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A6DBC-3350-4918-BF3C-89BBEDC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FDB6A-A28D-4FD3-AA8F-4A4BE25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CD45C-0887-49E0-82F1-43B6E34F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8F09F-A554-4DAC-96B9-E2707C8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A520D-88F5-4EEE-9F60-43B5A9F2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4370C-82B7-47FB-8855-A9C6AA58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8EFB7-7C5C-464E-BEC8-4E5EA93C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B60C9-E024-4388-A803-FBD77EC4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41B45-CFA9-46AB-9E79-4E5E81DA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E0BE4-C026-46CC-A4E5-D9749E6C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1BE3A-79B6-434F-87D1-385BE43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8A727-7DA9-4DB5-8F52-E9A4D400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7D445-3D15-4C84-9774-2E0217D4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E9052-BAB6-435D-B628-F4E33AF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5A457-293E-4DE7-B5CD-66BE962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D50F3-1EF3-45E6-BD9B-CB9E75D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E3CF4-2698-4D70-AB9F-EE89106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B9606-E542-4079-8A93-61F842A5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CEEF-0113-4BFB-BFAB-49AE674B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5D8EC-30DF-43BF-B32F-16F8A47E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E74F5-1E42-4BDE-86D8-F32977C8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C7D63-213D-4CB3-8054-F885572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B6F97-FCEB-4448-8EC9-3445F204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C7390-7F01-44E3-9FEC-C7B2F2B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58B68-95BD-4F77-85AA-9F7064F6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6160B-2449-4307-8E83-EFA0858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D41EA-FDFB-4BD1-A2B8-8EB73E9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9E284-6346-43A2-9419-137F88F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F661C-ADD0-4E84-AEF0-ADA50111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5F448-24C1-44EA-BB00-D2CF710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EB255-81DF-479C-919D-3A9C42F9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9995B-D2E9-4FAB-AEF4-7C141416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29572-F170-4300-9054-397E56D7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65F62-2BE0-4C8B-A04F-11BC319B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3A687-7C49-4695-A974-06C386B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EFFD4-505D-4424-83AA-C42AD294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9C2F6-8B61-40FC-912F-4689A21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83B55-5A2F-42BC-AABE-E7E8073E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2CCD0-6C7F-45DC-9713-2BEC384C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3FD7C-B8F3-40D6-B6CD-DE9DF93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DF9B-E01C-4C6C-A814-E4125933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7C091-BDD5-4D8B-BD23-F82670C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64281-8542-4EE2-AD73-603BBD5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8103B-B336-475F-9B6B-DA27366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42B1C-E154-4E4C-A63F-410E2F2B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1F579-4F64-4A84-980A-41351ED1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CCAA1-B6B2-4413-86EF-B5D2DCDB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BE6B7-F55A-4313-9F77-8A51B50B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E5076-D765-4A7B-82B6-74B93B7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17472-BC25-43BD-AAAC-2DC998D2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A7959-2AC1-417C-BDDA-44C63B71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14B76-D53E-4CBF-97F6-3EFF217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CE31-AE93-44ED-9C1F-EB7F658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26495-D013-4EFF-A961-3F16B898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0E636-7C17-41C1-B9FB-96A0CDE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91700-87CD-4FC5-939C-1B97BAC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0B573-D1AC-4D2C-9386-4405E3F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E5EAD-4830-4754-A7A1-4D599D37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46737-308C-4A98-8759-C46AF925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096D2-72FB-4A86-9655-55257AB4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21337-5874-4BCF-9B81-43959C6E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ABE43-37E4-4445-BC2A-1D18E2CF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5F139-B8C2-4409-B2A7-B8874B47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FBFA9-D7F0-4BA1-9704-133143E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63B6C-E94B-46B8-870B-7FD6825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0CE73-EB85-4746-9301-58D0AFA8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47026-22E8-4C4F-99B1-E7A0F02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0CF6F-CECA-41CF-896B-A0B8844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9DFB1-1399-488C-8B69-D0F3490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7532B7-D9D9-4F2D-B3F2-8921558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0D520-2527-4385-9B40-A788DAE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2C196-5E5D-4DD1-B314-F37334BC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07547-1FCF-4C88-95AE-EA3860EE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C3514-3F59-4EA3-83A7-B53C09A63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D9FE-EDAF-4A85-B86A-51BAB0D9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8463A-638D-4B72-B12D-F4DF4C7E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3DAD3-A040-43C1-81F0-5D9BC00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06FE4-30C1-405B-A973-C6AC62F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C6520-6054-4563-8E52-09C74217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9BA9F-9C08-434A-A7B2-63FB5507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CB179-C0A7-4E95-8343-A6D576E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5A773-94C2-4047-8475-0D4A056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1AFED-9362-4202-88B3-3CD3B586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635A8-38E9-49AC-8FE2-607B24C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B169F-1363-4A9C-AA7A-78F1C68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3097-E626-4B34-B673-6B043B01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8AD40-5C65-4A3E-A0B4-AF7D4A07A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978947-4F5B-436D-A12D-2A066B090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42AEBA-0A83-4173-BD60-8444C8DB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71EF45-03E1-4E85-B3DA-3249B607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CD1D20-08B1-4B74-9245-209F57DD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096A85-30E7-4CD3-943D-03E0BA68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25E556-6F63-4101-845E-2884D92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540E5C-4C5A-47EB-921A-328C78F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EE847E-5B90-48CC-94B4-088B5789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52470F-9242-416E-B20D-0E4EDCB6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251E3-9385-4CAC-B016-0BB238E2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97F377-D7CB-46C7-BB82-259D8523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9F9743-0EE7-4FCA-9433-3FB2DE8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81AD4F-620C-46B4-8B39-52F1341F2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90ABF1C-48DB-4BA4-9C5D-BAB67B55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BF19D2-532A-4371-B78B-B0020550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45BFBD-CAD7-4418-96BE-B870EA9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0952CC-6B34-4710-8AE4-7BAC417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0B69B1-1DBB-4487-B6F2-93F624F1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BF0A78-5DBA-4CDB-92DB-88D094D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F59308-FE75-4F30-9311-43F25D3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FDF56-6936-4721-B701-15ED19D8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20D19F5-FA02-468A-8E9A-B5598BC9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9C2AA0-01F2-44AB-820A-14A1E90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788276-3A1F-4B82-A9CD-C75B37F3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500773-2A48-4982-81B4-940CC17C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5A392A-87F1-46C9-AFCE-7647C3F6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B3CDDC-067D-4198-9538-F88E30D8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FBA8E3-748A-4C26-BDC1-AD96300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5125AE-93E8-4C5F-B6AE-48A09409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BFB8E5-64F4-4595-B558-259F9D1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FA363E2-ABBD-4C3F-A78E-99A3E45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B5F3E-0C82-4C53-B0A5-DCBCE67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54DBCB-8836-47F9-A009-7FEAC491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6525FF-0C20-46C4-B74C-30947ED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073A30-AFF8-40AD-93BA-1864350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F1F1ED-19CD-4C18-BD8D-310802D3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EBC95AD-87FF-4A3F-8A30-8F90F34D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F038AA-7AEF-4EC2-92B6-0BFB3C8E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0BA811E-180B-4EEA-A90D-76625A1F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5C4372-8415-47B8-BFF2-A5C66144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7B4757-F3ED-4FD9-844B-2E2BB2BF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A4DD425-FA82-46B2-904F-BEC6D5B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47018-BA9D-44EE-8C47-20882A76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4EFE24A-3D45-42BC-918A-E3F8BF5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25D700-8A45-48B7-B33A-09ED583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FD2E2E-CE6B-4F62-B0E5-11817F4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CD20F82-CFFB-4F4B-B019-8564C134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90C458-CE1B-4B28-B404-7F4DD60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2F7801-C10E-423A-A3B2-D6DFAEC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C2CCF3-2326-4686-8C05-5C08B9D2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2558AC-DE18-46BB-9C3C-4DCC7155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1182A1-6821-4DB7-980D-B2EA57E0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56E5D5C-B029-4E27-B5B3-E3D910D8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D049D-973B-4094-8FD8-5C4E376A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21991D-587D-4252-826B-B3A137F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286B81-91C7-4CF6-8F44-8D59C14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93B2646-F58C-414E-B2B8-072C2239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F0AE68-5D47-4B3A-BC8B-D32D23E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583437-55F3-4CE0-8E29-40B33D2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B69BB2-6F0E-4434-9A6B-EC6B4E1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43EC03-3489-4316-8AB5-6808863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C4446C1-3F3D-4E68-B174-044A5C4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FABA40-6FFA-4AF8-820F-718156C2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62DA55-2685-4F31-AF48-92E6EEE6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E348-97F0-463C-AF30-E7E56031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80FFE-C016-4416-B65C-C8AB4082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1384AB-039C-4272-AC7F-5533BBE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058107F-45E6-4D45-84E1-0A49C1AD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F983C78-BC35-49DD-A247-E8FE17A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7ECB11B-2181-4393-A574-F14A7F49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1815865-D87B-4EE7-8ED8-BFEB5FB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D911A57-3E49-4174-A686-4106BDA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460BD10-CF03-4113-BE6E-99B8030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83A3BD-4AD9-42BA-81B8-A8FCC4E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627468-2266-457C-83B3-07188B5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D15DC0-BCCD-4316-835E-9D1A20B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FFF41-E0B9-4081-8B17-EBAF16E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3EA00E-DAE2-47F1-9D48-FC9B42BD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277D52-5661-4B81-94D8-06B8E92D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321A18-ED49-4F80-841E-12F786AC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7F6359-C949-459B-9097-5D3CB2FC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0C486E-EF00-418D-AA2C-E69E116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3FECCA1-9ED1-4C5E-AF8C-911D648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6E7BA0-0E2F-4581-AD34-6F0ABBB0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3F4AF17-84AA-4E21-AD2A-A5835E9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0FAF718-E51B-4971-8FFA-7CEB1524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EEBA879-2F26-47A2-894E-0025AE8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4734D-AC97-4565-93C2-EF138B2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00001FC-C021-4100-BF6E-2614440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9B6EEA-A215-4340-B21C-3E5FC8DD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E6484C4-30F8-4F60-861C-5C460FB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17B7D3C-DE2F-4B51-8063-0B626B6A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275D3EF-5B77-4941-9125-E205A914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8ABCE4-3753-4DAF-9DBD-2854C61D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F769BB-6592-42AE-BA3F-7A04FD4F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C4DC497-D446-4603-91ED-A8CCFAE5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537B326-5B60-4AB9-AB69-75B92299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3D3303E-4A2B-4C95-B6A1-2C707C3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884AF-903B-4079-92C5-491F8594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7E4340-E18B-4999-9FD8-01E4B93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92E582-4837-41C1-99B4-344A9B9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C57F58-5B86-4F9A-B366-96BFA7A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A0D965-BC23-41FD-8C91-69659DD7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09888CC-270C-472E-9A53-356CEB3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325965D-4285-4F0B-B643-DDAEE2DC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72DC0A-7B77-42A8-AC9F-E14FDC2D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981AE1-6E51-4094-BDAA-3C83D791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669E83A-4290-4BED-9B30-33B76AFC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5CA4BF-6101-44CF-BCE7-74CD123A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F5A13-3B06-4227-AB6A-4D1765C8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A46341B-CBB2-4A60-A227-55E9600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BB03A3-3EFF-4F08-98BC-ED1F0EB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31EA8A-4116-4DF3-8F77-85E26CE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C41296-66A2-4228-A846-1BD99F1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B763E50-0C8F-4009-9227-38C5D03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91A816-AE5C-4355-BEC5-EE1B0E27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B3B7FE4-DEC8-4438-A600-B958067E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AB2927-A717-4074-8D21-4A30949B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E48EB0B-F578-4973-9187-7300F727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2CF110B-298D-423F-A4BD-DDDD5A2A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303C4-CD2E-4845-86DD-6426DD08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A7ADE1C-70F7-461E-82D4-BECCD737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9C671C5-76D3-42AF-B8F6-8502E1EA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1856CB4-3964-4DC9-A6C2-0C20B54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44E69AA-71EE-49B5-A605-0986E002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DD3781C-9DD7-45EA-BF99-72FA770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C44F068-9E26-446E-B4AC-01F0084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BA53C53-0C99-49DB-B433-9D75016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F03DAB3-6FDD-45F4-B3F1-FDB2D98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1A9FAA4-8272-4A5B-BF47-71423E1F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0B91F07-2935-4E32-9281-DA401A4C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70A5E-7ED4-475D-AE69-2362D50F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DB7AEBE-B177-42AD-A2DA-0CD5D611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5DE6335-A17A-4105-B66A-317FF1F0C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9D0E20B-6358-405F-8AEA-5AA32965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EC5CB05-3B9D-4476-8196-7FD52106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0DA820A-2F49-4959-BC77-B1214B9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8C83626-19D5-4579-B22C-70D004B4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5F40687-BD23-4E5E-849E-DF307292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D53B2C1-86F9-4EAC-9027-31935B1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AB2AE1-B011-4CD3-B651-227C670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FDDDDD8-E795-40B7-9D85-8EEC329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1E9FC-6C7F-4F70-930D-DB914905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F2A84C-6856-4574-8612-02952AB5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0EBFE70-4EC4-4A90-BD1D-059A28A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1ABC7F5-975A-41E7-8128-9D3E4B3DD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ED7052-913F-4987-BE07-0BDA845C1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7A4530-0F00-4200-804F-B3D32DFF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12840F-A072-4DB0-8D55-42A8640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A77A47-10AE-4081-9427-96ADB8D4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FDCAD8-440B-4E2A-AE39-1BBDBDF4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CE2C4D-C604-4F5F-8400-BCDB0B0E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7FBE9D-5B1A-4CCA-B87F-A7D94D1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0B183-45A2-4974-83EF-B0BB77B9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44B0C7-0D02-4C55-B4C7-FDE0AA62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998056-B697-4240-A4FF-34D0054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AFBFC0-30F1-44AE-A578-839D3416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29324C-E0EF-4976-959A-9FDCE6A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79E10D-E37F-4397-BBFC-928345E36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EEE47E-37B3-4C96-A1D8-7718B0B9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1CB7DF5-C416-4ADE-AAC4-BF2C5861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AF9E101-DE0F-4703-A6BF-90A7714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481B2CA-24EF-4C78-B9CB-E7515930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9246187-B2FB-4835-AB7A-4AAB816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3B0ED-197E-45DD-993E-BB1775BA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5E06B37-02B0-4B22-A3E8-0EDB6EA0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E5D4364-3897-4E05-9030-53807B6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B133814-D50B-411A-AB94-2385920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ADD0028-5E8E-409F-8AB8-FCF9FCD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9C01232-3E3A-4E5C-85C5-8E72914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B97397C-DB80-459C-8DC9-67EBE504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12F6D8F-D2A3-43D1-B8C6-6CC7DC50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337D65A-BA02-4F42-A3B3-F107FA1B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868F5D8-422C-4A6D-B919-BFCFB90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6C35D83-50ED-43C1-A84A-38E55AE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BB06-2D4B-4E72-97FC-447B9CE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7EBF6-9086-4B87-950A-82F6995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EF29640-A612-452F-B966-DCC2F09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FB05A63-46E1-43EE-9377-7ACA162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D5D43BE-E208-4082-AA03-79465C0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0D444F5-183E-4D00-95E3-43C7D777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FA2BD91-7C9F-42F9-859B-11D4798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509E7CF-BB0A-4931-8B53-0268C0B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D2583D3-4844-4D49-8B0C-3A8B6BCA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3426DED-3C72-420C-B40C-78708A47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6C378C4-347B-428F-A205-AC45C280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4002A5D-6AC7-4F32-A796-4F63C94F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D0E4B-4491-4747-A1E7-A1A4C10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E2B9CDB-A5C4-4DB9-8CAC-079C47B5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34AB966-A0AC-4008-8DF1-AEFBCA20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05AEDB-C95E-4382-9EC1-777FFA9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544CA76-4A0B-4F54-8DF9-DC66B86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00EF8B-5ABF-4383-A03E-3B6EC88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FCA8A2-8BFE-4CC7-AD91-D15A92C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8685E89-A1AA-4EDD-8047-C7F788D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E3F1054-25E0-4C3A-8188-40FDF3C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46B852C-AD65-4394-8A90-1A58E54F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8DF5462-7522-42AA-B118-955DABCE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9F3B9-FA44-463D-B6C7-6B2B35B3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1312C80-8828-4152-AC38-DC937004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F75923B-813C-47DC-9028-9C9F4B92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D75C81D-EC13-4B3D-A6AB-C76B9BB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87DC794-9B82-4BFF-A7F7-C254772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751D607-27A6-4843-B7FE-FA95C2EE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A9822B4-8ED1-449C-8E1D-93A2970D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9DE5B3C-CE9E-4C3D-9A2E-F3278B1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C9BE666-3489-4D5E-BCD3-67B4776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F5D8977-F497-4851-AC72-2F41640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3919829-C21D-49B1-8BF7-82633CC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CFF27-B03C-495D-A50E-0803A895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029D708-91D9-4104-A90B-B92CA6D2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B200E7-4B79-4DBA-BA5E-98DD892F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9C99E9E-799D-430E-BBA6-2210CE6F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9FB791-D3B2-4140-894A-52AAA66E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D26B1A-5912-4B9B-B721-CE3522D4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792941-857E-4595-9477-D03E2CB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EA4E80-5060-45B5-A5BD-98AA524B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52F7A0-1F95-4822-858E-C4B9A374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02DC4F-347D-4359-828B-DE0336D2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DE1B47B-F8BE-4D07-A4CA-C7A915F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01325-503B-4B41-9F8D-00DDDFD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1BD564-CB49-431C-ADAC-2115473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F0BC20B-3B86-4813-AD2A-9171FCD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0289168-0F20-41A1-A851-A71E39E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6672589-4FCC-4038-A213-5B651AA7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4DB5F2D-C335-4E6E-8338-5964C5AA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EA08902-DD20-471A-8F00-5957DB0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ED48F6F-848D-4D4A-9407-82B77AC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E172182-2724-4EC3-B44A-86C48BC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BD34351-9569-4C38-AFE4-55266AB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D165714-AEA0-4B5D-9DB6-95424B2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545C5-DB17-400D-849A-06D4BBB0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E1FAB9D-BADC-480A-8E47-15ACBC76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43D3CC1-52BF-472F-BA50-F04D531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FE2AFFF-4C9A-4E0D-8DB3-9A4C7EE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7C66D29-8ABD-4953-BD4A-9FE14A9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3DD23E-9E4A-4E1A-ACD5-A67646B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1FB642D-76AD-4148-B46C-59778109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528A17-44F1-4CDF-85F8-5A1C5E42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9A0BC41-B39C-485E-9A60-1135AB76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C62361F-3D5E-41AA-9408-F8C17CC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8467AE-CBD6-4C17-AF4D-A6B8093F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A67ED-4530-4969-B0DB-444B5C1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BB729CD-784B-48D0-AFEA-27DCB0CB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5A528D-A09D-4608-B4CE-9AF5FA12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C937140-9D10-41BB-98DE-A5034017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16C2BD0-6FAB-4814-9ABC-1286419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A56BC6-213E-4527-A1AD-4C981F1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E36742-1A4D-44AB-AA33-CC94A24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457AB5-F74A-4A1E-B374-B94CCAC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A27D46F-F857-4FAA-91D6-7C282C8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D153B9-3DAD-47AA-97EA-08334C0B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A9C0FDD-BCB3-4170-BDB5-EE76D587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B65F8-413C-4F43-BFD2-73131775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1195D08-8348-4F96-8FCC-A4398435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D166899-9C05-4F8C-B413-6671ED04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F711C3B-7610-4B10-A5F8-CE89BD1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1C3B5D9-06B8-4F50-96C6-8CD06AB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E764D87-075C-4D4C-8CDC-716774C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316A651-73C3-4E94-AB07-B2DE21F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BA2DA90-7F01-48D5-ABCA-8DBA06E1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D78D219-FCB9-4942-8220-5D513D1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3228E5C-D91A-4F10-8E28-C905AF0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50BAE93-5EBE-4E21-B2BB-A1F72622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47421-E163-4FB8-93A1-93CAC87E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CED6401-8E18-4155-9D43-1308F899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3F879A1-8B5A-469C-81EF-2CE6D1A9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DFDDFC7-FC8A-44F2-B51D-4AF50946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C586D31-7845-4608-B3D8-F4B73BB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C4CE56D-E442-42EE-B9BA-8E39B107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FF29327-49E8-4EA7-9C92-4F700F6A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CF84106-1878-472F-B10B-CA8752BA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C48BD70-8DD7-48A4-8F4A-EF12285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88C6232-C59F-4DB8-9CDE-B5EADEA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0D32A28-3900-4F17-B2AF-3BC62159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4D08B-A81E-4B2E-942E-535D2E9C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C08F2C6-52EF-4D44-AC50-A3C95861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F20D73F-B2BB-4B32-9810-B7054F4D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2FD3657-61B3-4B5C-88F8-87857EFC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00BE830-F516-4D4B-A8BC-BC26F62A0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247251A-5567-4F1B-812C-F99710D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2004AD-D4F3-4582-BCC1-AA6E87FC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6DAE3C0-F6EF-4B6D-AF9B-D018007C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CF09C01-8E29-4DD6-BECD-C63DEF8F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DFBB9E0-EB4B-4E72-B388-92B431CE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BDA883D-5226-4DDD-837C-5564BB8D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45E4-CF19-4B4A-BC55-5B789A64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6321B-8083-4A85-BCCD-88A809F9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17A3C0B-4EAC-48AB-9E30-96218262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194193A-2395-4542-BAAF-46327B51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1F81C7C-2DAC-4235-9CEE-98B967D9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2DDC1DF-CD73-4F30-A4A2-F618B04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83182B7-9C0B-4C4A-909F-F61A22DDA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C8D8896-9E08-4D9D-8B83-C93FF9B13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9AAA5FD-66B3-4F75-864D-7A06E3A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6E62A9F-254C-49C3-B03B-409368BF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210F683-5CFD-4FC4-BC0B-5F5089E2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B78E959-634D-4E16-BFFA-E2A43BD8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AD1ED-9653-46EC-8591-775725D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18D0A7-F13B-43FF-9464-CC790EBB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20A7134-A05C-4BF8-9725-9D68C62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2E45F73-7F20-4642-A1F3-90804D7D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DFFAEF6-19B3-4515-A873-A01D43B5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7ED7A38-70AA-490A-B1E2-EAA474EE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85102E0-0269-4832-AB29-CF3FD4C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C283B05-2AA3-404B-B1A3-4014861C4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FD20E5-86DB-4A25-9155-19D1A285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253D53-DACA-46ED-A050-B9087785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B23655-1077-4F43-A66D-6694EFEA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4BE62-7DA7-4A22-BAF6-13FF971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47555B-8ED2-412C-ABAE-25270E4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1AE12F-8DCF-4CBD-9A74-F5AC552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45A13D-D809-4BE1-AC4C-C34330BF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98A918-2628-4FE1-BED7-0471A82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C91C0C-113E-4AF4-846A-9D3D984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62172D-2AAD-4D39-8334-188E2980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4909C6-926C-4755-8C2A-05F21F3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B92E43-FA9B-4D5A-8D58-4AF07005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FE545C-9C1D-424E-98A8-529E6A76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72C102-DEC6-40C6-BDA4-129A53EA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55DFA-B53A-43F4-ABDE-73B00AEB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77458B-5A04-4F9B-AF09-A9ACC56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3CC7FE-4044-405A-B882-6EB5699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2E1612-E460-493D-AEEA-F732064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603001-63C5-48C9-AF22-85467C45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BB94D8-39FE-4EA8-9C02-28D101C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0ACBBA-0AC1-44BE-B002-71674944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C313CE-4C88-48AC-A576-DB9FEE8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728416-12F6-4036-B175-1EE7D9B2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B1CCFA-3711-48D3-A59F-D6B0079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431A72-4344-4C15-8DAA-1664D17D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4E749-7D85-47DB-87A7-B4CAB2C9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016E02-8440-4D23-BFD0-8688CDC4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107468-E47D-4C03-A05A-B3119512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6A89EA-D56A-436A-9111-C26EA63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FDF6A0-25B5-41FA-AAF4-8D7FF23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E6C754-6882-4E73-856E-882DDB6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624DC4-09EC-427F-8BF1-067D4FC9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00B185-64BA-426E-BE91-F38EF35A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48B643-580B-4EDD-B16E-7F57486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765616-D1A1-438A-8513-29993DA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415CB7-BA11-4344-8DA4-FEA63C7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2AE55-8930-4304-8E0E-C70F477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77760A-69D5-43F9-B37D-34D24460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C12F7B-00EB-4FA4-920B-F959FAE7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93BB1A-FC06-475A-A7CA-BDCF34D8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384D8E-AB2B-4901-9002-DB91E3CB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C34C27-E10C-4F54-879C-7792E07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D44428-8236-40D7-AF4A-2053EF7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780E4D-DC6C-48DF-B016-A4A5CC7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9ABD68-F771-47D7-8E18-38C3AA1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E3D656-5116-4D34-8EE2-61340546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2D5015-957D-43E5-8A75-19A6654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94F8A-554F-459B-B27D-2A6DF75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609B3F-1BE0-4559-97B9-3D414C14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833B24-7071-4F08-9881-E469246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5D0D1F-9159-4B25-AB6B-DD402D1B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A00636-ACD6-435E-A026-DD49255F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F22C87-92C6-45F8-8597-D497B7A7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EEADDE-78C0-4FB9-8CCE-735627FA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F2D565-CE41-4447-99A3-B7570FED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9FC07C-D2E0-4EC7-98F3-58B07D95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224C0E5-F4FD-4668-AB58-634BF39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E1C212-955A-4265-9FFF-8DBE6F1F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2D427-1B77-4700-814F-C5F0C360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DB3B7D-377C-4E70-8BB2-EEDA8F4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D15D69-8B8B-4976-BBC4-C74B3DC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85CDFE-D1F4-4B01-B147-E5AB34C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8A27134-607F-4CC5-BD89-F3270719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1CBB113-6EC7-4562-BEEF-CB63168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DD5595-7C0A-45D8-A82E-460C91E4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0AEE363-3295-41F0-B98A-6027A1EB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962692-1BF1-45CF-8F92-BAEA5EA1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FC13BB-CE66-4503-8F47-2E1377D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15DF5B-FB1C-4FF0-A7BD-1A9DEE9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91A5A-1D40-476D-AA3F-1494F69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84E2F7-9B25-4144-A8D6-7A433186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84C18A-FC74-4CB7-947E-479C269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287909-F4C3-4E3C-80DC-858B1B59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776DE0-F0CC-4ED4-B939-380420C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C6A9CF-E345-44D8-839B-383EE85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A4ADF2-6004-4B1C-BAAA-15D25F7B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F3709B-B05A-45DF-949D-81D4988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ADE2C4-40FE-4CDD-A2C8-63B3F8BC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6EF1E6-DBA9-4371-86A1-88E26F71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9E3DD9-D38A-4FA4-82BF-893DFCF1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16B85-40B0-4729-B120-FDC97F8C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F15CDF-973C-498D-9D02-A112AF49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881E4C-1E13-48B5-9C24-78118E5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08EE38-09C2-408B-ACCE-353512C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E71BEE-ECB0-498C-9A52-A999E899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F416D2-B149-4816-82C1-02B2DD3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98756E-1CD3-4A88-A5E8-00AB09E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AB0AB6-9DAC-46C0-9A1B-FAB4C48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912033-5CB5-4967-B457-780F278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DE98B8-3B28-45D9-96C6-143E1059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639002-16D1-4575-8FD4-F84010C5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AF7B-8371-404C-8145-428F29C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5548E-BB01-4601-B65A-00E79F4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AB0A92-1B2F-44A4-AD30-DB27061D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F29740-4075-469A-8D2F-40291AA4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AEDC74-362D-4170-89C7-81F953B5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9E4655-6828-4E12-9315-A23035E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E58262-A8C1-4387-967A-9FE49A4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E39DAA-3917-4268-9193-3D73A3E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DDD9F3-F123-4200-AF1E-9B5A0AB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582153-942E-4D59-A934-5CC5BE1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E2B4DB-E045-4D53-A84A-4839B13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F00C16-005A-46D3-8AFC-F1B1F6E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E778B-870F-4E44-A3CC-705872EB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74442A-3038-4500-8FCE-D2052A32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F908EC-0A65-4FD8-BF9C-0DB224F8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E5F10D-9BE2-4E7A-81FC-52FD1577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9D5933-4AF7-47E3-AFC3-393DA072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6AD404-CBAF-41BF-BCFA-3789422A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A94E39-8B45-43BF-AF0A-B4836558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B44C03F-D942-4135-8566-C447E27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B04F68-CD62-4C73-8334-2E3396B5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3FFD99-B4F5-4199-95E7-3165B44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A570797-E0CA-45C3-8B3D-FF8D6C3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87D69-3992-45E0-A719-FFACB3C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9E1520-1C86-4A45-89A0-B93556C4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7174CB-7AE4-40C4-A717-A275283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567E46-D53D-473E-8295-AA4FB74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E613F3-EB4C-4B7B-A98D-2A8A68A1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EF9826-0EB1-46D2-A26E-B1AD92AB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DA7C552-AD63-41B7-A5AA-C3D20E62A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B5F391-E933-4773-BD01-AC6E9FD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E8D363-C31C-4E48-90E1-184F2AAE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E763FE-C336-4C7E-A936-33C3CCDC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A5FC5E-C06D-4B02-9D59-1D0DFBE1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F91EC-386C-48DE-8EB6-7E54C5CC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9F43CB-9301-42AF-AA70-F69BBB21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0344C31-F982-43E3-B342-5CA51D1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B2EAC48-DE56-4532-A746-1C12507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58EFBE1-19B2-4C37-9128-162D046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180A7E-2368-4B21-873A-EC053C45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2A56B0C-DBDB-4D7A-8E1B-0941019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5DAEA00-5ACB-40C4-B504-07BF5D14B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345A3C5-0F4A-4372-ADBE-2FCFFF8C4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D89A909-74A1-40D7-881E-833B9DC1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CFE0989-F259-43FA-AB1B-B09A1AE2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E2163-A2CD-4FAF-808E-AB18D35A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F171706-1913-4CAA-B40B-16FB580D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4E0FAB2-8011-41C7-9E94-036024E7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F520098-AA5D-4126-A1EF-7256AF8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EFE2DFB-B9E7-4684-BAB8-09E74A48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F95907D-C5AA-47D0-B1B7-E4CC5876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9CFC314-C32B-46E6-AAF5-14484BB6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4FACD0F-0A22-41A2-921E-5FDF1E18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AB28500-0905-451B-8E66-6794D00F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8567ADF-3F05-4294-936C-E437D6D376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522E983-B8D3-4EBF-BBCF-AFCBD84C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A27BC-46F9-4AB2-87F1-195BB5C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1C57766-67A6-4E9A-A609-B93431D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56ACF87-53C9-449A-82C1-0A7FD22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33A4903-61F0-435C-ADFF-31AB76A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FE86130-9A3E-4D35-842A-0A08524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D2B56A1-7A32-4A9A-993D-BB4B40FB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726DAE4-C9B1-4EFB-9AC2-9E84414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F0F4A21-0E73-4DEF-B9DB-47723E49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EDEE188-795F-4E4D-AD80-2C33886C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65DE5BF-C280-402A-8070-605F60AF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7174A0C-43FB-4743-A5B0-B3A482A8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ACA1B-9194-4FD5-90D6-98AAAB4E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27845C1-6390-4D5B-BA54-B1C85F65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4CEF153-34F3-4127-A449-62CDF567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832383E-BEEF-473C-9EEA-3D2EC5E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9CA2BDC-8510-4840-A4EA-4877F047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AD7821E-8983-430B-823B-FD664F11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53E021F-DDFD-408F-B591-534EA265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C3E5BB7-F7C2-4A8A-AB71-A17EFEEF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99E1967-73EC-4E6E-BDCA-C322483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4D8A62B-ADB4-4D89-B997-FC38047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91EADAA-87A8-4C8A-A2FE-EE2BB81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91CBB-DD58-40AB-B69D-D21483C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3083C05-3E82-4C50-85E6-4F7DC8E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498BB1-052E-4653-8C40-0C5483C6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41D1A58-BEEC-42E7-B40A-58302D69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7AF994B-DB6D-46D6-9780-F20CAC1C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9693234-BFF9-4EE5-875D-4FEFC23A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733D99D-0C49-444A-A2D3-3D593C5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64FF81F-F0C2-40F6-9BA9-743FE83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DFB9321-374F-41F4-AB00-5225E15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0AC60F0-6B00-4635-BAAB-8A0CAA3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41F9BD4-817D-4B10-AE49-FBDFB48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28CAA-2461-47CC-94CA-CAE2F106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7EED7AF-0156-40E0-88D6-6E76888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D5ED134-76D7-43FC-8C17-C81EF3B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14C47CA-F641-4CC7-B78D-7E2CB20A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3E11F58-F568-4D75-9FE1-847A7D58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8484FDC-9D3A-4D23-B980-E1221722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E5D1F83-C168-4E98-8AD1-9C3B04A5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179C6E4-B87D-4DAE-9B6F-49E3D80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7896C0C-37D7-4A63-9CF8-37596FC0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2B782A0-718E-4F64-9D7D-E129A037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606107E-B7E3-4DB7-A67C-FA5589D5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C2C47-DED1-4445-B8C7-BE64E42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006B9E4-2D6C-486E-B756-BE83210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F865BA1-0B7A-47F0-B02F-04B514F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B873A97-01C8-481E-89BF-A5E00832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DCA94DB-BB0B-4E48-A090-F223FE3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1C255E9-67B3-4EB2-BFAE-EF1EACC1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F8AC820-6C48-4BC6-AFFA-89276A53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53AFC87-37D8-4C3C-96B8-11470802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A022FBF-9E4F-4734-A65F-754F0ED7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C738931-33B3-464B-AD9C-40F10448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8F40B5F-F005-4B5D-A76B-E516933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485A-1B22-4B94-A8A4-1ABE2BB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3C2AC-A29C-4681-ADDE-D2ADB962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91373FA-9AB7-429E-AC1A-2D57264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77F3914-66FC-4570-86BB-4E162598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44836B7-F7CB-4BA6-8BCE-F1A77E3D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C414E32-3723-4050-85DD-C9448C2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A55E525-5D97-4750-B212-4831849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DAFD7B7-2124-408E-B9F5-418FAA2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4A7326F-7114-4F3E-987D-C1E117DC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241D1B6-181D-4BFB-B22E-5FABA2E2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CA5B40B-E240-49F8-84AD-DCADA612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48EE9E2-02AB-4096-8A57-63E2FE0C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97D6F-5009-4E85-9CB1-71D432F3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CF54AC7-98CA-42DC-8003-98C541AD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2ECC460-EA38-4DF9-BF68-28F1CD59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F4A6B02-52F3-4E75-B2CE-91CE4EAB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933E1F6-6B98-4F2F-AE4C-E6128CAD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5F17E25-769B-41E3-81B9-B30A6E61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76EDA4D-E142-4CE7-B053-EA0F5524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80AD5B6-9856-49DE-814A-9323967D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34226FF-DA17-4023-B536-6AEF6D6B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F210C25-870C-431A-8D57-4F10FA33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1D2227F-8D0A-4FF7-BC58-A2BDF4A0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E4A4D-A243-4801-AA48-FD8F7108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88EF113-E82D-4B61-AFFA-2B6D982E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1911995-BF50-4DE5-97C1-3CA6831A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2414818-F259-421A-B608-600E48A9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BD569B8-4FA0-4BFD-91DE-921BFE7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6D9C387-376A-4729-B29A-A00E9C72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5E87FD3-E53B-44B8-A688-2A0F2F8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1B3C457-E2E0-4F16-A0EE-C962F08A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A624DA9-5F19-47B8-A366-A9D067A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38AF6B2-EE0C-4945-842E-7F840A9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FB6FA39-C27F-4182-B336-5FDD6EC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D55C6-A5EC-49D1-A6E3-6163D6B3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F52EF89-489B-4862-B509-9F18FC0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52E5D05-3D44-4767-9853-E24B71C8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E9ACD92-EAF5-4979-B4F4-70F52D46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B07B056-4D0D-4BFB-86B5-A97FBD2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BA6C486-E839-46C1-95B7-0071688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8B8BEAF-14CC-4B4C-8D08-7526A22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554BD76-7A0D-49CB-8C7D-5AAF1F7B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DB165C2-F02F-473E-B3C7-1CED6DA9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24507FF-3AAA-4BB9-BE44-7D4CDF8E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D2CAD4E-FC8D-40DE-BF55-5BEA15E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C771C-C09B-438E-B94D-105C9671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F5BC376-B235-4A01-9CCD-69651EA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F53D6E9-7345-44DB-B486-8BF0BDD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5651ADA-BBFE-4DB7-B0ED-9EE02EE4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9F9E5FF-E387-4442-BC98-80BCA97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07F5A08-E524-4925-BA66-720F9D8C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637D5B7-0781-4D96-B452-78C2D154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63D8FC5-E227-492E-BC5E-65CBE923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8C2C34E-E75E-43BC-AD2F-ECCCB7E2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0426BE8-6AC3-4D3E-81F8-DD24DE7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AF2F7C6-6F61-4147-9BFB-B42DA68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2856D-5AA5-4CFC-9C1B-DA9F1578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67CBF57-CA9A-47F0-AFE6-CA234836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FD5D8CB-4F0E-475B-8300-A5875F04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DBAC81E-7EC2-40DA-B2E5-27B970D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4DC37B3-10A1-4B2D-AB2D-22D2DE41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3F7E5E7-1E7C-4D04-8A0D-B5C73AB6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38342C3-8686-40A7-9689-5B492110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68D9278-4682-41F4-BA16-66E2D6B2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61FA53E-3321-4381-84B5-235847058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D7FC0A4-2CFF-4D1C-8382-A9851A1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52E2D26-6487-4D0E-96AB-701584CE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E62D2-2F5A-4BC7-9F6B-ACAD497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95B4CD4-B68F-4564-8D74-A177078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9C74200-359C-4E8A-BEC9-929D938C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34C9C98-2331-4323-8E8D-E7ADE3E8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B98762A-A45F-4D8E-B6C9-C3904993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48C3951-F108-4431-B550-6CB5ECC1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41F2727-890C-4EE5-8775-15C237B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FF961B7-1F68-456A-AEA5-53A29C51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5BFF7B2-30C2-4037-8FF5-329015B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865ABE2-9670-4DEC-AFC3-01D82BF72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BB0416-A5D6-46F5-A455-A4BBB3EF5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6E878-EE8C-413A-9530-005A2C44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18E8385-8AE1-4C10-81D8-0925EE2D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6DCF0C5-DD7F-4AF4-B1B1-C24194E5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38BAC1A-E4D3-4F9E-83E6-95A6ABA4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E773509-D3FE-4275-BA5A-95D9878B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AAD8633-C6A7-4607-A500-D0E8A59B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069E02F-724A-4343-B2E8-BCDD169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01F8CFA-E4C3-4CE0-874D-CD6443C7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F8A54D0-05D0-40B5-8DA5-543712E5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0E3A63B-651C-4C85-92EF-C56BD54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60BB8E3-A887-4900-B3B0-D50FAFA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6428D-66FA-4C7D-B624-7BA6DCB1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0EDD02B-D8B3-4679-90C2-FF356C0352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267E1C0-8683-48D6-BA31-207D12BE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F5AAB8E-6C27-4980-A328-C24D0892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ABAB87F-0E78-4997-92E9-63502639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B1EFC7D-8C08-477E-AECD-3327450F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F97787D-78AB-4A16-9B46-83A8202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D0F6A44-FD97-4B0D-B747-C84BC48E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9918DF6-59B5-4AF4-863E-967F7A1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680D0D9-591E-4267-9908-BA16433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675EE24-6F73-4702-968C-F2BE2894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A2E03-3CFF-4AF4-BC94-D6FBE70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BC46A08-5F0C-4412-8981-77A2D074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1F7075C-71C2-4FF2-BC3E-C00ED588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FE0C3EE-A46E-4FF5-8138-C9B024C5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18B8E64-AD36-4215-B035-DBF026C4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31FBED7-5C54-45A7-A71F-06B26DC2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787570F-908C-4C14-9C1D-C9BAE6C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6848E29-991E-4BD3-AF7E-BA56C8B8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B094A55-432D-4350-BDCC-FB204A0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3F85B28-9CD8-4926-B523-E7B1BC1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B39FF7F-7044-4840-957C-F79425AC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9700-6535-4B3E-8EE2-D8D40B6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6CB95-CD07-43CA-8B4B-3377838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78D85A9-8495-4632-A5A9-77B242B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2B1C410-3417-4B86-9B0F-2FCA425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91813C8-07CD-42EA-990E-0C71B25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65AF6E4-10FE-45E9-ABCE-B090B483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C5B60A9-7D1B-4EBD-A16E-6EA35C7E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49BD9E4-E721-4FF0-BA55-ACD6EA6B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827C477-2BD5-475E-A9A1-C6F244DF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CCB8785-B59C-4473-81F1-9812ECF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C3B27C1-8B4B-43D6-A60E-DC19F691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CF95112-A018-440F-90CE-4485063F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D34D1-3CB7-4012-A9A0-E587C01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C2B0F6B-3885-4427-8029-312E242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F90606D-2884-4194-8EDE-F64F079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69E1816-69F4-4321-8435-B5DC6AD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A050C41-816F-4DF5-9080-C5316A4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E2A8EEA-7831-4959-AFCB-C38353FB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73ADF0D-E608-4C21-B6E0-1D9D25F5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73BC343-BFEA-4AEA-BE64-A448C4FE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23A0795-F271-437D-A5BE-58A5EA83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ACA450AD-C322-4ADD-A9F9-4326C272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E64AA4B-C220-47B9-858C-83DAC87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065A0-00FB-4E13-81F2-809E6C0A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C52BE46-B2A9-4514-B7C4-2CB2312E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617A3C9-7237-46DB-9826-B74C2AB8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0315D5A-A187-4BC8-989D-0860AB4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ABB55C6-A72E-430A-AFB3-B0D5DE8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88A404E-6A23-45B6-BCDD-186D73E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F312D5A-2FA3-42FC-838D-F011563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94D0667-26DC-4027-AD9E-BAB2A3FF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03549BB-7D84-4AAB-B482-962E010B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B57D3B8-AD2A-4EE8-B05B-170C2B5C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1D58948-26EC-4241-8588-8FC9E5F8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869FA-B14D-45AC-AFAB-CE3A310F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0D10594-41BE-4F05-BF47-7D71929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3FE6E8B-C3C5-4A7D-BBEC-1CBDB71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1031075-62B2-4CAF-B1EB-884E6656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78B08ED-4CF5-43C0-A3D1-E998A3F8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0B842B1-DB5D-4C65-BE47-EC99B5E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C1E51B8-8B7D-4EDF-AD2B-1DCB900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CA09620-26EA-4157-8CF5-040552F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53E5A03-ECF8-43CC-8369-0C91483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A6250154-84C2-402F-91E1-FAD74DB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A485C67-91D8-4547-8A0A-F25A65F6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43B24-D87F-49EA-BA30-57542201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CAAD48B-C242-4A6C-B831-05B1B03D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24A2BB4-B7BF-424F-BE41-E7F576A7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5CCA4A7-9392-4C9E-A7BE-A92278EE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DF9703F-99E8-45F0-A77E-49BDA472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369EA42-9333-4DCE-87C0-2F8E5580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CA8AC51-0CA6-4A79-BC23-0105ABF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D0268FA-C286-417C-8F79-559979D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8622EB8-FEF4-4E99-B5BF-415ECA0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DB1324C-4A5C-40A9-A735-CE9D05EC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975217A-126E-42C1-9383-A89E2A2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3AC70-94D4-4897-BD9D-6AC1BC0C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0472435-CF1A-4118-AFC2-CCE3D62D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1402B37-340E-4EA1-A7C6-EC8E9CB3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B8075ECC-C837-4862-9E13-5A852A00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EA61917-BAAD-4544-A723-81E4EE34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AA77946-AD85-4232-9F2B-446AA72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F6B1312-9F89-499E-BA1A-12BD0EF3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8239465-529E-4FEA-93FA-A7EB65B4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AC44B09-FB37-4A3C-AEF2-F6CF51DA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6C66CCB8-9542-438D-A2CA-D00206F0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FFC5C13-7DFC-4EFF-81F6-AFB6D1D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A75CA4-7B57-4781-8B35-39BEC99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4BB2EA0-37FF-4E80-9F2C-C0C1407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8182E48-28F0-4AF9-8960-641A0EF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8496DBF-FF6E-475E-ACBC-555340BB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53F7BF0-79C0-4105-AF71-438608C2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DC6C122-B495-4AD2-8B1B-25154C01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2EBDAA5-3DC0-4190-902A-C8E54226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13A43774-76D4-4E59-AACD-75FF524C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F6CF238-6E8B-49FA-8145-47FAAB96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171CECE-AE93-44DB-857A-BCD437C4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A60167D-937A-46AE-8501-B2E49F5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9A4DE-EE53-472F-913E-F68C990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CA68055-C990-48D8-A067-A12642EC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3988484-FF1D-4113-AFB6-669271C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A55B165E-BC2D-455C-9C8E-77C7E84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C55868A-B6A9-45A2-A3F7-F3B9BE0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BFA6349-08A6-411D-A3A5-F2EF3068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A5B9AC9-EA6F-4F0B-89AF-8BD213AA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3651D23-6C8B-44AC-B700-F077589C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BF08A83-D1D5-4CA9-9075-C62F4671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DF60FE6-1CD6-41F0-9E40-F30FAE56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2DDB9A9-F64D-4016-B4CD-25AEC5A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F5FB9-D63D-4FEF-AB79-A58C507E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A56294C-93B0-49B4-A626-334F8913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E067944-07DD-4B90-A553-5CF7816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11CDE2F-0CED-4AE0-A7F5-C5DBFB7C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61FFA0B-C5EB-4D22-82B8-448319F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D1590EC-4757-4D00-9066-6B3CBB1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75E21FA-6D6A-486B-8F94-18DB6B1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21554CA7-4A64-4D8E-8F77-B5B38776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3465EA5-192A-4876-8163-4B960BB0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68A8790-0545-4707-B127-2CE86A04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EF06684-E847-4BA3-85A9-7955AEA887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CD961-D6DA-4166-A82A-86CF1AA5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485851D-F77C-4309-B2DF-B4C6A735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65F170D-8DE1-46F9-AE87-CC3070CF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C0B9CEE-0A72-42F7-A802-6E231783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AA2E631-5148-41AF-A5E6-4BEFCC9A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09F3BD0-EE60-4C2D-ACF8-C69B1519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52C00A9-B3BE-4222-B8F3-66CFCED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6D35517-C076-4FFA-8F8B-16557D86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E239ECE-FE44-4C64-B3C6-27969741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A910C0E-00CD-48BD-BC06-B97EAEB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B54CDDA-D90E-4002-A41C-57E51FE0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C804-A9CF-4161-B202-ED81F72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3218D8-7A1B-427E-88BF-F8F750F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402D752-E2FA-4D5B-9C94-326BD85F1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E80F071-5BD0-4EF5-AA63-0DB654D99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F96B312-4993-432F-B277-536D3D72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8C75E2A-9907-42F9-B468-2C49D06C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FDFA33A-A08D-4041-A48B-DFFF94A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E5DEBC4-9DCE-4CA6-A8A8-BBE7F81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3F0301B-5595-42D9-A470-845EFE41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1629EB3-84CF-4601-B66B-B20D6D0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604D024-BE8C-4BAB-8865-972653FC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3A18CE7-1DAF-4C53-AB0E-3B143132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3362A-286B-462A-92C8-37ED808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02A3937-0991-4155-830B-A5E74A3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E012AD2-8B90-4B09-BD88-ACA9F1D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310ADA9F-01CF-4C87-9DB0-3CC2A2EC2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27BAEBE-650D-47F9-9F0D-23A9B5FA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87AEBF4-4945-4F1A-83E4-689C418F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F1E308C-5078-4EE2-BBD2-5497896F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8E52F39-495D-4F90-A6AD-25E0A98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27C7673-6FFE-47BF-9981-9302631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AE20426-F12F-4527-B261-95BB5301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40ADD17-90F2-4BA4-BB74-3C28A34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F999A-63E2-4A8D-9952-AC295DB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9DF35CB-DD64-4D4D-A82B-C031368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557F203-F7D6-40F7-9852-996DF86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7D550C-25D6-4F77-90EE-805FEB82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1C5F21E-6BA9-4F30-8A96-7AB3A7C0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669BB19-249F-499F-941A-369155ED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52A75B6-4867-447C-BA1E-A794901E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08CC66D-86E8-4509-BFA8-DB18870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3C97126-25B6-4FBF-971D-9B86E4CC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D35417D-6B09-4236-9978-FA74C6A9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3FCBCB1-9789-4A49-BA60-69ED4CE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DFF8D-9A73-4E55-80A6-352CB8E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857C9A7-AA28-4882-8397-5B2FFEB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2B36E71-4CD5-414E-9CC8-C62601A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69E202B-2489-4A97-A5DB-D349BD1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503F5BA-2618-4268-BA80-730F3F6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01C1F26-F0F4-497D-9340-19AB84D9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623C1A3-50B6-4645-AF3B-2BB6CFC3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C85C9F3-A709-4FE9-9E23-EB4F7AC7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21C77C0-3CF9-432F-8D33-D8D364CF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5111320-1B11-416D-B402-6EAF4D1B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CACA61C-DDAE-4620-967E-6332A18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6D221-1E64-45D3-9996-E98D595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30B331D-46D3-45FC-BCDA-70FED74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FEF89FB-D6BF-42BB-8AAA-732A228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423DE4D-0345-4EBB-9FD6-ABC8DB47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E019F95-11B2-49D2-9586-1F4B038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0C850F8-363D-4909-9BCD-F095FD9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D48109E-F8D4-4A7F-8A66-0A62143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799172A-9325-4209-9D18-121D6DC4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D9FB055-B47F-4773-AB41-4DD764A2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87516CF-0189-4F25-BA52-1A6DCDA3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35CA35B-E1A3-4C41-983F-B19375B3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3A3F1-68E3-428F-B81C-F0DF7105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93A694F-98CE-40F5-A3CE-89D165E4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229A6D9-6935-461A-86DB-43BB4414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424E7D6-0AA3-410B-B261-250CE20B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15596B3-7085-4449-A1AB-FC8EEF5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A9BCFB-2C96-491D-9C02-868277BA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5EF100C-09DD-48B9-B72E-D53F5D4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D52285C-53B1-4978-97FF-720B488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431378F-51A2-4ED8-A5E1-09C69D0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853A46D-A170-4FD7-AE8A-CF3B1CA9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BD7A312-108C-4F7C-86CA-AAC08DFA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DEC9D-1823-4797-8A8C-FAF5510F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D7C0B89-6D4A-4B6E-8031-F0E3BD33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88CEDD6-C442-4FF5-A134-7C27368B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809E5CE-AD4B-43A0-B4BC-AE7EBE73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6FFC65D-E699-4B76-BE0D-DCC8B53C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056B5EC-5146-4BC6-A4E8-407AE0C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4D25570-5787-4B60-979C-017F3F4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7CE039E-5D40-4B92-91EA-68EB3AA3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CA5541-FD56-4EC4-A9C5-435E232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D178788-C351-4F6E-9B1F-F22849F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8712E94-6B12-43C8-A393-BB2BC15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69A2D-FAA2-4377-84C7-67280C0944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F4160B-0C02-49C0-B009-982A1C92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9CA4FCC-D652-4C82-B1D3-4AC06EB9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BDB6787-DD28-4337-A77A-E6D73EE3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F3B29C8-B67B-4B5D-9C9F-9C5A25C6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DF412E9-36BE-4FC0-B2E7-1BBE369A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3A9CF52-58D7-49F8-BE6A-EC2F1631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B629682-0955-488A-B3DF-D7EDA426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3336147-4B72-4339-B709-18138655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57B9C8E-3F38-45FB-B25F-9D05DC7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ACA0973-F6D1-4A13-A990-214CFFB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BCAEDB-B471-4EB0-A034-29D66FE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0070AB5-C711-44F3-B021-60385C7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2A1DC88-8848-4675-B63F-8FD319F5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44E424B-0F0F-4ECA-BA0D-5387D1E9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3E02A33-E4AF-4477-8D64-DD3B2444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3032DF8-E837-469B-AC8D-FD55BC62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3127B08-79DA-40AC-A9EF-12C1A284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53E4B1A-F1C5-4E02-82CD-2471BD8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705414B-70D9-4557-858C-E045EB0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B1DB82F-4622-4506-91EF-C4FF388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4863619-259B-414E-982F-960E48B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052E9-B134-4ABF-9913-57CE3B3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0F191DB-0F7F-4D62-A50F-C37F604C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4FD0924-41CB-45F6-B580-4E43764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0477E93-8861-4E97-B646-8163C76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806F09-1EF6-438B-99C8-3B521CA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63EB859-11AE-4630-9076-8689ECA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E7549BB-F17E-49D9-B487-8F908DBC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1D06DA-CA49-4A44-9433-637EA049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075F5D1-A766-4452-B176-60F9834A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51EEB6A-796A-433B-B0B0-78063A39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DEFA55D-D0FF-4548-93A8-81A56DA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3.xml"/><Relationship Id="rId7" Type="http://schemas.openxmlformats.org/officeDocument/2006/relationships/slideLayout" Target="../slideLayouts/slideLayout494.xml"/><Relationship Id="rId8" Type="http://schemas.openxmlformats.org/officeDocument/2006/relationships/slideLayout" Target="../slideLayouts/slideLayout495.xml"/><Relationship Id="rId9" Type="http://schemas.openxmlformats.org/officeDocument/2006/relationships/slideLayout" Target="../slideLayouts/slideLayout496.xml"/><Relationship Id="rId10" Type="http://schemas.openxmlformats.org/officeDocument/2006/relationships/slideLayout" Target="../slideLayouts/slideLayout497.xml"/><Relationship Id="rId11" Type="http://schemas.openxmlformats.org/officeDocument/2006/relationships/slideLayout" Target="../slideLayouts/slideLayout498.xml"/><Relationship Id="rId12" Type="http://schemas.openxmlformats.org/officeDocument/2006/relationships/slideLayout" Target="../slideLayouts/slideLayout499.xml"/><Relationship Id="rId13" Type="http://schemas.openxmlformats.org/officeDocument/2006/relationships/slideLayout" Target="../slideLayouts/slideLayout500.xml"/><Relationship Id="rId14" Type="http://schemas.openxmlformats.org/officeDocument/2006/relationships/slideLayout" Target="../slideLayouts/slideLayout501.xml"/><Relationship Id="rId15" Type="http://schemas.openxmlformats.org/officeDocument/2006/relationships/slideLayout" Target="../slideLayouts/slideLayout502.xml"/><Relationship Id="rId16" Type="http://schemas.openxmlformats.org/officeDocument/2006/relationships/slideLayout" Target="../slideLayouts/slideLayout503.xml"/><Relationship Id="rId17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25.xml"/><Relationship Id="rId7" Type="http://schemas.openxmlformats.org/officeDocument/2006/relationships/slideLayout" Target="../slideLayouts/slideLayout626.xml"/><Relationship Id="rId8" Type="http://schemas.openxmlformats.org/officeDocument/2006/relationships/slideLayout" Target="../slideLayouts/slideLayout627.xml"/><Relationship Id="rId9" Type="http://schemas.openxmlformats.org/officeDocument/2006/relationships/slideLayout" Target="../slideLayouts/slideLayout628.xml"/><Relationship Id="rId10" Type="http://schemas.openxmlformats.org/officeDocument/2006/relationships/slideLayout" Target="../slideLayouts/slideLayout629.xml"/><Relationship Id="rId11" Type="http://schemas.openxmlformats.org/officeDocument/2006/relationships/slideLayout" Target="../slideLayouts/slideLayout630.xml"/><Relationship Id="rId12" Type="http://schemas.openxmlformats.org/officeDocument/2006/relationships/slideLayout" Target="../slideLayouts/slideLayout631.xml"/><Relationship Id="rId13" Type="http://schemas.openxmlformats.org/officeDocument/2006/relationships/slideLayout" Target="../slideLayouts/slideLayout632.xml"/><Relationship Id="rId14" Type="http://schemas.openxmlformats.org/officeDocument/2006/relationships/slideLayout" Target="../slideLayouts/slideLayout633.xml"/><Relationship Id="rId15" Type="http://schemas.openxmlformats.org/officeDocument/2006/relationships/slideLayout" Target="../slideLayouts/slideLayout634.xml"/><Relationship Id="rId16" Type="http://schemas.openxmlformats.org/officeDocument/2006/relationships/slideLayout" Target="../slideLayouts/slideLayout635.xml"/><Relationship Id="rId17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57.xml"/><Relationship Id="rId7" Type="http://schemas.openxmlformats.org/officeDocument/2006/relationships/slideLayout" Target="../slideLayouts/slideLayout758.xml"/><Relationship Id="rId8" Type="http://schemas.openxmlformats.org/officeDocument/2006/relationships/slideLayout" Target="../slideLayouts/slideLayout759.xml"/><Relationship Id="rId9" Type="http://schemas.openxmlformats.org/officeDocument/2006/relationships/slideLayout" Target="../slideLayouts/slideLayout760.xml"/><Relationship Id="rId10" Type="http://schemas.openxmlformats.org/officeDocument/2006/relationships/slideLayout" Target="../slideLayouts/slideLayout761.xml"/><Relationship Id="rId11" Type="http://schemas.openxmlformats.org/officeDocument/2006/relationships/slideLayout" Target="../slideLayouts/slideLayout762.xml"/><Relationship Id="rId12" Type="http://schemas.openxmlformats.org/officeDocument/2006/relationships/slideLayout" Target="../slideLayouts/slideLayout763.xml"/><Relationship Id="rId13" Type="http://schemas.openxmlformats.org/officeDocument/2006/relationships/slideLayout" Target="../slideLayouts/slideLayout764.xml"/><Relationship Id="rId14" Type="http://schemas.openxmlformats.org/officeDocument/2006/relationships/slideLayout" Target="../slideLayouts/slideLayout765.xml"/><Relationship Id="rId15" Type="http://schemas.openxmlformats.org/officeDocument/2006/relationships/slideLayout" Target="../slideLayouts/slideLayout766.xml"/><Relationship Id="rId16" Type="http://schemas.openxmlformats.org/officeDocument/2006/relationships/slideLayout" Target="../slideLayouts/slideLayout767.xml"/><Relationship Id="rId17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89.xml"/><Relationship Id="rId7" Type="http://schemas.openxmlformats.org/officeDocument/2006/relationships/slideLayout" Target="../slideLayouts/slideLayout890.xml"/><Relationship Id="rId8" Type="http://schemas.openxmlformats.org/officeDocument/2006/relationships/slideLayout" Target="../slideLayouts/slideLayout891.xml"/><Relationship Id="rId9" Type="http://schemas.openxmlformats.org/officeDocument/2006/relationships/slideLayout" Target="../slideLayouts/slideLayout892.xml"/><Relationship Id="rId10" Type="http://schemas.openxmlformats.org/officeDocument/2006/relationships/slideLayout" Target="../slideLayouts/slideLayout893.xml"/><Relationship Id="rId11" Type="http://schemas.openxmlformats.org/officeDocument/2006/relationships/slideLayout" Target="../slideLayouts/slideLayout894.xml"/><Relationship Id="rId12" Type="http://schemas.openxmlformats.org/officeDocument/2006/relationships/slideLayout" Target="../slideLayouts/slideLayout895.xml"/><Relationship Id="rId13" Type="http://schemas.openxmlformats.org/officeDocument/2006/relationships/slideLayout" Target="../slideLayouts/slideLayout896.xml"/><Relationship Id="rId14" Type="http://schemas.openxmlformats.org/officeDocument/2006/relationships/slideLayout" Target="../slideLayouts/slideLayout897.xml"/><Relationship Id="rId15" Type="http://schemas.openxmlformats.org/officeDocument/2006/relationships/slideLayout" Target="../slideLayouts/slideLayout898.xml"/><Relationship Id="rId16" Type="http://schemas.openxmlformats.org/officeDocument/2006/relationships/slideLayout" Target="../slideLayouts/slideLayout899.xml"/><Relationship Id="rId17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01.xml"/><Relationship Id="rId6" Type="http://schemas.openxmlformats.org/officeDocument/2006/relationships/slideLayout" Target="../slideLayouts/slideLayout902.xml"/><Relationship Id="rId7" Type="http://schemas.openxmlformats.org/officeDocument/2006/relationships/slideLayout" Target="../slideLayouts/slideLayout903.xml"/><Relationship Id="rId8" Type="http://schemas.openxmlformats.org/officeDocument/2006/relationships/slideLayout" Target="../slideLayouts/slideLayout904.xml"/><Relationship Id="rId9" Type="http://schemas.openxmlformats.org/officeDocument/2006/relationships/slideLayout" Target="../slideLayouts/slideLayout905.xml"/><Relationship Id="rId10" Type="http://schemas.openxmlformats.org/officeDocument/2006/relationships/slideLayout" Target="../slideLayouts/slideLayout906.xml"/><Relationship Id="rId11" Type="http://schemas.openxmlformats.org/officeDocument/2006/relationships/slideLayout" Target="../slideLayouts/slideLayout907.xml"/><Relationship Id="rId12" Type="http://schemas.openxmlformats.org/officeDocument/2006/relationships/slideLayout" Target="../slideLayouts/slideLayout908.xml"/><Relationship Id="rId13" Type="http://schemas.openxmlformats.org/officeDocument/2006/relationships/slideLayout" Target="../slideLayouts/slideLayout909.xml"/><Relationship Id="rId14" Type="http://schemas.openxmlformats.org/officeDocument/2006/relationships/slideLayout" Target="../slideLayouts/slideLayout910.xml"/><Relationship Id="rId15" Type="http://schemas.openxmlformats.org/officeDocument/2006/relationships/slideLayout" Target="../slideLayouts/slideLayout911.xml"/><Relationship Id="rId16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009.xml"/><Relationship Id="rId5" Type="http://schemas.openxmlformats.org/officeDocument/2006/relationships/slideLayout" Target="../slideLayouts/slideLayout1010.xml"/><Relationship Id="rId6" Type="http://schemas.openxmlformats.org/officeDocument/2006/relationships/slideLayout" Target="../slideLayouts/slideLayout1011.xml"/><Relationship Id="rId7" Type="http://schemas.openxmlformats.org/officeDocument/2006/relationships/slideLayout" Target="../slideLayouts/slideLayout1012.xml"/><Relationship Id="rId8" Type="http://schemas.openxmlformats.org/officeDocument/2006/relationships/slideLayout" Target="../slideLayouts/slideLayout1013.xml"/><Relationship Id="rId9" Type="http://schemas.openxmlformats.org/officeDocument/2006/relationships/slideLayout" Target="../slideLayouts/slideLayout1014.xml"/><Relationship Id="rId10" Type="http://schemas.openxmlformats.org/officeDocument/2006/relationships/slideLayout" Target="../slideLayouts/slideLayout1015.xml"/><Relationship Id="rId11" Type="http://schemas.openxmlformats.org/officeDocument/2006/relationships/slideLayout" Target="../slideLayouts/slideLayout1016.xml"/><Relationship Id="rId12" Type="http://schemas.openxmlformats.org/officeDocument/2006/relationships/slideLayout" Target="../slideLayouts/slideLayout1017.xml"/><Relationship Id="rId13" Type="http://schemas.openxmlformats.org/officeDocument/2006/relationships/slideLayout" Target="../slideLayouts/slideLayout1018.xml"/><Relationship Id="rId14" Type="http://schemas.openxmlformats.org/officeDocument/2006/relationships/slideLayout" Target="../slideLayouts/slideLayout1019.xml"/><Relationship Id="rId15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21.xml"/><Relationship Id="rId7" Type="http://schemas.openxmlformats.org/officeDocument/2006/relationships/slideLayout" Target="../slideLayouts/slideLayout1022.xml"/><Relationship Id="rId8" Type="http://schemas.openxmlformats.org/officeDocument/2006/relationships/slideLayout" Target="../slideLayouts/slideLayout1023.xml"/><Relationship Id="rId9" Type="http://schemas.openxmlformats.org/officeDocument/2006/relationships/slideLayout" Target="../slideLayouts/slideLayout1024.xml"/><Relationship Id="rId10" Type="http://schemas.openxmlformats.org/officeDocument/2006/relationships/slideLayout" Target="../slideLayouts/slideLayout1025.xml"/><Relationship Id="rId11" Type="http://schemas.openxmlformats.org/officeDocument/2006/relationships/slideLayout" Target="../slideLayouts/slideLayout1026.xml"/><Relationship Id="rId12" Type="http://schemas.openxmlformats.org/officeDocument/2006/relationships/slideLayout" Target="../slideLayouts/slideLayout1027.xml"/><Relationship Id="rId13" Type="http://schemas.openxmlformats.org/officeDocument/2006/relationships/slideLayout" Target="../slideLayouts/slideLayout1028.xml"/><Relationship Id="rId14" Type="http://schemas.openxmlformats.org/officeDocument/2006/relationships/slideLayout" Target="../slideLayouts/slideLayout1029.xml"/><Relationship Id="rId15" Type="http://schemas.openxmlformats.org/officeDocument/2006/relationships/slideLayout" Target="../slideLayouts/slideLayout1030.xml"/><Relationship Id="rId16" Type="http://schemas.openxmlformats.org/officeDocument/2006/relationships/slideLayout" Target="../slideLayouts/slideLayout1031.xml"/><Relationship Id="rId17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33.xml"/><Relationship Id="rId6" Type="http://schemas.openxmlformats.org/officeDocument/2006/relationships/slideLayout" Target="../slideLayouts/slideLayout1034.xml"/><Relationship Id="rId7" Type="http://schemas.openxmlformats.org/officeDocument/2006/relationships/slideLayout" Target="../slideLayouts/slideLayout1035.xml"/><Relationship Id="rId8" Type="http://schemas.openxmlformats.org/officeDocument/2006/relationships/slideLayout" Target="../slideLayouts/slideLayout1036.xml"/><Relationship Id="rId9" Type="http://schemas.openxmlformats.org/officeDocument/2006/relationships/slideLayout" Target="../slideLayouts/slideLayout1037.xml"/><Relationship Id="rId10" Type="http://schemas.openxmlformats.org/officeDocument/2006/relationships/slideLayout" Target="../slideLayouts/slideLayout1038.xml"/><Relationship Id="rId11" Type="http://schemas.openxmlformats.org/officeDocument/2006/relationships/slideLayout" Target="../slideLayouts/slideLayout1039.xml"/><Relationship Id="rId12" Type="http://schemas.openxmlformats.org/officeDocument/2006/relationships/slideLayout" Target="../slideLayouts/slideLayout1040.xml"/><Relationship Id="rId13" Type="http://schemas.openxmlformats.org/officeDocument/2006/relationships/slideLayout" Target="../slideLayouts/slideLayout1041.xml"/><Relationship Id="rId14" Type="http://schemas.openxmlformats.org/officeDocument/2006/relationships/slideLayout" Target="../slideLayouts/slideLayout1042.xml"/><Relationship Id="rId15" Type="http://schemas.openxmlformats.org/officeDocument/2006/relationships/slideLayout" Target="../slideLayouts/slideLayout1043.xml"/><Relationship Id="rId16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141.xml"/><Relationship Id="rId5" Type="http://schemas.openxmlformats.org/officeDocument/2006/relationships/slideLayout" Target="../slideLayouts/slideLayout1142.xml"/><Relationship Id="rId6" Type="http://schemas.openxmlformats.org/officeDocument/2006/relationships/slideLayout" Target="../slideLayouts/slideLayout1143.xml"/><Relationship Id="rId7" Type="http://schemas.openxmlformats.org/officeDocument/2006/relationships/slideLayout" Target="../slideLayouts/slideLayout1144.xml"/><Relationship Id="rId8" Type="http://schemas.openxmlformats.org/officeDocument/2006/relationships/slideLayout" Target="../slideLayouts/slideLayout1145.xml"/><Relationship Id="rId9" Type="http://schemas.openxmlformats.org/officeDocument/2006/relationships/slideLayout" Target="../slideLayouts/slideLayout1146.xml"/><Relationship Id="rId10" Type="http://schemas.openxmlformats.org/officeDocument/2006/relationships/slideLayout" Target="../slideLayouts/slideLayout1147.xml"/><Relationship Id="rId11" Type="http://schemas.openxmlformats.org/officeDocument/2006/relationships/slideLayout" Target="../slideLayouts/slideLayout1148.xml"/><Relationship Id="rId12" Type="http://schemas.openxmlformats.org/officeDocument/2006/relationships/slideLayout" Target="../slideLayouts/slideLayout1149.xml"/><Relationship Id="rId13" Type="http://schemas.openxmlformats.org/officeDocument/2006/relationships/slideLayout" Target="../slideLayouts/slideLayout1150.xml"/><Relationship Id="rId14" Type="http://schemas.openxmlformats.org/officeDocument/2006/relationships/slideLayout" Target="../slideLayouts/slideLayout1151.xml"/><Relationship Id="rId15" Type="http://schemas.openxmlformats.org/officeDocument/2006/relationships/slideLayout" Target="../slideLayouts/slideLayout115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4E8F-F042-4AD1-856F-D6A7CF98F37A}" type="datetime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B07A-FD98-494E-994F-B34C2EFDAF9A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402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403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2A7-D0E3-4A43-9881-97652CDDC6C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C24B-E2DF-4678-9A6F-7F8C1408233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B8B0-9F1D-413F-877A-4E42048B8B6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2935-7F6A-41F9-B508-D64D77EB27B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2E8-7CCB-41E9-B44B-9F30F2D1816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3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23F-4C55-4E25-82F7-20DBF0CBD32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782D-AB50-4EB8-A45F-4FA5952EB7F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1658-6ABC-4950-BE4D-3DE1E397CB4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587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3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18CE-4A86-4CE2-A100-4258A6944EB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3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6DCC-47F7-45B1-A698-7DC28C3E40F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632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4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7A7B-066B-42E4-94D7-A46A465C127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4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0F04-C99A-450B-B4D2-0B1CC29E477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677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4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EB0-18BE-4DE0-8267-AC6C82E54B8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4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87D-CD08-4E85-8054-DC2BD265D39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722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dt" idx="4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BE1C-1516-4ADA-9F27-C5F5FAC0E9C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4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FB05-7F21-42C8-9AB7-DCCD623A106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767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5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25E-8AF9-4AED-BA9F-9F258CC4E46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5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9C80-9C4B-4C85-B1E1-D9837AB8A45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812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dt" idx="5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543D-552B-408D-8C33-2A213CA680D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5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9ABC-49A1-4C6D-80F6-23AEA274676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2E6-D0B3-4635-A2D1-9AE75CC4FAA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6552-630C-4473-BE79-A5FF3C1884F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861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862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863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5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C15-EB94-4AB2-B050-29A145539DB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sldNum" idx="5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8E2-0489-4D5F-9424-EBD37BC9C11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915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916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5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150-C939-46FC-BEE6-CE197A97A08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Num" idx="5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813-4A5A-4026-8755-095BC407A9B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968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dt" idx="6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9D3B-02AC-42CD-B245-5FFEE5F363E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6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A7DB-BD5C-43BD-82B7-6986471E1C6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01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dt" idx="6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94C-0DD1-46EF-B856-A58978B9D76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6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278-F424-43F8-9C92-623714B6D0F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058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6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DA7A-696B-47AD-90C9-786D1B15A67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sldNum" idx="6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8224-302E-40ED-9AF2-5EC04F90FF9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6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10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6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C59-C4FD-4286-B99A-014F121EA3E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sldNum" idx="7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D0A-91BB-42AC-A09F-248BFFBCA25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148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dt" idx="7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7F53-B5F2-4A51-8636-EB25CE07E48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7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0024-7A3E-4B08-BC44-F609A929B51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19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7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E04-84AC-47D0-8C27-867470E2E8A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7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881-2803-4C1D-A7AC-D968AFC9B3F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7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238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dt" idx="7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90B2-A3A8-4A1D-86FD-7977A757CF4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7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233F-0B6F-430E-A5CD-B3FACBFF656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28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8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92E-219F-4A90-B2C2-861EC8B35B1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sldNum" idx="8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F35-89F8-4140-90CD-8EB57B5E308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C3E-1F53-4FC0-909C-D24D06376FE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6170-8522-4067-A4BB-DB01A83A5F3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328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dt" idx="8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8EB-9CF9-4457-A230-5C9545FABFA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sldNum" idx="8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9075-C6E5-49C6-A2B6-47432C94F2B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377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378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379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7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38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dt" idx="8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72AA-F552-4D7C-A0B1-A1F0D3FA1A6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8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19E6-B867-4E56-95AC-9951051320F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431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432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44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dt" idx="8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902A-5F63-4087-B54E-839089645A6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 type="sldNum" idx="9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5452-C407-4D3F-A447-F4FCF335962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484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dt" idx="9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590-52A3-4889-9EF3-810B658CC171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sldNum" idx="9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CD7F-9BF3-45EE-866F-8B71BCC7994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9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52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dt" idx="9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BE2A-0EE1-41F3-AF99-4124073A891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sldNum" idx="9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08E-E3F1-4154-AFBC-82B20082D15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ftr" idx="9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574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dt" idx="9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7358-4360-4B13-A4A7-CD5C139F1D6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sldNum" idx="9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1486-9F69-4FC9-BED7-043D2D10D5C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ftr" idx="9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61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dt" idx="10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882-8F65-4369-9C40-0FA4DCD3AAE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sldNum" idx="10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A6D8-7657-4E83-9579-7068CF58C87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10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664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dt" idx="10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A77D-6A95-4007-A1B0-EC159444D36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sldNum" idx="10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E742-0772-49A3-9261-E6DC0EB138C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ftr" idx="10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70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dt" idx="10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68FC-8846-4321-AF7D-1B32D55BE15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sldNum" idx="10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CFA-D515-4B40-BB9C-09893173BC8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0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754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dt" idx="10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5A0-F56E-44FE-88DB-50580CF84531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sldNum" idx="11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C17D-645A-43BF-9077-458434C03E7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11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CFD-AE16-4B22-8A5F-B50A284DECE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539B-2168-44CB-A12E-7AD95FEDCF6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79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dt" idx="11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B845-C0A0-4D6C-A982-45B024A7BC8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 type="sldNum" idx="11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4699-93E1-4876-9678-DAAF88A9539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 type="ftr" idx="11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844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184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dt" idx="11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5A9A-560D-4BEF-A6B6-F4017E94DE8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sldNum" idx="11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53D5-D41E-4485-B1CF-524D26A1D4B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1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2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893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894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895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dt" idx="11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05F1-511F-4262-B0DD-A9BD99E22D2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sldNum" idx="11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5BE-C911-4A90-9D0F-17BFF425DF3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6"/>
    <p:sldLayoutId id="2147484183" r:id="rId7"/>
    <p:sldLayoutId id="2147484184" r:id="rId8"/>
    <p:sldLayoutId id="2147484185" r:id="rId9"/>
    <p:sldLayoutId id="2147484186" r:id="rId10"/>
    <p:sldLayoutId id="2147484187" r:id="rId11"/>
    <p:sldLayoutId id="2147484188" r:id="rId12"/>
    <p:sldLayoutId id="2147484189" r:id="rId13"/>
    <p:sldLayoutId id="2147484190" r:id="rId14"/>
    <p:sldLayoutId id="2147484191" r:id="rId15"/>
    <p:sldLayoutId id="2147484192" r:id="rId16"/>
    <p:sldLayoutId id="2147484193" r:id="rId17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947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948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95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dt" idx="12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39C8-DDDE-4F44-8CD9-77328081A77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 type="sldNum" idx="12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417-46CE-44AA-A0DE-892E6DB4F37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00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dt" idx="12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4D32-9AB1-46A9-8F93-369212D5E19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sldNum" idx="12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DF1-7AC6-4C82-A28A-EF25C2DF767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12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04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dt" idx="12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A8E-18F6-4BFA-B4FC-9627469D787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 type="sldNum" idx="12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A903-7C87-4556-AF63-2CB8712C5DD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 type="ftr" idx="12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09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dt" idx="12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DC79-650D-4E74-B7C3-C2D5F93ACB6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sldNum" idx="12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5CFF-403A-4F9D-A255-7F9B0B4856A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3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13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dt" idx="13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CEF1-52DC-406F-A949-0023BB8E2B0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sldNum" idx="13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9E78-03C5-49D7-B2D5-188F7E100A2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3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18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dt" idx="13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7DC0-FB39-4403-825A-308BE6DFA7B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sldNum" idx="13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6400-7537-457D-88A0-5AF45D4331E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3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22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dt" idx="13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FF1E-192D-4D4D-8868-3939904D422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 type="sldNum" idx="13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89CA-F97B-425B-ACDE-4BCAA95146C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 type="ftr" idx="13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786A-E73D-4E8C-99EA-DDB7740C741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C85D-9FA3-4FFB-BA0E-D1CFD22146B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27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4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96F-59E1-440B-B5BC-1C130B6F2921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Num" idx="14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340F-7E8B-4A33-BD7B-A11C6A31866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ftr" idx="14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31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dt" idx="14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5285-A3A4-46C7-A610-85FBFEBDCFF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 type="sldNum" idx="14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74D-41A1-4899-81A9-E1F83FB972E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 type="ftr" idx="14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36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4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236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 type="dt" idx="14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8E27-8FE2-48F5-BC8D-C222814F57E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 type="sldNum" idx="14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978-5FB0-4FF7-955D-F44ECE9367E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 type="ftr" idx="14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8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409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2410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411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9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dt" idx="14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011D-DC94-42D0-AC78-51B8C27605F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15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530-2B6B-487B-B7A0-62F74B0038D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6"/>
    <p:sldLayoutId id="2147484326" r:id="rId7"/>
    <p:sldLayoutId id="2147484327" r:id="rId8"/>
    <p:sldLayoutId id="2147484328" r:id="rId9"/>
    <p:sldLayoutId id="2147484329" r:id="rId10"/>
    <p:sldLayoutId id="2147484330" r:id="rId11"/>
    <p:sldLayoutId id="2147484331" r:id="rId12"/>
    <p:sldLayoutId id="2147484332" r:id="rId13"/>
    <p:sldLayoutId id="2147484333" r:id="rId14"/>
    <p:sldLayoutId id="2147484334" r:id="rId15"/>
    <p:sldLayoutId id="2147484335" r:id="rId16"/>
    <p:sldLayoutId id="2147484336" r:id="rId17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2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463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464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2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47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dt" idx="15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C23E-90A4-4A13-9221-9A36E6A0487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 type="sldNum" idx="15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3F4-ECF5-4F50-B2FC-56E4464924D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51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dt" idx="15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C7AD-5E6F-4376-9663-D51B535CDD8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 type="sldNum" idx="15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6AB-F968-4724-898A-F8B8E76B586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 type="ftr" idx="15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56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dt" idx="15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8AB-C4CD-406D-B923-86013A3F4ED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sldNum" idx="15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AE05-E3E9-4F57-8A39-6CC4BFA65F7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 type="ftr" idx="15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60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dt" idx="15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70A7-E77E-4DB7-A630-1A07421B8F0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sldNum" idx="16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3F0-A6CE-46D2-8B74-7B0E9BB0130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6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65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dt" idx="16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D784-361D-4505-9F19-31E52CA6BB2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 type="sldNum" idx="16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9619-B42A-4E64-AD7A-614FC3CFD9D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 type="ftr" idx="16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69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 type="dt" idx="16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22BA-15C4-4B4C-8891-FF71F13F805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 type="sldNum" idx="16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BE4B-B945-4966-899E-815F99928B6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 type="ftr" idx="16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22E-DAB4-496E-9E58-7C7C0F2DC0A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6259-C0DE-46A5-AC51-0C4D3BC8183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74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 type="dt" idx="16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D9E-1112-48A7-85CD-7C4CC142F10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 type="sldNum" idx="16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6C4C-F8F6-46F2-AEF9-FFC02BF8198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 type="ftr" idx="17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78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 type="dt" idx="17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655B-2377-405D-ACFA-A8F85CDB89E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 type="sldNum" idx="17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CAE3-D5DA-4673-A47D-2749D82C930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 type="ftr" idx="17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83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dt" idx="17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B36-8DFD-40D3-B605-F2F5B9E94FF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 type="sldNum" idx="17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0FB1-3F7E-4C31-8319-7A0B52462C4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 type="ftr" idx="17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87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0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dt" idx="17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44FA-CCFB-4296-B87B-60D5A92C8EF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 type="sldNum" idx="17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8960-9FF2-4663-9E36-F9B8D34907A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 type="ftr" idx="17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4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925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2926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927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5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93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 type="dt" idx="18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A46E-2E34-477B-9CCE-DF2AF84996A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 type="sldNum" idx="18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E66-9017-4C7E-B756-58E48DD1C80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6"/>
    <p:sldLayoutId id="2147484469" r:id="rId7"/>
    <p:sldLayoutId id="2147484470" r:id="rId8"/>
    <p:sldLayoutId id="2147484471" r:id="rId9"/>
    <p:sldLayoutId id="2147484472" r:id="rId10"/>
    <p:sldLayoutId id="2147484473" r:id="rId11"/>
    <p:sldLayoutId id="2147484474" r:id="rId12"/>
    <p:sldLayoutId id="2147484475" r:id="rId13"/>
    <p:sldLayoutId id="2147484476" r:id="rId14"/>
    <p:sldLayoutId id="2147484477" r:id="rId15"/>
    <p:sldLayoutId id="2147484478" r:id="rId16"/>
    <p:sldLayoutId id="2147484479" r:id="rId17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8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979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980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8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98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 type="dt" idx="18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26EB-D475-4B8E-B837-529A199E7A1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 type="sldNum" idx="18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997-AF57-4F99-BD4F-E38B64CD651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03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dt" idx="18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19D-241F-433D-A084-A0269B1F450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 type="sldNum" idx="18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DDE8-A07F-4DFB-9F19-A425E5EBE0E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 type="ftr" idx="18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07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dt" idx="18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6C95-17BC-4624-AC1C-56854100545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18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AE4-3B39-4FA4-88FA-A67CC0A0826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 type="ftr" idx="18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12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dt" idx="19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2585-FBA9-4813-BB40-7196A3E9D2D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sldNum" idx="19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7AE9-6835-4F3A-9B6F-381CAF1C1EE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19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 type="dt" idx="19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A99-8917-4D50-9845-A3464FF92CE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 type="sldNum" idx="19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F8B-C4D0-4128-AED0-CE0C1105FB6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 type="ftr" idx="19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04E-10BE-46DC-97C9-967338CABC2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BE2-400F-451F-8ADA-11BF8FFA2DE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 type="dt" idx="19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541-FA38-4F21-852C-E3FD1788484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PlaceHolder 3"/>
          <p:cNvSpPr>
            <a:spLocks noGrp="1"/>
          </p:cNvSpPr>
          <p:nvPr>
            <p:ph type="sldNum" idx="19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557C-DBBC-4D9B-8CDE-5AF824473E6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PlaceHolder 4"/>
          <p:cNvSpPr>
            <a:spLocks noGrp="1"/>
          </p:cNvSpPr>
          <p:nvPr>
            <p:ph type="ftr" idx="19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25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 type="dt" idx="19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BB5-10C5-40D1-A807-5CFBD8C3127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 type="sldNum" idx="20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38A1-8DDD-464A-BC0B-DD6187F5534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 type="ftr" idx="20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29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 type="dt" idx="20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EAC-9EC1-482E-96C8-3293AC0ED671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 type="sldNum" idx="20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A7A0-5AAD-4FDD-A86B-B296E087412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 type="ftr" idx="20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 type="dt" idx="20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6CDE-B21F-45F4-9642-6BA119A24DF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 type="sldNum" idx="20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877-C6B5-4E9F-AA31-3E44A3F625A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 type="ftr" idx="20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385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8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338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dt" idx="20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A493-E66D-4D1C-A163-0791C580B6C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 type="sldNum" idx="20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37FF-F7D9-4162-8918-3E8C3C53BF2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 type="ftr" idx="21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2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433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3434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435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3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44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dt" idx="21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54C-A6BC-44CE-8F02-173E0FA402C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sldNum" idx="21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A7B3-56C1-4C6C-81E8-FCE66BDE84F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6"/>
    <p:sldLayoutId id="2147484612" r:id="rId7"/>
    <p:sldLayoutId id="2147484613" r:id="rId8"/>
    <p:sldLayoutId id="2147484614" r:id="rId9"/>
    <p:sldLayoutId id="2147484615" r:id="rId10"/>
    <p:sldLayoutId id="2147484616" r:id="rId11"/>
    <p:sldLayoutId id="2147484617" r:id="rId12"/>
    <p:sldLayoutId id="2147484618" r:id="rId13"/>
    <p:sldLayoutId id="2147484619" r:id="rId14"/>
    <p:sldLayoutId id="2147484620" r:id="rId15"/>
    <p:sldLayoutId id="2147484621" r:id="rId16"/>
    <p:sldLayoutId id="2147484622" r:id="rId17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6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487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488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6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49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 type="dt" idx="21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1A66-3CB0-4F10-9A72-36456744205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 type="sldNum" idx="21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6A8-D914-4DE4-BB82-FA0AAECF3A7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5"/>
    <p:sldLayoutId id="2147484625" r:id="rId6"/>
    <p:sldLayoutId id="2147484626" r:id="rId7"/>
    <p:sldLayoutId id="2147484627" r:id="rId8"/>
    <p:sldLayoutId id="2147484628" r:id="rId9"/>
    <p:sldLayoutId id="2147484629" r:id="rId10"/>
    <p:sldLayoutId id="2147484630" r:id="rId11"/>
    <p:sldLayoutId id="2147484631" r:id="rId12"/>
    <p:sldLayoutId id="2147484632" r:id="rId13"/>
    <p:sldLayoutId id="2147484633" r:id="rId14"/>
    <p:sldLayoutId id="2147484634" r:id="rId15"/>
    <p:sldLayoutId id="2147484635" r:id="rId16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54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 type="dt" idx="21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B9D-E9BA-4D77-B761-439BA1D03E4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 type="sldNum" idx="21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B7A-5093-4655-BEBE-AE27062968F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 type="ftr" idx="21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58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dt" idx="21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4AB5-1D3F-4E76-A875-26E42F41F2A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 type="sldNum" idx="21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99F-BDA8-43E9-A024-0716F3D86D9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4"/>
          <p:cNvSpPr>
            <a:spLocks noGrp="1"/>
          </p:cNvSpPr>
          <p:nvPr>
            <p:ph type="ftr" idx="22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63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 type="dt" idx="22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ECB5-01AE-4C22-B256-7B4FF4FFA151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 type="sldNum" idx="22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F228-2761-4006-A366-8E18FB5C096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 type="ftr" idx="22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2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31A-C83C-4522-BA43-B83B11499DB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2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0CFF-3850-4D87-931E-5772F5336AD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67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 type="dt" idx="22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6B3-2908-45C1-8E6B-6AD9DBFC382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 type="sldNum" idx="22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14D-C8A9-4459-9707-581598C1502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 type="ftr" idx="22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72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 type="dt" idx="22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529-8446-4CDD-95EE-9FF9A929698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 type="sldNum" idx="22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204-018F-4EA0-95A7-2EADCDC8298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 type="ftr" idx="22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76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7" name="PlaceHolder 2"/>
          <p:cNvSpPr>
            <a:spLocks noGrp="1"/>
          </p:cNvSpPr>
          <p:nvPr>
            <p:ph type="dt" idx="23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F0CF-AB97-4291-AC29-BE8AC6EBD5D3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3"/>
          <p:cNvSpPr>
            <a:spLocks noGrp="1"/>
          </p:cNvSpPr>
          <p:nvPr>
            <p:ph type="sldNum" idx="23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EEF-3840-4614-8421-B607781C417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4"/>
          <p:cNvSpPr>
            <a:spLocks noGrp="1"/>
          </p:cNvSpPr>
          <p:nvPr>
            <p:ph type="ftr" idx="23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81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 type="dt" idx="23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4C0-12C0-4C82-902C-393629F2F04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 type="sldNum" idx="23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90B-C52D-44AB-A7D1-F7AA82B6CD2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 type="ftr" idx="23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85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 type="dt" idx="23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6C66-7B10-4B90-B3A5-46FC47D096D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 type="sldNum" idx="23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3F98-3FED-47C9-9878-08DC9898940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 type="ftr" idx="23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90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4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390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6" name="PlaceHolder 2"/>
          <p:cNvSpPr>
            <a:spLocks noGrp="1"/>
          </p:cNvSpPr>
          <p:nvPr>
            <p:ph type="dt" idx="23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287-A4BE-4C9E-9EE5-26B8F220637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 type="sldNum" idx="24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ABA-C945-4B27-98D4-DA6BC677DE2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4"/>
          <p:cNvSpPr>
            <a:spLocks noGrp="1"/>
          </p:cNvSpPr>
          <p:nvPr>
            <p:ph type="ftr" idx="24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4"/>
    <p:sldLayoutId id="2147484742" r:id="rId5"/>
    <p:sldLayoutId id="2147484743" r:id="rId6"/>
    <p:sldLayoutId id="2147484744" r:id="rId7"/>
    <p:sldLayoutId id="2147484745" r:id="rId8"/>
    <p:sldLayoutId id="2147484746" r:id="rId9"/>
    <p:sldLayoutId id="2147484747" r:id="rId10"/>
    <p:sldLayoutId id="2147484748" r:id="rId11"/>
    <p:sldLayoutId id="2147484749" r:id="rId12"/>
    <p:sldLayoutId id="2147484750" r:id="rId13"/>
    <p:sldLayoutId id="2147484751" r:id="rId14"/>
    <p:sldLayoutId id="2147484752" r:id="rId15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8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949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3950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951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9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96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dt" idx="24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9FF-B807-4AC1-976F-7C4D4384B5B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3"/>
          <p:cNvSpPr>
            <a:spLocks noGrp="1"/>
          </p:cNvSpPr>
          <p:nvPr>
            <p:ph type="sldNum" idx="24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967C-DD20-458C-988A-9CBB9DD7981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6"/>
    <p:sldLayoutId id="2147484755" r:id="rId7"/>
    <p:sldLayoutId id="2147484756" r:id="rId8"/>
    <p:sldLayoutId id="2147484757" r:id="rId9"/>
    <p:sldLayoutId id="2147484758" r:id="rId10"/>
    <p:sldLayoutId id="2147484759" r:id="rId11"/>
    <p:sldLayoutId id="2147484760" r:id="rId12"/>
    <p:sldLayoutId id="2147484761" r:id="rId13"/>
    <p:sldLayoutId id="2147484762" r:id="rId14"/>
    <p:sldLayoutId id="2147484763" r:id="rId15"/>
    <p:sldLayoutId id="2147484764" r:id="rId16"/>
    <p:sldLayoutId id="2147484765" r:id="rId17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2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4003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4004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2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401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 type="dt" idx="24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5FB-3DFB-44DD-B90D-2B86F45BB46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 type="sldNum" idx="24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B141-E313-4292-8924-6B11B7E2FA8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5"/>
    <p:sldLayoutId id="2147484768" r:id="rId6"/>
    <p:sldLayoutId id="2147484769" r:id="rId7"/>
    <p:sldLayoutId id="2147484770" r:id="rId8"/>
    <p:sldLayoutId id="2147484771" r:id="rId9"/>
    <p:sldLayoutId id="2147484772" r:id="rId10"/>
    <p:sldLayoutId id="2147484773" r:id="rId11"/>
    <p:sldLayoutId id="2147484774" r:id="rId12"/>
    <p:sldLayoutId id="2147484775" r:id="rId13"/>
    <p:sldLayoutId id="2147484776" r:id="rId14"/>
    <p:sldLayoutId id="2147484777" r:id="rId15"/>
    <p:sldLayoutId id="2147484778" r:id="rId16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05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 type="dt" idx="24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22FA-2AF8-4037-909D-C2D12950AF1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 type="sldNum" idx="24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2531-FF61-4CED-9F26-C1C00513691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 type="ftr" idx="24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10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 type="dt" idx="24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B96B-E516-46D0-BBF8-8F61C2AF120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 type="sldNum" idx="25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1E0-F896-4136-902E-CD45E81C854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4"/>
          <p:cNvSpPr>
            <a:spLocks noGrp="1"/>
          </p:cNvSpPr>
          <p:nvPr>
            <p:ph type="ftr" idx="25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48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349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50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314-34D1-4938-AA4A-BF0994316BE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0B80-35E4-4071-888B-258B204A46C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14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 type="dt" idx="25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B64-3F98-47DD-AEA2-E2C68A2FFB2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 type="sldNum" idx="25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E46-7528-4259-9EBF-2D7DC6C27E0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4"/>
          <p:cNvSpPr>
            <a:spLocks noGrp="1"/>
          </p:cNvSpPr>
          <p:nvPr>
            <p:ph type="ftr" idx="25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19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dt" idx="25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06B6-FB3F-4D27-B132-08298DCC268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 type="sldNum" idx="25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CDFD-4862-49EB-A8E2-E385A622660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PlaceHolder 4"/>
          <p:cNvSpPr>
            <a:spLocks noGrp="1"/>
          </p:cNvSpPr>
          <p:nvPr>
            <p:ph type="ftr" idx="25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23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 type="dt" idx="25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4C6F-1E14-49EB-AE96-0D9B9EEBB20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 type="sldNum" idx="25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F10-14D1-4E27-AA29-03BF129AEF7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 type="ftr" idx="26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28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 type="dt" idx="26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086-8DC0-420E-A80F-E364F3A6700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 type="sldNum" idx="26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2D0-6F58-4424-B932-34C5BA746ED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 type="ftr" idx="26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32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 type="dt" idx="26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A1A7-16E3-4329-8FA7-168709B73A4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 type="sldNum" idx="26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55B-B68B-4C8C-9DFF-EA19A55B512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 type="ftr" idx="26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37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 type="dt" idx="26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4DD1-9038-444A-A165-50B137A1872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 type="sldNum" idx="26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01B3-83D8-4866-8C4A-8746F150873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 type="ftr" idx="26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41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0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442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 type="dt" idx="27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53FC-3508-4B77-9601-D9E4C46DD1A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 type="sldNum" idx="27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4E4-6A93-4B50-A5EE-EA0C73FE5F7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 type="ftr" idx="27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4"/>
    <p:sldLayoutId id="2147484885" r:id="rId5"/>
    <p:sldLayoutId id="2147484886" r:id="rId6"/>
    <p:sldLayoutId id="2147484887" r:id="rId7"/>
    <p:sldLayoutId id="2147484888" r:id="rId8"/>
    <p:sldLayoutId id="2147484889" r:id="rId9"/>
    <p:sldLayoutId id="2147484890" r:id="rId10"/>
    <p:sldLayoutId id="2147484891" r:id="rId11"/>
    <p:sldLayoutId id="2147484892" r:id="rId12"/>
    <p:sldLayoutId id="2147484893" r:id="rId13"/>
    <p:sldLayoutId id="2147484894" r:id="rId14"/>
    <p:sldLayoutId id="214748489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PlaceHolder 1"/>
          <p:cNvSpPr>
            <a:spLocks noGrp="1"/>
          </p:cNvSpPr>
          <p:nvPr>
            <p:ph/>
          </p:nvPr>
        </p:nvSpPr>
        <p:spPr>
          <a:xfrm>
            <a:off x="250560" y="1627200"/>
            <a:ext cx="88930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62626"/>
                </a:solidFill>
                <a:latin typeface="Arial"/>
              </a:rPr>
              <a:t>AHG20: Ultra Low Delay for SHVC, MV-HEVC and 3D-HEVC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Arial"/>
              </a:rPr>
              <a:t>JCTVC-O0188/JCT3V-F0070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9" name="PlaceHolder 2"/>
          <p:cNvSpPr>
            <a:spLocks noGrp="1"/>
          </p:cNvSpPr>
          <p:nvPr>
            <p:ph/>
          </p:nvPr>
        </p:nvSpPr>
        <p:spPr>
          <a:xfrm>
            <a:off x="468000" y="3152520"/>
            <a:ext cx="84963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62626"/>
                </a:solidFill>
                <a:latin typeface="Arial"/>
              </a:rPr>
              <a:t>Robert Skupin, Karsten Sühring, Yago Sanchez, Thomas Schierl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 txBox="1"/>
          <p:nvPr/>
        </p:nvSpPr>
        <p:spPr>
          <a:xfrm>
            <a:off x="468000" y="1267920"/>
            <a:ext cx="8496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ltra-low delay (ULD) operation for base HEVC based on spatial segmentation and DU-based HRD operation.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LD operation for SHVC, 3D-HEVC and MV-HEVC was proposed in JCTVC-M0204 and JCTVC-N0290.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Usecase example: 3D cloud gaming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ments received: “Further study to confirm, with intent to adopt if not found problematic.”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Introduc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2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337-26FB-4340-A016-2585E673EBDE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4" name="Content Placeholder 1" descr=""/>
          <p:cNvPicPr/>
          <p:nvPr/>
        </p:nvPicPr>
        <p:blipFill>
          <a:blip r:embed="rId1"/>
          <a:stretch/>
        </p:blipFill>
        <p:spPr>
          <a:xfrm>
            <a:off x="469800" y="1182600"/>
            <a:ext cx="8498160" cy="3365640"/>
          </a:xfrm>
          <a:prstGeom prst="rect">
            <a:avLst/>
          </a:prstGeom>
          <a:ln w="0">
            <a:noFill/>
          </a:ln>
        </p:spPr>
      </p:pic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6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C77-2F5E-41E1-AC96-F2E6665614A8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8" name="Picture 4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8880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9" name="Content Placeholder 1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820000" cy="5327640"/>
          </a:xfrm>
          <a:prstGeom prst="rect">
            <a:avLst/>
          </a:prstGeom>
          <a:ln w="0">
            <a:noFill/>
          </a:ln>
        </p:spPr>
      </p:pic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bitstream order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1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D700-CA1E-4216-940E-EC98A1A72352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3" name="Content Placeholder 1" descr=""/>
          <p:cNvPicPr/>
          <p:nvPr/>
        </p:nvPicPr>
        <p:blipFill>
          <a:blip r:embed="rId1"/>
          <a:stretch/>
        </p:blipFill>
        <p:spPr>
          <a:xfrm>
            <a:off x="281160" y="1176480"/>
            <a:ext cx="8686800" cy="5346720"/>
          </a:xfrm>
          <a:prstGeom prst="rect">
            <a:avLst/>
          </a:prstGeom>
          <a:ln w="0">
            <a:noFill/>
          </a:ln>
        </p:spPr>
      </p:pic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HRD opera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5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2CD0-D03C-43BD-A086-BB715EC94C03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"/>
          <p:cNvSpPr txBox="1"/>
          <p:nvPr/>
        </p:nvSpPr>
        <p:spPr>
          <a:xfrm>
            <a:off x="468000" y="126792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ase HEVC specifies that reference pictures are outputted to the DPB after decoding of the 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DU. Techniques such as overlapped wavefront decoding rely on „unfinished“ reference pictures in the DPB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n HEVC extensions, reference list construction for inter-layer reference pictures face the same circumstance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We can either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eave it to the reasonable implementers as in base HEVC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or specify as follows ..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decoding proces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9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38E-3B1D-48B9-9AF1-310D10575FF2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1" name="Content Placeholder 1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783640" cy="5327640"/>
          </a:xfrm>
          <a:prstGeom prst="rect">
            <a:avLst/>
          </a:prstGeom>
          <a:ln w="0">
            <a:noFill/>
          </a:ln>
        </p:spPr>
      </p:pic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decoding proces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3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1E13-3BDD-4983-BFA0-5041B89689DC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5" name="Content Placeholder 1" descr=""/>
          <p:cNvPicPr/>
          <p:nvPr/>
        </p:nvPicPr>
        <p:blipFill>
          <a:blip r:embed="rId1"/>
          <a:stretch/>
        </p:blipFill>
        <p:spPr>
          <a:xfrm>
            <a:off x="328680" y="1182600"/>
            <a:ext cx="8639280" cy="5340600"/>
          </a:xfrm>
          <a:prstGeom prst="rect">
            <a:avLst/>
          </a:prstGeom>
          <a:ln w="0">
            <a:noFill/>
          </a:ln>
        </p:spPr>
      </p:pic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Summary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7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1AE-C41C-4BED-8D11-4F9896840925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"/>
          <p:cNvSpPr txBox="1"/>
          <p:nvPr/>
        </p:nvSpPr>
        <p:spPr>
          <a:xfrm>
            <a:off x="468000" y="1412640"/>
            <a:ext cx="849636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rial"/>
              </a:rPr>
              <a:t>Details on CPB layout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1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4A26-AF27-4EE6-88A4-464708B1058A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Straight Connector 6"/>
          <p:cNvSpPr/>
          <p:nvPr/>
        </p:nvSpPr>
        <p:spPr>
          <a:xfrm>
            <a:off x="179280" y="3284640"/>
            <a:ext cx="883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TextBox 7"/>
          <p:cNvSpPr/>
          <p:nvPr/>
        </p:nvSpPr>
        <p:spPr>
          <a:xfrm rot="16200000">
            <a:off x="-420480" y="444816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TextBox 13"/>
          <p:cNvSpPr/>
          <p:nvPr/>
        </p:nvSpPr>
        <p:spPr>
          <a:xfrm rot="16200000">
            <a:off x="-240840" y="18565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6" name="Picture 6" descr=""/>
          <p:cNvPicPr/>
          <p:nvPr/>
        </p:nvPicPr>
        <p:blipFill>
          <a:blip r:embed="rId1"/>
          <a:stretch/>
        </p:blipFill>
        <p:spPr>
          <a:xfrm>
            <a:off x="1357200" y="907920"/>
            <a:ext cx="6599520" cy="2237040"/>
          </a:xfrm>
          <a:prstGeom prst="rect">
            <a:avLst/>
          </a:prstGeom>
          <a:ln w="0">
            <a:noFill/>
          </a:ln>
        </p:spPr>
      </p:pic>
      <p:pic>
        <p:nvPicPr>
          <p:cNvPr id="4507" name="Picture 7" descr=""/>
          <p:cNvPicPr/>
          <p:nvPr/>
        </p:nvPicPr>
        <p:blipFill>
          <a:blip r:embed="rId2"/>
          <a:stretch/>
        </p:blipFill>
        <p:spPr>
          <a:xfrm>
            <a:off x="1042920" y="3365640"/>
            <a:ext cx="7383600" cy="272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03:46Z</dcterms:created>
  <dc:creator>Fraunhofer HHI</dc:creator>
  <dc:description/>
  <dc:language>en-US</dc:language>
  <cp:lastModifiedBy>skupin</cp:lastModifiedBy>
  <dcterms:modified xsi:type="dcterms:W3CDTF">2013-10-24T12:49:08Z</dcterms:modified>
  <cp:revision>456</cp:revision>
  <dc:subject/>
  <dc:title>PowerPoint-Template für PPT2007</dc:title>
</cp:coreProperties>
</file>