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BC8E-0B1F-4B43-AFD5-F7EC1AFB8718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2915-EE66-4B12-9240-7C79A1405B0E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E502-0172-454E-8CCD-239EEA0E8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03B4-9DCC-4B99-8F67-09193B200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2C35-3FC6-44E6-914A-36996275B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F4C3-0C2F-4762-AE7F-7D7FC5059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2B60-0982-4A28-A7F2-02150696A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5645-60B8-4D9A-9D76-761BF7EEE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798E-50DD-4B37-AB77-EBA7B4BB0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11BD-869E-4424-AE92-7FF36ABB9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6E5C-5AF1-478A-82B2-82788C9FC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5911-00E0-484C-A4F4-C02829A8F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21A3-16EB-4345-BCA4-450E71CEA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2A37-645C-4037-9A60-55B8517F4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1CD-3E88-4D6A-975D-08506D120A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Clean-ups of parameter sets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O0141/JCT3V-F005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Oct.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 VPS extension, a number of syntax elements are present to carry layer-dependencies, scalability dimension identifiers, and other information to be helpful for session negoti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 extreme cases, e.g. full representation of 64 layers, the total bits of VPS NAL units are not negligible compared to the VCL NAL uni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t is desirable to have an option to skip most syntax elements and to infer them equal to their common values that are mostly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everal clean-ups and improvements of syntax in VPS and SPS are prop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0D7-DC81-4389-BA80-0EDB5B54BF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direct_dependency_flag in V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all_layer_independent_flag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is proposed.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_layer_independent_flag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al to 1 specifies that direct_dependency_flag[ i ][ j ] is not present and is inferred to be equal to 0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_layer_independent_flag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al to 0 specifies that direct_dependency_flag[ i ][ j ] is pres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E735-59AD-4716-8524-E8C5A4AA50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표 7" descr=""/>
          <p:cNvPicPr/>
          <p:nvPr/>
        </p:nvPicPr>
        <p:blipFill>
          <a:blip r:embed="rId1"/>
          <a:stretch/>
        </p:blipFill>
        <p:spPr>
          <a:xfrm>
            <a:off x="1212840" y="2571840"/>
            <a:ext cx="5907240" cy="1244520"/>
          </a:xfrm>
          <a:prstGeom prst="rect">
            <a:avLst/>
          </a:prstGeom>
          <a:ln w="0">
            <a:noFill/>
          </a:ln>
        </p:spPr>
      </p:pic>
      <p:sp>
        <p:nvSpPr>
          <p:cNvPr id="102" name="직사각형 8"/>
          <p:cNvSpPr/>
          <p:nvPr/>
        </p:nvSpPr>
        <p:spPr>
          <a:xfrm>
            <a:off x="428760" y="4000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hen all layers have no dependency, this flag can remove unnecessary syntax signaling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ll_layer_independent_flag is helpful for session negoti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direct_dependency_type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in V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rect_dep_type_present_fla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proposed.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present_flag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al to 1 indicates tha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len_minus2 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endency_type[ i ][ j ] are present.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present_flag equal to 0 indicates tha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len_minus2 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endency_type[ i ][ j ] are not present. When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present_flag is equal to 0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len_minus2 is inferred to be equal to 0, and direct_dependency_type[i][j] is inferred to be equal to 2. When not present,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present_flag is inferred to be equal to 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75C2-AF51-4B5C-B090-E64BA97556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직사각형 8"/>
          <p:cNvSpPr/>
          <p:nvPr/>
        </p:nvSpPr>
        <p:spPr>
          <a:xfrm>
            <a:off x="428760" y="40006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f all layers have the sam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direct_dependency_type[ i ][ j ]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equal to 2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direct_dependency_type[ i ][ j ] can be infer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In common cases of SHVC and MV-HEVC, sample pixel data and motion vector are referred to for inter-layer predic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표 9" descr=""/>
          <p:cNvPicPr/>
          <p:nvPr/>
        </p:nvPicPr>
        <p:blipFill>
          <a:blip r:embed="rId1"/>
          <a:stretch/>
        </p:blipFill>
        <p:spPr>
          <a:xfrm>
            <a:off x="1712880" y="3213000"/>
            <a:ext cx="5907240" cy="16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plitting_flag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in V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hen splitting_flag is equal to 1, vps_nuh_layer_id_present_flag shall be equal to 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s_nuh_layer_id_present_fla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to 1specifies that layer_id_in_nuh[ i ] for i from 0 to vps_max_layers_minus1, inclusive, are present. vps_nuh_layer_id_present_flag equal to 0 specifies that layer_id_in_nuh[ i ] for i from 0 to vps_max_layers_minus1, inclusive, are not present.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 not present, vps_nuh_layer_id_present is inferred to be equal to 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8F93-2B47-45C5-B2F8-976F7D9855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직사각형 8"/>
          <p:cNvSpPr/>
          <p:nvPr/>
        </p:nvSpPr>
        <p:spPr>
          <a:xfrm>
            <a:off x="500040" y="2786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f splitting_flag is equal to 1, nuh_layer_id cannot be incremented by 1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 enable the sparse distribution of nuh_layer_id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ayer_id_in_nuh[ i ] shall be signaled when splitting_flag is equal to 1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표 11" descr=""/>
          <p:cNvPicPr/>
          <p:nvPr/>
        </p:nvPicPr>
        <p:blipFill>
          <a:blip r:embed="rId1"/>
          <a:stretch/>
        </p:blipFill>
        <p:spPr>
          <a:xfrm>
            <a:off x="1500120" y="1712880"/>
            <a:ext cx="590724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plitting_flag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in V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ollowing constraint is removed or modified as follow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When i is greater than 0, layer_id_in_nuh[ i ] shall be greater than layer_id_in_nuh[ i – 1 ]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-&gt; When i is greater than 0 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</a:rPr>
              <a:t>and splitting_flag is equal to 0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, layer_id_in_nuh[ i ] shall be greater than layer_id_in_nuh[ i – 1 ]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_id_in_nuh[ i ]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value of the nuh_layer_id syntax element in VCL NAL units of the i-th layer. For i in the range of 0 to vps_max_layers_minus1, inclusive, when layer_id_in_nuh[ i ] is not present, the value is inferred to be equal to i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is greater than 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litting_flag is equal to 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yer_id_in_nuh[ i ] shall be greater than layer_id_in_nuh[ i – 1 ]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F9CC-868A-4211-9A5F-C1A7889BD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직사각형 8"/>
          <p:cNvSpPr/>
          <p:nvPr/>
        </p:nvSpPr>
        <p:spPr>
          <a:xfrm>
            <a:off x="500040" y="3429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hen splitting_flag is equal to 1 and multiple scalability dimensions are used, it is difficult to align the decoding order and the order of layer_id_in_nuh[ i ] values. Therefore, the constraint that layer_id_in_nuh[ i ] shall be greater than layer_id_in_nuh[ i – 1 ] shall be available only when splitting_flag is equal to 0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ayer_id_in_nuh[ i – 1 ] can be greater than layer_id[ i ], if splitting_flag is equal to 1. Then the decoding order is not determined by layer_id_in_nuh[ i ], but by the index in VP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le scalability typ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For a single scalability mode, in which NumScalabilityTypes is equal to 1, the following modification is propo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If NumScalabilityTypes is equal to 1, dimension_id[ i ][ j ] is not present and dimension_id[ i ][ 0 ] is inferred to be equal to layer_id_in_nuh[ i ]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- When only one dimension_id[ i ][ 0 ] is used, there is no reason to re-map layer_id_in_nuh[ i ] to dimension_id[ i ][ 0 ]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맑은 고딕"/>
              </a:rPr>
              <a:t>If NumScalabilityTypes is equal to 1, </a:t>
            </a:r>
            <a:r>
              <a:rPr b="0" lang="de-DE" sz="1600" spc="-1" strike="noStrike">
                <a:solidFill>
                  <a:srgbClr val="000066"/>
                </a:solidFill>
                <a:latin typeface="맑은 고딕"/>
              </a:rPr>
              <a:t>dimension_id_len_minus1[ j ]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is not present and </a:t>
            </a:r>
            <a:r>
              <a:rPr b="0" lang="de-DE" sz="1600" spc="-1" strike="noStrike">
                <a:solidFill>
                  <a:srgbClr val="000066"/>
                </a:solidFill>
                <a:latin typeface="맑은 고딕"/>
              </a:rPr>
              <a:t>dimension_id_len_minus1[ 0 ]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is inferred to be equal to 6.</a:t>
            </a:r>
            <a:br>
              <a:rPr sz="1600"/>
            </a:br>
            <a:r>
              <a:rPr b="0" lang="ko-KR" sz="1600" spc="-1" strike="noStrike">
                <a:solidFill>
                  <a:srgbClr val="000066"/>
                </a:solidFill>
                <a:latin typeface="맑은 고딕"/>
              </a:rPr>
              <a:t>- When only one dimension_id[ i ][ 0 ] is used, there is no reason to reset the length of dimension_id[ i ][ 0 ] to be equal to 6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1C8C-1E48-4596-A1FF-4ED7BB60C1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표 9" descr=""/>
          <p:cNvPicPr/>
          <p:nvPr/>
        </p:nvPicPr>
        <p:blipFill>
          <a:blip r:embed="rId1"/>
          <a:stretch/>
        </p:blipFill>
        <p:spPr>
          <a:xfrm>
            <a:off x="1285920" y="3998880"/>
            <a:ext cx="590688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ahoma"/>
              </a:rPr>
              <a:t>If nuh_layer_id is greater than 0,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s_max_num_reorder_pics[ i ] and sps_max_latency_increase_plus1[ i ] are not present in SPS, and inferred to be equal to vps_max_num_reorder_pics[ i ] and vps_max_latency_increase_plus1[ i ]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1DC8-5D24-4FEA-950B-9C39C1130B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500040" y="342900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hile the maximum DPB size can be different for each layer, the maximum number of reorder pictures and the maximum latency shall be unchanged with an access un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n SPS with nuh_layer_id greater than 0, sps_max_num_reorder_pics[ i ] and sps_max_latency_increase_plus1[ i ] are equal to those of an SPS with nuh_layer_id equal to 0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표 9" descr=""/>
          <p:cNvPicPr/>
          <p:nvPr/>
        </p:nvPicPr>
        <p:blipFill>
          <a:blip r:embed="rId1"/>
          <a:stretch/>
        </p:blipFill>
        <p:spPr>
          <a:xfrm>
            <a:off x="1427040" y="1925640"/>
            <a:ext cx="590724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C121-B569-45DD-8619-16C5C37330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3-10-21T08:41:23Z</dcterms:modified>
  <cp:revision>4609</cp:revision>
  <dc:subject/>
  <dc:title>Visual SNHC Tools</dc:title>
</cp:coreProperties>
</file>