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050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4060440" y="-360"/>
            <a:ext cx="30258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14120" y="790560"/>
            <a:ext cx="5056200" cy="37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5000" cy="458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713520"/>
            <a:ext cx="31050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060440" y="9713520"/>
            <a:ext cx="30258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새굴림"/>
                <a:ea typeface="새굴림"/>
              </a:defRPr>
            </a:lvl1pPr>
          </a:lstStyle>
          <a:p>
            <a: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3246-5BC5-4D59-AFD1-715088A0AE60}" type="slidenum">
              <a:rPr b="0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4060800" y="9713880"/>
            <a:ext cx="302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AECA-CAB8-4ACA-8131-0BE55C2F573C}" type="slidenum">
              <a:rPr b="1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01592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500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23678-2AF0-4C76-8B59-C1F4DAE32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DFFF-AA12-46FC-9D2C-F5BAD0216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EFC09-D34F-472B-B51E-07B082BA2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9D22C-D361-4DAB-9869-D6CD215304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04CA-2637-403C-BCCB-08530290C4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043DD-89BE-4D1C-9261-4CA555E4E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0C11C-6B15-4F69-8070-4CE745758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0C826-7929-41E8-96B7-DE01405889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CECF4-5B5D-4211-B0C5-7B45C522B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8A07A-2B31-44BA-BDCD-E34D8D67C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A3438-B83C-4761-9C4A-99F5E1A3A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24AC0-385F-40CE-B356-55C3F38AE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38120" y="652428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3B4A-9A2E-43D6-9968-B005A2C78D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2"/>
          <p:cNvSpPr/>
          <p:nvPr/>
        </p:nvSpPr>
        <p:spPr>
          <a:xfrm>
            <a:off x="28440" y="649116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50920" y="1562040"/>
            <a:ext cx="864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Extended layer identifier </a:t>
            </a:r>
            <a:br>
              <a:rPr sz="3200"/>
            </a:b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(JCTVC-O0137/JCT3V-F005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"/>
          <p:cNvSpPr/>
          <p:nvPr/>
        </p:nvSpPr>
        <p:spPr>
          <a:xfrm>
            <a:off x="252360" y="2781360"/>
            <a:ext cx="8639280" cy="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42800" y="3357720"/>
            <a:ext cx="83059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yeongdoo Cho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Samsung Electronics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., Lt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Oct., 20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Solution-2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h_layer_id (6bits) is replaced with ext_layer_id having more than 6bits, whe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yer_id_extension_flag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 VPS is equal to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CA" sz="1800" spc="-1" strike="noStrike">
                <a:solidFill>
                  <a:srgbClr val="000000"/>
                </a:solidFill>
                <a:latin typeface="Tahoma"/>
              </a:rPr>
              <a:t>layer_id_extension_flag 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 is equal to 1 and nuh_layer_id is equal to 6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Otherwis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C22B-DECB-4162-9481-9B216F1FCB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직사각형 14"/>
          <p:cNvSpPr/>
          <p:nvPr/>
        </p:nvSpPr>
        <p:spPr>
          <a:xfrm>
            <a:off x="642960" y="2428920"/>
            <a:ext cx="742932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t_layer_id (x bits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직사각형 15"/>
          <p:cNvSpPr/>
          <p:nvPr/>
        </p:nvSpPr>
        <p:spPr>
          <a:xfrm>
            <a:off x="642960" y="4273560"/>
            <a:ext cx="371484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h_layer_id (6bits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오른쪽 중괄호 17"/>
          <p:cNvSpPr/>
          <p:nvPr/>
        </p:nvSpPr>
        <p:spPr>
          <a:xfrm rot="5400000">
            <a:off x="4214160" y="-642600"/>
            <a:ext cx="285840" cy="742932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7429320"/>
              <a:gd name="textAreaBottom" fmla="*/ 7422120 h 742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"/>
                  <a:pt x="10800" y="69"/>
                </a:cubicBezTo>
                <a:lnTo>
                  <a:pt x="10800" y="10731"/>
                </a:lnTo>
                <a:cubicBezTo>
                  <a:pt x="10800" y="10766"/>
                  <a:pt x="16200" y="10800"/>
                  <a:pt x="21600" y="10800"/>
                </a:cubicBezTo>
                <a:cubicBezTo>
                  <a:pt x="16200" y="10800"/>
                  <a:pt x="10800" y="10835"/>
                  <a:pt x="10800" y="10869"/>
                </a:cubicBezTo>
                <a:lnTo>
                  <a:pt x="10800" y="21531"/>
                </a:lnTo>
                <a:cubicBezTo>
                  <a:pt x="10800" y="2156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18"/>
          <p:cNvSpPr/>
          <p:nvPr/>
        </p:nvSpPr>
        <p:spPr>
          <a:xfrm>
            <a:off x="3366720" y="32148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yerId (x bits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9"/>
          <p:cNvSpPr/>
          <p:nvPr/>
        </p:nvSpPr>
        <p:spPr>
          <a:xfrm>
            <a:off x="1580760" y="491652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yerId (6 bits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오른쪽 중괄호 20"/>
          <p:cNvSpPr/>
          <p:nvPr/>
        </p:nvSpPr>
        <p:spPr>
          <a:xfrm rot="5400000">
            <a:off x="2392920" y="3023280"/>
            <a:ext cx="214200" cy="3714840"/>
          </a:xfrm>
          <a:custGeom>
            <a:avLst/>
            <a:gdLst>
              <a:gd name="textAreaLeft" fmla="*/ 0 w 214200"/>
              <a:gd name="textAreaRight" fmla="*/ 77400 w 214200"/>
              <a:gd name="textAreaTop" fmla="*/ 5400 h 3714840"/>
              <a:gd name="textAreaBottom" fmla="*/ 3709440 h 371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2"/>
                  <a:pt x="10800" y="104"/>
                </a:cubicBezTo>
                <a:lnTo>
                  <a:pt x="10800" y="10696"/>
                </a:lnTo>
                <a:cubicBezTo>
                  <a:pt x="10800" y="10748"/>
                  <a:pt x="16200" y="10800"/>
                  <a:pt x="21600" y="10800"/>
                </a:cubicBezTo>
                <a:cubicBezTo>
                  <a:pt x="16200" y="10800"/>
                  <a:pt x="10800" y="10852"/>
                  <a:pt x="10800" y="10904"/>
                </a:cubicBezTo>
                <a:lnTo>
                  <a:pt x="10800" y="21496"/>
                </a:lnTo>
                <a:cubicBezTo>
                  <a:pt x="10800" y="2154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VPS in Solution-2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4F75-56FE-48A0-B24F-5F0FA64C30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0" y="3300120"/>
            <a:ext cx="9144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layer_id_extension_flag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equal to 1 indicates that the extra bits are assigned for layer identifiers to increase the maximum number of layers. layer_id_extension_flag equal to 0 indicates that the layer identifier extension is not used. If not present, layer_id_extension_flag is inferred to be equal to 0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xt_layer_id_len_minis1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plus1 specifies the number of bits to identify the extended layer identifiers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ext_max_layers_minus1 plus1 specifies the variable MaxNumLayers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if(layer_id_extension_flag)</a:t>
            </a:r>
            <a:br>
              <a:rPr sz="1400"/>
            </a:b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MaxNumLayers = ext_max_layers_minus1 + 1</a:t>
            </a:r>
            <a:br>
              <a:rPr sz="1400"/>
            </a:b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else</a:t>
            </a:r>
            <a:br>
              <a:rPr sz="1400"/>
            </a:b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MaxNumLayers = vps_max_layers_minus1 + 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ext_max_layer_i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ifies the maximum allowed value of the extended layer identifier of all NAL units in the CVS. If not present, ext_max_layer_id is inferred to be equal to vps_max_layer_i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표 8" descr=""/>
          <p:cNvPicPr/>
          <p:nvPr/>
        </p:nvPicPr>
        <p:blipFill>
          <a:blip r:embed="rId1"/>
          <a:stretch/>
        </p:blipFill>
        <p:spPr>
          <a:xfrm>
            <a:off x="1352520" y="1285920"/>
            <a:ext cx="5902200" cy="17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Slice in Solution-2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2B21-B489-48C1-8614-16CD23BAE5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142920" y="3296160"/>
            <a:ext cx="85723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ce_ext_layer_i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ifies the variable LayerId, when layer_id_extension_flag is equal to 1. If not present, slice_ext_layer_id is inferred to be equal to nuh_layer_i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if ( nuh_unit_type &lt; 3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if (layer_id_extension_flag 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LayerId =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slice_ext_layer_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LayerId = nuh_layer_i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표 9" descr=""/>
          <p:cNvPicPr/>
          <p:nvPr/>
        </p:nvPicPr>
        <p:blipFill>
          <a:blip r:embed="rId1"/>
          <a:stretch/>
        </p:blipFill>
        <p:spPr>
          <a:xfrm>
            <a:off x="1639800" y="1352520"/>
            <a:ext cx="5913360" cy="13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SPS in Solution-2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EAD8-D5DF-4EAB-8A00-A9B921268F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0" y="3301200"/>
            <a:ext cx="91440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sps_layer_id_extension_flag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equal to 1 indicates that the extra bits are assigned for layer identifiers to increase the maximum number of layers for sequence parameter set. sps_layer_id_extension_flag equal to 0 indicates that the layer identifier extension is not used for sequence parameter set. If not present, sps_layer_id_extension_flag is inferred to be equal to 0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ps_ext_layer_i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ifies the variable LayerId, when sps_layer_id_extension_flag is equal to 1. If not present, sps_ext_layer_id is inferred to be equal to nuh_layer_i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if ( nuh_unit_type =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S_NUT 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if ( sps_layer_id_extension_flag 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LayerId =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sps_ext_layer_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LayerId = nuh_layer_i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표 9" descr=""/>
          <p:cNvPicPr/>
          <p:nvPr/>
        </p:nvPicPr>
        <p:blipFill>
          <a:blip r:embed="rId1"/>
          <a:stretch/>
        </p:blipFill>
        <p:spPr>
          <a:xfrm>
            <a:off x="1427040" y="1139760"/>
            <a:ext cx="590724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PPS in Solution-2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489B-32AC-4E2F-B131-3AAE0551DD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0" y="3301200"/>
            <a:ext cx="91440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pps_layer_id_extension_flag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equal to 1 indicates that the extra bits are assigned for layer identifiers to increase the maximum number of layers for picture parameter set. pps_layer_id_extension_flag equal to 0 indicates that the layer identifier extension is not used for picture parameter set. If not present, pps_layer_id_extension_flag is inferred to be equal to 0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ps_ext_layer_i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ifies the variable LayerId, when pps_layer_id_extension_flag is equal to 1. If not present, pps_ext_layer_id is inferred to be equal to nuh_layer_i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if ( nuh_unit_type =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S_NUT 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if ( pps_layer_id_extension_flag 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LayerId =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pps_ext_layer_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LayerId = nuh_layer_i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표 8" descr=""/>
          <p:cNvPicPr/>
          <p:nvPr/>
        </p:nvPicPr>
        <p:blipFill>
          <a:blip r:embed="rId1"/>
          <a:stretch/>
        </p:blipFill>
        <p:spPr>
          <a:xfrm>
            <a:off x="1352520" y="1139760"/>
            <a:ext cx="5913360" cy="17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SEI message in Solution-2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087C-041D-4E94-8038-E54F1406B2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285840" y="3801240"/>
            <a:ext cx="85723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sei_layer_id_extension_flag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equal to 1 indicates that the extra bits are assigned for layer identifiers to increase the maximum number of layers for SEI message. sei_layer_id_extension_flag equal to 0 indicates that the layer identifier extension is not used for SEI message. If not present, sei_layer_id_extension_flag is inferred to be equal to nuh_layer_i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i_ext_layer_i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ifies the variable LayerId, when sei_layer_id_extension_flag is equal to 1. If not present, sei_ext_layer_id is inferred to be equal to 0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if ( nuh_unit_type =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FIX_SEI_NUT ||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nuh_unit_type =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FFIX_SEI_NUT 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if (sei_layer_id_extension_flag 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LayerId =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sei_ext_layer_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LayerId = nuh_layer_i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표 10" descr=""/>
          <p:cNvPicPr/>
          <p:nvPr/>
        </p:nvPicPr>
        <p:blipFill>
          <a:blip r:embed="rId1"/>
          <a:stretch/>
        </p:blipFill>
        <p:spPr>
          <a:xfrm>
            <a:off x="1427040" y="853920"/>
            <a:ext cx="5911920" cy="28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Two alternative solutions are propo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olution-1: Signaling extra LSB bits of nuh_layer_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olution-2: Replacement of nuh_layer_id with ext_layer_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ution-1 is preferable, because nuh_layer_id can indicate group of layers (GOL), when adjacent layers are grouped into a GO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ncept of GOL is applicable for carriage of auxiliary pictu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A GOL consists of a primary picture and the auxiliary pictures associated with the primary picture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When solution-1 is used, nuh_layer_id indicates each GOL, while ext_layer_id indicates the type of auxiliary pictures. 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super multiviews, adjacent views can be grouped into a group of views (GOV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A GOV can be identified by nuh_layer_id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</p:txBody>
      </p:sp>
      <p:sp>
        <p:nvSpPr>
          <p:cNvPr id="199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42E1-274F-4684-8898-FCA81D3B7A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1F10-E328-4FB7-8544-1BF1F72583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eeds of the feature to increase the maximum number of layers was agreed at the last meet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Extending nuh_layer_id (6bits) to represent more than 64 layers is desirable to cope with Super multi-views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The basic idea of the previous proposals (N0135/E0115 and N0355/E0092) is to signal the extra bits to be used as LSB bits of nuh_layer_i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B268-D628-419F-BD16-6516DD4A6A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572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als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Two alternative solutions are propos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lution-1: Signaling extra LSB bits of nuh_layer_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lution-2: Replacement of nuh_layer_id with ext_layer_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1A3F-536C-4D19-A952-CB7F5B5E95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Solution-1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ra LSB bits 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t_layer_i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of nuh_layer_id are signalled in slice headers, parameter set (SPS, PPS), and SEI messag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CA" sz="1800" spc="-1" strike="noStrike">
                <a:solidFill>
                  <a:srgbClr val="000000"/>
                </a:solidFill>
                <a:latin typeface="Tahoma"/>
              </a:rPr>
              <a:t>vps_layer_id_extension_flag 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 is equal to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Otherwis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09F1-812E-456A-9DC4-3B4B0EFE4A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그룹 16"/>
          <p:cNvGrpSpPr/>
          <p:nvPr/>
        </p:nvGrpSpPr>
        <p:grpSpPr>
          <a:xfrm>
            <a:off x="642960" y="2428920"/>
            <a:ext cx="7428960" cy="428760"/>
            <a:chOff x="642960" y="2428920"/>
            <a:chExt cx="7428960" cy="428760"/>
          </a:xfrm>
        </p:grpSpPr>
        <p:sp>
          <p:nvSpPr>
            <p:cNvPr id="108" name="직사각형 12"/>
            <p:cNvSpPr/>
            <p:nvPr/>
          </p:nvSpPr>
          <p:spPr>
            <a:xfrm>
              <a:off x="642960" y="2428920"/>
              <a:ext cx="371448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uh_layer_id (6bits)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직사각형 14"/>
            <p:cNvSpPr/>
            <p:nvPr/>
          </p:nvSpPr>
          <p:spPr>
            <a:xfrm>
              <a:off x="4357440" y="2428920"/>
              <a:ext cx="371448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xt_layer_id (x bits)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직사각형 15"/>
          <p:cNvSpPr/>
          <p:nvPr/>
        </p:nvSpPr>
        <p:spPr>
          <a:xfrm>
            <a:off x="642960" y="4344840"/>
            <a:ext cx="371484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h_layer_id (6bits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오른쪽 중괄호 17"/>
          <p:cNvSpPr/>
          <p:nvPr/>
        </p:nvSpPr>
        <p:spPr>
          <a:xfrm rot="5400000">
            <a:off x="4214160" y="-642600"/>
            <a:ext cx="285840" cy="742932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7429320"/>
              <a:gd name="textAreaBottom" fmla="*/ 7422120 h 742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"/>
                  <a:pt x="10800" y="69"/>
                </a:cubicBezTo>
                <a:lnTo>
                  <a:pt x="10800" y="10731"/>
                </a:lnTo>
                <a:cubicBezTo>
                  <a:pt x="10800" y="10766"/>
                  <a:pt x="16200" y="10800"/>
                  <a:pt x="21600" y="10800"/>
                </a:cubicBezTo>
                <a:cubicBezTo>
                  <a:pt x="16200" y="10800"/>
                  <a:pt x="10800" y="10835"/>
                  <a:pt x="10800" y="10869"/>
                </a:cubicBezTo>
                <a:lnTo>
                  <a:pt x="10800" y="21531"/>
                </a:lnTo>
                <a:cubicBezTo>
                  <a:pt x="10800" y="2156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18"/>
          <p:cNvSpPr/>
          <p:nvPr/>
        </p:nvSpPr>
        <p:spPr>
          <a:xfrm>
            <a:off x="3367800" y="321480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yerId (6+x bits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19"/>
          <p:cNvSpPr/>
          <p:nvPr/>
        </p:nvSpPr>
        <p:spPr>
          <a:xfrm>
            <a:off x="1580760" y="49878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yerId (6 bits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오른쪽 중괄호 20"/>
          <p:cNvSpPr/>
          <p:nvPr/>
        </p:nvSpPr>
        <p:spPr>
          <a:xfrm rot="5400000">
            <a:off x="2392560" y="3094560"/>
            <a:ext cx="214560" cy="3714840"/>
          </a:xfrm>
          <a:custGeom>
            <a:avLst/>
            <a:gdLst>
              <a:gd name="textAreaLeft" fmla="*/ 0 w 214560"/>
              <a:gd name="textAreaRight" fmla="*/ 77400 w 214560"/>
              <a:gd name="textAreaTop" fmla="*/ 5400 h 3714840"/>
              <a:gd name="textAreaBottom" fmla="*/ 3709440 h 371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2"/>
                  <a:pt x="10800" y="104"/>
                </a:cubicBezTo>
                <a:lnTo>
                  <a:pt x="10800" y="10696"/>
                </a:lnTo>
                <a:cubicBezTo>
                  <a:pt x="10800" y="10748"/>
                  <a:pt x="16200" y="10800"/>
                  <a:pt x="21600" y="10800"/>
                </a:cubicBezTo>
                <a:cubicBezTo>
                  <a:pt x="16200" y="10800"/>
                  <a:pt x="10800" y="10852"/>
                  <a:pt x="10800" y="10904"/>
                </a:cubicBezTo>
                <a:lnTo>
                  <a:pt x="10800" y="21496"/>
                </a:lnTo>
                <a:cubicBezTo>
                  <a:pt x="10800" y="2154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VPS in Solution-1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3371-7554-4EDD-BDA0-DA86FEFA5E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표 10" descr=""/>
          <p:cNvPicPr/>
          <p:nvPr/>
        </p:nvPicPr>
        <p:blipFill>
          <a:blip r:embed="rId1"/>
          <a:stretch/>
        </p:blipFill>
        <p:spPr>
          <a:xfrm>
            <a:off x="1352520" y="1427040"/>
            <a:ext cx="5902200" cy="17607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1"/>
          <p:cNvSpPr/>
          <p:nvPr/>
        </p:nvSpPr>
        <p:spPr>
          <a:xfrm>
            <a:off x="0" y="3300120"/>
            <a:ext cx="9144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vps_layer_id_extension_flag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equal to 1 indicates that the extra bits are assigned for layer identifiers to increase the maximum number of layers. vps_layer_id_extension_flag equal to 0 indicates that the layer identifier extension is not used. If not present, vps_layer_id_extension_flag is inferred to be equal to 0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num_layer_id_extension_bits_minus1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plus1 specifies the number of extra bit to identify layers more than 64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ext_max_layers_minus1 plus1 specifies the variable MaxNumLayers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if(layer_id_extension_flag)</a:t>
            </a:r>
            <a:br>
              <a:rPr sz="1400"/>
            </a:b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MaxNumLayers = ext_max_layers_minus1 + 1</a:t>
            </a:r>
            <a:br>
              <a:rPr sz="1400"/>
            </a:b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else</a:t>
            </a:r>
            <a:br>
              <a:rPr sz="1400"/>
            </a:b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MaxNumLayers = vps_max_layers_minus1 + 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ext_max_layer_i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ifies the maximum allowed value of the extended layer identifier of all NAL units in the CVS. If not present, ext_max_layer_id is inferred to be equal to vps_max_layer_i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Slice in Solution-1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2D85-2D9C-47E0-8594-14775C93DF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142920" y="3296160"/>
            <a:ext cx="85723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ce_ext_layer_i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ifies the variable LayerId, when vps_layer_id_extension_flag is equal to 1. If not present, slice_ext_layer_id is inferred to be equal to 0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if ( nuh_unit_type &lt; 3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if ( vps_layer_id_extension_flag 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LayerId = nuh_layer_id &lt;&lt; (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num_layer_id_extension_bits_minus1 + 1) + slice_ext_layer_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LayerId = nuh_layer_i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표 8" descr=""/>
          <p:cNvPicPr/>
          <p:nvPr/>
        </p:nvPicPr>
        <p:blipFill>
          <a:blip r:embed="rId1"/>
          <a:stretch/>
        </p:blipFill>
        <p:spPr>
          <a:xfrm>
            <a:off x="1639800" y="1352520"/>
            <a:ext cx="5913360" cy="13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SPS in Solution-1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05B1-BC2E-4DA0-AC9E-74A044611C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0" y="3300120"/>
            <a:ext cx="9144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sps_layer_id_extension_flag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equal to 1 indicates that the extra bits are assigned for layer identifiers to increase the maximum number of layers for sequence parameter set. sps_layer_id_extension_flag equal to 0 indicates that the layer identifier extension is not used for sequence parameter set. If not present, sps_layer_id_extension_flag is inferred to be equal to 0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ps_ext_layer_i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ifies the variable LayerId, when sps_layer_id_extension_flag is equal to 1. If not present, sps_ext_layer_id is inferred to be equal to 0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if ( nuh_unit_type =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S_NUT 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( sps_layer_id_extension_flag 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LayerId = nuh_layer_id &lt;&lt; (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num_layer_id_extension_bits_minus1 + 1) + sps_ext_layer_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LayerId = nuh_layer_i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표 8" descr=""/>
          <p:cNvPicPr/>
          <p:nvPr/>
        </p:nvPicPr>
        <p:blipFill>
          <a:blip r:embed="rId1"/>
          <a:stretch/>
        </p:blipFill>
        <p:spPr>
          <a:xfrm>
            <a:off x="1639800" y="1285920"/>
            <a:ext cx="590724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PPS in Solution-1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EB4B-57E8-493A-97B8-C790A4F98A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0" y="3300120"/>
            <a:ext cx="9144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pps_layer_id_extension_flag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equal to 1 indicates that the extra bits are assigned for layer identifiers to increase the maximum number of layers for picture parameter set. pps_layer_id_extension_flag equal to 0 indicates that the layer identifier extension is not used for picture parameter set. If not present, pps_layer_id_extension_flag is inferred to be equal to 0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ps_ext_layer_i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ifies the variable LayerId, when pps_layer_id_extension_flag is equal to 1. If not present, pps_ext_layer_id is inferred to be equal to 0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if ( nuh_unit_type =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S_NUT 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( pps_layer_id_extension_flag 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LayerId = nuh_layer_id &lt;&lt; (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num_layer_id_extension_bits_minus1 + 1) + pps_ext_layer_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LayerId = nuh_layer_i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표 9" descr=""/>
          <p:cNvPicPr/>
          <p:nvPr/>
        </p:nvPicPr>
        <p:blipFill>
          <a:blip r:embed="rId1"/>
          <a:stretch/>
        </p:blipFill>
        <p:spPr>
          <a:xfrm>
            <a:off x="1427040" y="1139760"/>
            <a:ext cx="5911920" cy="17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SEI message in Solution-1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A8E9-0891-4C18-8FA5-19ABDC9976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285840" y="3692880"/>
            <a:ext cx="85723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sei_layer_id_extension_flag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equal to 1 indicates that the extra bits are assigned for layer identifiers to increase the maximum number of layers for SEI message. sei_layer_id_extension_flag equal to 0 indicates that the layer identifier extension is not used for SEI message. If not present, sei_layer_id_extension_flag is inferred to be equal to 0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i_ext_layer_i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ifies the variable LayerId, when sei_layer_id_extension_flag is equal to 1. If not present, sei_ext_layer_id is inferred to be equal to 0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if ( nuh_unit_type =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FIX_SEI_NUT ||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nuh_unit_type =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FFIX_SEI_NUT 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(sei_layer_id_extension_flag 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LayerId = nuh_layer_id &lt;&lt; (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num_layer_id_extension_bits_minus1 + 1) + sei_ext_layer_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LayerId = nuh_layer_i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표 9" descr=""/>
          <p:cNvPicPr/>
          <p:nvPr/>
        </p:nvPicPr>
        <p:blipFill>
          <a:blip r:embed="rId1"/>
          <a:stretch/>
        </p:blipFill>
        <p:spPr>
          <a:xfrm>
            <a:off x="1712880" y="927000"/>
            <a:ext cx="5907240" cy="2816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7:35:44Z</dcterms:created>
  <dc:creator>윤승욱</dc:creator>
  <dc:description/>
  <dc:language>en-US</dc:language>
  <cp:lastModifiedBy>sec</cp:lastModifiedBy>
  <dcterms:modified xsi:type="dcterms:W3CDTF">2013-10-21T08:27:41Z</dcterms:modified>
  <cp:revision>4707</cp:revision>
  <dc:subject/>
  <dc:title>Visual SNHC Tools</dc:title>
</cp:coreProperties>
</file>