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949-887A-4015-BAD2-81B626BE1A09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30C2-36F2-4222-A04A-017527625C75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36F-52C2-4FCB-808A-A5ED21F55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3339-5F47-4F27-89B9-8D2EDEC65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E272-45E4-4E73-A11C-9F5716B18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2E1-5344-496F-8861-A8BCC7EDB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3642-AC51-4BA5-990C-CEE3CA842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1F8D-CF04-4ADF-BEE9-00F3520C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B813-6474-45F7-B107-518E53C8E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AA5B-08AA-424E-A9AE-18E13E23F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9E8B-0DEB-41FD-8A9A-6AB18ADB6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B408-ED6F-4AE5-B6E8-1FF9DF011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94C1-403B-4394-95E0-083709793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921D-8100-4F19-8C57-38E760E53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43A7-0A3C-459B-8E0A-EBBDF4E8E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Signalling decoded picture buffer size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6/JCT3V-F0049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Discussion on DPB oper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DPBs operat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Outputs of the decoded picture in AU will be align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n unused reference picture can be independently removed from DPB for each layer. </a:t>
            </a: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(already supported)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PB can be split into several sub-DPBs, e.g. for each layer or group of layers. Each sub-DPB may contain the decoded pictures having the same representation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Benefits: The buffers can be allocated more precisely in decoder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       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No other clear benefit is expect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ll sub-DPB or other partition of DPBs be specifi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f the only benefit of DPB partitioning is saving memories,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ignalling information helpful for DPB allocation is enough without a specific text regarding sub-DPB operation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practical implementations, DPB can be intelligently designed with the provided information over the specified DPB operation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094-8F68-444E-9C45-DEBA7658D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on DPB signalling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ree alternative syntax to indicate the maximum decoded buffer sizes are propos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DPB signalling for each operation point and for each representation format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DPB signaling for each operation point and additionally for each layer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Explicitly selecting the level of DPB signaling (hybrid of options 1&amp;2)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ssert that those syntax are helpful for session negotiation and decoder set-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lective signalling of DPB sizes (option-3) is preferable, due to the degree of freedom of DPB in practical implementa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47B-E5D0-4559-9FC4-F3A998340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1: DPB signalling for each operation poi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representation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imum DBP sizes for each operation points (layer set + temporal sub-layer) are signall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ssist the exact allocation of DPB according to representation formats, maximum DPB size for each representation format can be optionally signal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 layer_s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_format_idx_pres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fla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 equal to 1 indicates whether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_format_id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[ k ] is presen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_format_idx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[ k ] plus 1 specifies the maximum required size of the decoded picture buffer of the i-th layer set associated with the k-th representation forma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DC3-FB9E-460C-B7ED-A5E92EE31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7" descr=""/>
          <p:cNvPicPr/>
          <p:nvPr/>
        </p:nvPicPr>
        <p:blipFill>
          <a:blip r:embed="rId1"/>
          <a:stretch/>
        </p:blipFill>
        <p:spPr>
          <a:xfrm>
            <a:off x="1573200" y="2139840"/>
            <a:ext cx="589428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2: DPB signalling for each operation poi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for each layer of the operation poin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DPB operates in layer-wise, maximum DPB size for each layer of each operation point can be signalled opti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 layer_s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layer_present_fla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 equal to 1 indicates that max_dpb_size_for_layer_minus1[ i ][ j ][ k ] is presen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layer_minus1[ i ][ j ][ k 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k-th layer associated with the i-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A4A-E451-4861-B3BF-9F6B48F84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표 5" descr=""/>
          <p:cNvPicPr/>
          <p:nvPr/>
        </p:nvPicPr>
        <p:blipFill>
          <a:blip r:embed="rId1"/>
          <a:stretch/>
        </p:blipFill>
        <p:spPr>
          <a:xfrm>
            <a:off x="1573200" y="1573200"/>
            <a:ext cx="58942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3: Selecting the type of DPB signall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DPB behaving models, a desired DBP size information can be selectively deliver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_dpb_signal_present_flag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1indicates that max DPB size for each layer set and sub-layer is signaled. vps_dpb_signal_present_flag equal to 0 indicates that max DPB size for each layer set and sub-layer is not signal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b_signal_type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whether max_dpb_size_for_ rep_format_idx _minus1[ i ][ j ][ k ] or max_dpb_size_for_ layer_minus1 [ i ][ j ][ k ] is signaled or no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95E-8319-4375-8818-6DB5B33392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표 6" descr=""/>
          <p:cNvPicPr/>
          <p:nvPr/>
        </p:nvPicPr>
        <p:blipFill>
          <a:blip r:embed="rId1"/>
          <a:stretch/>
        </p:blipFill>
        <p:spPr>
          <a:xfrm>
            <a:off x="1712880" y="1352520"/>
            <a:ext cx="59007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84C-0449-4F10-A19E-1D3AC2C89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5:16Z</dcterms:modified>
  <cp:revision>4679</cp:revision>
  <dc:subject/>
  <dc:title>Visual SNHC Tools</dc:title>
</cp:coreProperties>
</file>