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05000" cy="47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4060440" y="-360"/>
            <a:ext cx="3025800" cy="47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14120" y="790560"/>
            <a:ext cx="5056200" cy="379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5440" y="4897440"/>
            <a:ext cx="5175000" cy="4581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9713520"/>
            <a:ext cx="3105000" cy="554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060440" y="9713520"/>
            <a:ext cx="3025800" cy="554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새굴림"/>
                <a:ea typeface="새굴림"/>
              </a:defRPr>
            </a:lvl1pPr>
          </a:lstStyle>
          <a:p>
            <a:pPr indent="0" algn="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6A5F-81F2-4909-9163-363A758E0B54}" type="slidenum">
              <a:rPr b="0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4060800" y="9713880"/>
            <a:ext cx="30258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5E789-7BB9-4F92-BDB8-F3EA48C00AC4}" type="slidenum">
              <a:rPr b="1" lang="en-US" sz="1200" spc="-1" strike="noStrike">
                <a:solidFill>
                  <a:srgbClr val="000000"/>
                </a:solidFill>
                <a:latin typeface="새굴림"/>
                <a:ea typeface="새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015920" y="790560"/>
            <a:ext cx="5056200" cy="37908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55440" y="4897440"/>
            <a:ext cx="5175000" cy="45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DB8E4-9CE7-4156-8E77-9E6C44A9B0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DDF7D-9C91-4620-9AC6-74F48E51A1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F7AFB-B322-41E4-A60A-8CBE8E8EE1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12365-0919-45B9-9101-6FF0D694B5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F8C01-BA41-4819-B598-4B7F80E123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988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7960" y="103320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144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988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7960" y="3655080"/>
            <a:ext cx="276948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57DAE-56A4-43BF-8713-38BAE2E68D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E9072-B145-4950-A3C2-2EB2EA43BA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F1C11-219B-4B30-99E5-AC6F54B45B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520" y="759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8B276-C5B9-499E-8C4D-1193BCD11A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8A71D-AEE6-425B-B385-BC21EEA40D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920" y="365508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18692-1C14-45B4-A948-A4965A4FDF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144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920" y="1033200"/>
            <a:ext cx="419724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71440" y="3655080"/>
            <a:ext cx="8601120" cy="23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C7D5F-D69D-4F61-937E-347F5338A1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Line 5"/>
          <p:cNvSpPr/>
          <p:nvPr/>
        </p:nvSpPr>
        <p:spPr>
          <a:xfrm>
            <a:off x="0" y="6477120"/>
            <a:ext cx="914400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4038120" y="6524280"/>
            <a:ext cx="838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46996-49BC-4FAA-9952-B3204C7117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22"/>
          <p:cNvSpPr/>
          <p:nvPr/>
        </p:nvSpPr>
        <p:spPr>
          <a:xfrm>
            <a:off x="28440" y="6491160"/>
            <a:ext cx="29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amsung Electronics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6600"/>
              </a:buClr>
              <a:buFont typeface="맑은 고딕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3"/>
          <p:cNvSpPr/>
          <p:nvPr/>
        </p:nvSpPr>
        <p:spPr>
          <a:xfrm>
            <a:off x="250920" y="1562040"/>
            <a:ext cx="86421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Carriage of auxiliary pictures</a:t>
            </a:r>
            <a:br>
              <a:rPr sz="3200"/>
            </a:br>
            <a:r>
              <a:rPr b="1" lang="en-CA" sz="3200" spc="-1" strike="noStrike">
                <a:solidFill>
                  <a:srgbClr val="000000"/>
                </a:solidFill>
                <a:latin typeface="Times New Roman"/>
              </a:rPr>
              <a:t>(JCTVC-O0135/JCT3V-F0048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2"/>
          <p:cNvSpPr/>
          <p:nvPr/>
        </p:nvSpPr>
        <p:spPr>
          <a:xfrm>
            <a:off x="252360" y="2781360"/>
            <a:ext cx="8639280" cy="0"/>
          </a:xfrm>
          <a:prstGeom prst="line">
            <a:avLst/>
          </a:prstGeom>
          <a:ln w="57240">
            <a:solidFill>
              <a:srgbClr val="2d2d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42800" y="3357720"/>
            <a:ext cx="830592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yeongdoo Cho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바탕체"/>
              </a:rPr>
              <a:t>Samsung Electronics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., Ltd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바탕체"/>
              </a:rPr>
              <a:t>Oct., 201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142920" y="75960"/>
            <a:ext cx="9501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Proposed constraints for options 1&amp;2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Content Placeholder 2" descr=""/>
          <p:cNvPicPr/>
          <p:nvPr/>
        </p:nvPicPr>
        <p:blipFill>
          <a:blip r:embed="rId1"/>
          <a:stretch/>
        </p:blipFill>
        <p:spPr>
          <a:xfrm>
            <a:off x="-6480" y="633240"/>
            <a:ext cx="9156960" cy="874260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D2888-B9D6-42C8-9104-F414235718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직사각형 8"/>
          <p:cNvSpPr/>
          <p:nvPr/>
        </p:nvSpPr>
        <p:spPr>
          <a:xfrm>
            <a:off x="428760" y="40006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142920" y="75960"/>
            <a:ext cx="9501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Tahoma"/>
              </a:rPr>
              <a:t>Proposed constraints for options 1&amp;2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-6480" y="633240"/>
            <a:ext cx="9156960" cy="924912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CC1A4-E0C1-4CBF-8A28-B44B032E5FD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직사각형 8"/>
          <p:cNvSpPr/>
          <p:nvPr/>
        </p:nvSpPr>
        <p:spPr>
          <a:xfrm>
            <a:off x="428760" y="40006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-142920" y="75960"/>
            <a:ext cx="9501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ffffff"/>
                </a:solidFill>
                <a:latin typeface="Tahoma"/>
              </a:rPr>
              <a:t>Modifications of default_one_target_output_layer_flag semantics (for Option-2)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Content Placeholder 2" descr=""/>
          <p:cNvPicPr/>
          <p:nvPr/>
        </p:nvPicPr>
        <p:blipFill>
          <a:blip r:embed="rId1"/>
          <a:stretch/>
        </p:blipFill>
        <p:spPr>
          <a:xfrm>
            <a:off x="-6480" y="633240"/>
            <a:ext cx="9156960" cy="7510680"/>
          </a:xfrm>
          <a:prstGeom prst="rect">
            <a:avLst/>
          </a:prstGeom>
          <a:ln w="0">
            <a:noFill/>
          </a:ln>
        </p:spPr>
      </p:pic>
      <p:sp>
        <p:nvSpPr>
          <p:cNvPr id="168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EE15-7664-47BF-AE03-55488EACB6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직사각형 8"/>
          <p:cNvSpPr/>
          <p:nvPr/>
        </p:nvSpPr>
        <p:spPr>
          <a:xfrm>
            <a:off x="428760" y="40006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ank you 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8A9D-253B-4810-9634-092B8E3605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Outline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71440" y="1033200"/>
            <a:ext cx="8601120" cy="50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Needs of carriage of auxiliary picture were discussed. One promising solution is proposed by JCTVC-O0041(Nokia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Two alternative solutions of carriage of auxiliary pi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맑은 고딕"/>
              </a:rPr>
              <a:t>With new NAL unit type (proposed): </a:t>
            </a:r>
            <a:r>
              <a:rPr b="1" lang="en-CA" sz="1800" spc="-1" strike="noStrike">
                <a:solidFill>
                  <a:srgbClr val="000066"/>
                </a:solidFill>
                <a:latin typeface="맑은 고딕"/>
              </a:rPr>
              <a:t>Option-1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맑은 고딕"/>
              </a:rPr>
              <a:t>With new scalability dimension (Nokia, JCTVC-O0041): </a:t>
            </a:r>
            <a:r>
              <a:rPr b="1" lang="en-CA" sz="1800" spc="-1" strike="noStrike">
                <a:solidFill>
                  <a:srgbClr val="000066"/>
                </a:solidFill>
                <a:latin typeface="맑은 고딕"/>
              </a:rPr>
              <a:t>Option-2</a:t>
            </a:r>
            <a:r>
              <a:rPr b="0" lang="en-CA" sz="1800" spc="-1" strike="noStrike">
                <a:solidFill>
                  <a:srgbClr val="000066"/>
                </a:solidFill>
                <a:latin typeface="맑은 고딕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ments of options 1&amp;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맑은 고딕"/>
              </a:rPr>
              <a:t>Indication of used auxiliary pictures for each layer : </a:t>
            </a:r>
            <a:r>
              <a:rPr b="1" lang="en-CA" sz="1800" spc="-1" strike="noStrike">
                <a:solidFill>
                  <a:srgbClr val="000066"/>
                </a:solidFill>
                <a:latin typeface="맑은 고딕"/>
              </a:rPr>
              <a:t>for Option-1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66"/>
                </a:solidFill>
                <a:latin typeface="맑은 고딕"/>
              </a:rPr>
              <a:t>Grouped signalling of layer dependencies : </a:t>
            </a:r>
            <a:r>
              <a:rPr b="1" lang="en-CA" sz="1800" spc="-1" strike="noStrike">
                <a:solidFill>
                  <a:srgbClr val="000066"/>
                </a:solidFill>
                <a:latin typeface="맑은 고딕"/>
              </a:rPr>
              <a:t>for Option-2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Constraints for Options 1&amp;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Modification of default_one_target_output_layer_flag  </a:t>
            </a:r>
            <a:r>
              <a:rPr b="1" lang="en-CA" sz="1800" spc="-1" strike="noStrike">
                <a:solidFill>
                  <a:srgbClr val="000000"/>
                </a:solidFill>
                <a:latin typeface="Tahoma"/>
              </a:rPr>
              <a:t>for Option-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슬라이드 번호 개체 틀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37F6-AB1C-4E41-83A9-609EEDEA58A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8572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Solution-1 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71440" y="914400"/>
            <a:ext cx="86011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A nal_unit_type, namely AUX_NUT, is assigned to indicate auxiliary pictures. The types of auxiliary pictures are signalled in slice headers of VCL NAL unit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847B-6E6B-4AD1-9C97-9132580DB2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표 9" descr=""/>
          <p:cNvPicPr/>
          <p:nvPr/>
        </p:nvPicPr>
        <p:blipFill>
          <a:blip r:embed="rId1"/>
          <a:stretch/>
        </p:blipFill>
        <p:spPr>
          <a:xfrm>
            <a:off x="566640" y="1852560"/>
            <a:ext cx="7723440" cy="19638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0"/>
          <p:cNvSpPr/>
          <p:nvPr/>
        </p:nvSpPr>
        <p:spPr>
          <a:xfrm>
            <a:off x="2500200" y="164304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Table 7‑1 – NAL unit type codes and NAL unit type classes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표 11" descr=""/>
          <p:cNvPicPr/>
          <p:nvPr/>
        </p:nvPicPr>
        <p:blipFill>
          <a:blip r:embed="rId2"/>
          <a:stretch/>
        </p:blipFill>
        <p:spPr>
          <a:xfrm>
            <a:off x="212760" y="4071960"/>
            <a:ext cx="5432400" cy="197496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12"/>
          <p:cNvSpPr/>
          <p:nvPr/>
        </p:nvSpPr>
        <p:spPr>
          <a:xfrm>
            <a:off x="6072120" y="4000680"/>
            <a:ext cx="214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Times New Roman"/>
              </a:rPr>
              <a:t>aux_id </a:t>
            </a: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specifies the type </a:t>
            </a:r>
            <a:br>
              <a:rPr sz="1400"/>
            </a:br>
            <a:r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of auxiliary pictures.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786280" y="4572000"/>
          <a:ext cx="3071880" cy="1523880"/>
        </p:xfrm>
        <a:graphic>
          <a:graphicData uri="http://schemas.openxmlformats.org/drawingml/2006/table">
            <a:tbl>
              <a:tblPr/>
              <a:tblGrid>
                <a:gridCol w="928800"/>
                <a:gridCol w="21430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aux_i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auxiliary picture typ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Primary pictur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Depth map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Alpha map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맑은 고딕"/>
                        </a:rPr>
                        <a:t>Enhanced chrom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8572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ahoma"/>
              </a:rPr>
              <a:t>Solution-1 (alternative) </a:t>
            </a:r>
            <a:endParaRPr b="1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71440" y="914400"/>
            <a:ext cx="86011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Multiple NAL unit types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n be </a:t>
            </a:r>
            <a:r>
              <a:rPr b="0" lang="ko-KR" sz="1800" spc="-1" strike="noStrike">
                <a:solidFill>
                  <a:srgbClr val="000000"/>
                </a:solidFill>
                <a:latin typeface="Tahoma"/>
              </a:rPr>
              <a:t>allocated for indicating various auxiliary picture types. </a:t>
            </a:r>
            <a:br>
              <a:rPr sz="1800"/>
            </a:b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B285-E099-43CA-9B65-51C98F6D29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표 14" descr=""/>
          <p:cNvPicPr/>
          <p:nvPr/>
        </p:nvPicPr>
        <p:blipFill>
          <a:blip r:embed="rId1"/>
          <a:stretch/>
        </p:blipFill>
        <p:spPr>
          <a:xfrm>
            <a:off x="1285920" y="1427040"/>
            <a:ext cx="5932440" cy="27972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"/>
          <p:cNvSpPr/>
          <p:nvPr/>
        </p:nvSpPr>
        <p:spPr>
          <a:xfrm>
            <a:off x="1857240" y="4362840"/>
            <a:ext cx="4643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( nal_unit_type &gt; 40 &amp;&amp; nal_unit_type &lt; 44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AuxId = nal_unit_type – 4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AuxId = 0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9001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omparison of two alternative methods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71440" y="914400"/>
            <a:ext cx="860112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51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Our suggestion is the first option (NAL unit type indication), but both are applicable to carry auxiliary pictur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 option-1: NAL unit typ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맑은 고딕"/>
              </a:rPr>
              <a:t>Pros: 1) From a nuh_layer_id without mapping to scalability dimensions, the </a:t>
            </a:r>
            <a:r>
              <a:rPr b="1" lang="en-US" sz="1600" spc="-1" strike="noStrike">
                <a:solidFill>
                  <a:srgbClr val="000066"/>
                </a:solidFill>
                <a:latin typeface="맑은 고딕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맑은 고딕"/>
              </a:rPr>
              <a:t>corresponding auxiliary pictures of a primary picture can be identified.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616680" indent="-2372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맑은 고딕"/>
              </a:rPr>
              <a:t>Pros: 2) The layer dependency information is more efficiently represented </a:t>
            </a:r>
            <a:r>
              <a:rPr b="1" lang="en-US" sz="1600" spc="-1" strike="noStrike">
                <a:solidFill>
                  <a:srgbClr val="000066"/>
                </a:solidFill>
                <a:latin typeface="맑은 고딕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맑은 고딕"/>
              </a:rPr>
              <a:t>by signalling only dependencies between primary pictures. 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616680" indent="-2372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맑은 고딕"/>
              </a:rPr>
              <a:t>Pros: 3) Auxiliary pictures with the corresponding primary picture in DPB are </a:t>
            </a:r>
            <a:r>
              <a:rPr b="1" lang="en-US" sz="1600" spc="-1" strike="noStrike">
                <a:solidFill>
                  <a:srgbClr val="000066"/>
                </a:solidFill>
                <a:latin typeface="맑은 고딕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맑은 고딕"/>
              </a:rPr>
              <a:t>synchronously handled.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616680" indent="-2372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맑은 고딕"/>
              </a:rPr>
              <a:t>Pros: 4) Many NAL unit types are reserved, while nuh_layer_id (6 bits) is not </a:t>
            </a:r>
            <a:r>
              <a:rPr b="1" lang="en-US" sz="1600" spc="-1" strike="noStrike">
                <a:solidFill>
                  <a:srgbClr val="000066"/>
                </a:solidFill>
                <a:latin typeface="맑은 고딕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맑은 고딕"/>
              </a:rPr>
              <a:t>enough to represent multiple scalability dimensions.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616680" indent="-2372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맑은 고딕"/>
              </a:rPr>
              <a:t>Pros: 5) A single layer bitstream with auxiliary pictures is available</a:t>
            </a:r>
            <a:r>
              <a:rPr b="0" lang="en-US" sz="1600" spc="-1" strike="noStrike">
                <a:solidFill>
                  <a:srgbClr val="000066"/>
                </a:solidFill>
                <a:latin typeface="맑은 고딕"/>
              </a:rPr>
              <a:t>. 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marL="284400" indent="-28440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499"/>
              </a:spcBef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 option-2: Scalability dimension (same as described in </a:t>
            </a: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JCTVC-O004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맑은 고딕"/>
              </a:rPr>
              <a:t>Pros: 1) Easy bitstream extraction is possible with nuh_layer_id.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616680" indent="-2372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맑은 고딕"/>
              </a:rPr>
              <a:t>Pros: 2) The presence of auxiliary pictures are indicated in VPS.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616680" indent="-2372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맑은 고딕"/>
              </a:rPr>
              <a:t>Pros: 3) No NAL unit type is burned.</a:t>
            </a:r>
            <a:endParaRPr b="0" lang="en-US" sz="1600" spc="-1" strike="noStrike">
              <a:solidFill>
                <a:srgbClr val="000066"/>
              </a:solidFill>
              <a:latin typeface="맑은 고딕"/>
            </a:endParaRPr>
          </a:p>
          <a:p>
            <a:pPr lvl="1" marL="616680" indent="-23724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맑은 고딕"/>
              </a:rPr>
              <a:t>Pros: 4) D</a:t>
            </a:r>
            <a:r>
              <a:rPr b="1" lang="en-CA" sz="1600" spc="-1" strike="noStrike">
                <a:solidFill>
                  <a:srgbClr val="000066"/>
                </a:solidFill>
                <a:latin typeface="맑은 고딕"/>
              </a:rPr>
              <a:t>ecoders can choose the CPB HRD parameters with or without auxiliary pictures.</a:t>
            </a:r>
            <a:br>
              <a:rPr sz="1800"/>
            </a:br>
            <a:r>
              <a:rPr b="1" lang="en-CA" sz="1800" spc="-1" strike="noStrike">
                <a:solidFill>
                  <a:srgbClr val="000066"/>
                </a:solidFill>
                <a:latin typeface="맑은 고딕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맑은 고딕"/>
            </a:endParaRPr>
          </a:p>
          <a:p>
            <a:pPr marL="28440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1FFAA-C3A8-4B7F-90A8-A170915A03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직사각형 8"/>
          <p:cNvSpPr/>
          <p:nvPr/>
        </p:nvSpPr>
        <p:spPr>
          <a:xfrm>
            <a:off x="428760" y="40006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142920" y="75960"/>
            <a:ext cx="9501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Tahoma"/>
              </a:rPr>
              <a:t>Indication of auxiliary picture types for each layer in VPS (for options-1)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Content Placeholder 2" descr=""/>
          <p:cNvPicPr/>
          <p:nvPr/>
        </p:nvPicPr>
        <p:blipFill>
          <a:blip r:embed="rId1"/>
          <a:stretch/>
        </p:blipFill>
        <p:spPr>
          <a:xfrm>
            <a:off x="-6480" y="633240"/>
            <a:ext cx="9156960" cy="7120080"/>
          </a:xfrm>
          <a:prstGeom prst="rect">
            <a:avLst/>
          </a:prstGeom>
          <a:ln w="0">
            <a:noFill/>
          </a:ln>
        </p:spPr>
      </p:pic>
      <p:sp>
        <p:nvSpPr>
          <p:cNvPr id="123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A98E-2C1B-45B5-B1A5-2F4FC35B7F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직사각형 8"/>
          <p:cNvSpPr/>
          <p:nvPr/>
        </p:nvSpPr>
        <p:spPr>
          <a:xfrm>
            <a:off x="428760" y="40006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표 8" descr=""/>
          <p:cNvPicPr/>
          <p:nvPr/>
        </p:nvPicPr>
        <p:blipFill>
          <a:blip r:embed="rId2"/>
          <a:stretch/>
        </p:blipFill>
        <p:spPr>
          <a:xfrm>
            <a:off x="1639800" y="1852560"/>
            <a:ext cx="5907240" cy="290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142920" y="75960"/>
            <a:ext cx="9501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Tahoma"/>
              </a:rPr>
              <a:t>Grouped signalling of layer dependencies in VPS (for option-2)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Content Placeholder 2" descr=""/>
          <p:cNvPicPr/>
          <p:nvPr/>
        </p:nvPicPr>
        <p:blipFill>
          <a:blip r:embed="rId1"/>
          <a:stretch/>
        </p:blipFill>
        <p:spPr>
          <a:xfrm>
            <a:off x="-6480" y="633240"/>
            <a:ext cx="9156960" cy="8791920"/>
          </a:xfrm>
          <a:prstGeom prst="rect">
            <a:avLst/>
          </a:prstGeom>
          <a:ln w="0">
            <a:noFill/>
          </a:ln>
        </p:spPr>
      </p:pic>
      <p:sp>
        <p:nvSpPr>
          <p:cNvPr id="131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7E4F-7DCD-42CF-8D01-D0531E336C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직사각형 8"/>
          <p:cNvSpPr/>
          <p:nvPr/>
        </p:nvSpPr>
        <p:spPr>
          <a:xfrm>
            <a:off x="428760" y="40006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142920" y="75960"/>
            <a:ext cx="9501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Tahoma"/>
              </a:rPr>
              <a:t>Grouped signalling of layer dependencies in VPS (for option-2)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Content Placeholder 2" descr=""/>
          <p:cNvPicPr/>
          <p:nvPr/>
        </p:nvPicPr>
        <p:blipFill>
          <a:blip r:embed="rId1"/>
          <a:stretch/>
        </p:blipFill>
        <p:spPr>
          <a:xfrm>
            <a:off x="-6480" y="633240"/>
            <a:ext cx="9156960" cy="5578560"/>
          </a:xfrm>
          <a:prstGeom prst="rect">
            <a:avLst/>
          </a:prstGeom>
          <a:ln w="0">
            <a:noFill/>
          </a:ln>
        </p:spPr>
      </p:pic>
      <p:sp>
        <p:nvSpPr>
          <p:cNvPr id="138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EA62-4556-467D-8F31-62598F814E4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직사각형 8"/>
          <p:cNvSpPr/>
          <p:nvPr/>
        </p:nvSpPr>
        <p:spPr>
          <a:xfrm>
            <a:off x="428760" y="40006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표 8" descr=""/>
          <p:cNvPicPr/>
          <p:nvPr/>
        </p:nvPicPr>
        <p:blipFill>
          <a:blip r:embed="rId2"/>
          <a:stretch/>
        </p:blipFill>
        <p:spPr>
          <a:xfrm>
            <a:off x="1427040" y="1000080"/>
            <a:ext cx="6504120" cy="48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142920" y="75960"/>
            <a:ext cx="9501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ff"/>
                </a:solidFill>
                <a:latin typeface="Tahoma"/>
              </a:rPr>
              <a:t>Grouped signalling of layer dependencies in VPS (for option-2)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Content Placeholder 2" descr=""/>
          <p:cNvPicPr/>
          <p:nvPr/>
        </p:nvPicPr>
        <p:blipFill>
          <a:blip r:embed="rId1"/>
          <a:stretch/>
        </p:blipFill>
        <p:spPr>
          <a:xfrm>
            <a:off x="-6480" y="633240"/>
            <a:ext cx="9156960" cy="5578560"/>
          </a:xfrm>
          <a:prstGeom prst="rect">
            <a:avLst/>
          </a:prstGeom>
          <a:ln w="0">
            <a:noFill/>
          </a:ln>
        </p:spPr>
      </p:pic>
      <p:sp>
        <p:nvSpPr>
          <p:cNvPr id="146" name="Slide Number Placeholder 3"/>
          <p:cNvSpPr/>
          <p:nvPr/>
        </p:nvSpPr>
        <p:spPr>
          <a:xfrm>
            <a:off x="4038480" y="6524640"/>
            <a:ext cx="838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3A096-569A-48DD-B93F-697C0BAFE3D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직사각형 8"/>
          <p:cNvSpPr/>
          <p:nvPr/>
        </p:nvSpPr>
        <p:spPr>
          <a:xfrm>
            <a:off x="428760" y="40006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"/>
          <p:cNvSpPr/>
          <p:nvPr/>
        </p:nvSpPr>
        <p:spPr>
          <a:xfrm>
            <a:off x="285840" y="1314000"/>
            <a:ext cx="857232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s_aux_picture_use_fla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l to 1 specifies that an auxiliary picture is present in a bitstream, and aux_mask_flag[i] is present in VPS. vps_aux_picture_use_flag equal to 0 specifiest hat an auxiliary picture is not present in a bitstream, and aux_mask_flag is inferred equal to 0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x_mask_flag [ i ]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l to 1 indicates that auxiliary pictures with the i-th auxiliay picture type are present in a bitstream. aux_mask_flag [ i ] equal to 0 indicates that auxiliary pictures with the i-th auxialiary picture type are not present in a bitstream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ps_aux_picture_grouped_fla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qual to 1 specifies that the nuh_layer_id of the i-th auxiliary pictures associated with a primary picture with nuh_layer_id equal to k is equal to (k+i). The auxiliary pictures have the same layer dependencies as the corresponding primary pictures. vps_aux_picture_grouped_flag equal to 0 specifies that the above restriction may or may not apply. If not present, vps_aux_picture_grouped_flag is inferred to be equal to 0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 NumDirectRefLayers[ i ],and RefLayerId[ i ][ j ]SamplePredEnabledFlag[ i ][ j ], MotionPredEnabledFlag[ i ][ j ] and 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DirectRefLayerIdx[ i ][ j ]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derived as follows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for( i = 0; i &lt;= vps_max_layers_minus1; i += NumGroupLayers ) {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for( k = 0; k &lt; NumGroupLayers; k++ ) {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  iNuhLId = layer_id_in_nuh[ i ] + k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  NumDirectRefLayers[ iNuhLId ] = 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  for( j = 0; j &lt; i; j++ 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    if( direct_dependency_flag[ i ][ j ] ){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 RefLayerId[ iNuhLId ][ NumDirectRefLayers[ iNuhLId ]++ ] = layer_id_in_nuh[ j ] + k</a:t>
            </a:r>
            <a:br>
              <a:rPr sz="1200"/>
            </a:br>
            <a:r>
              <a:rPr b="0" lang="en-CA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SamplePredEnabledFlag[ iNuhLId ][ j ] = (( direct_dependency_type[ i ][ j ] + 1 ) &amp; 1 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MotionPredEnabledFlag[ iNuhLId ][ j ] = ((( direct_dependency_type[ i ][ j ] + 1 ) &amp; 2 ) &gt;&gt; 1 )</a:t>
            </a:r>
            <a:br>
              <a:rPr sz="1200"/>
            </a:br>
            <a:r>
              <a:rPr b="0" lang="en-CA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DirectRefLayerIdx[ iNuhLid ][ layer_id_in_nuh[ j ]+k] = NumDirectRefLayers[ iNuhLId ]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–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 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	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    }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07:35:44Z</dcterms:created>
  <dc:creator>윤승욱</dc:creator>
  <dc:description/>
  <dc:language>en-US</dc:language>
  <cp:lastModifiedBy>sec</cp:lastModifiedBy>
  <dcterms:modified xsi:type="dcterms:W3CDTF">2013-10-21T08:24:32Z</dcterms:modified>
  <cp:revision>4690</cp:revision>
  <dc:subject/>
  <dc:title>Visual SNHC Tools</dc:title>
</cp:coreProperties>
</file>