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A16-8EB3-4229-BF44-E976AFFE4F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D1D-5F30-4E5C-8364-4D16A40FB29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C78-49EE-451C-B0D5-A294612D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5AD-6AFF-4740-B042-B60C8F4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982-5A7D-4452-B8E5-6E778842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FC1-35FB-4664-ABF2-442CFC2F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9D9-3809-44F0-A4EC-541DB803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A06-5034-4AFD-8C2E-35DBD669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246C-417A-412E-8033-216491A4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6A38-F46A-4763-8401-3616B4B9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0BD-EAF5-41D6-8B67-946EAEC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15E-C797-41B7-BE2A-1FACD346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FAE6-EB75-4516-BD51-81D76FF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1D3-D5DA-42E8-899A-D8C3219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2B8-DE8E-4B7C-AC42-7AE47F8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54D-E3EB-486C-A2D1-8E505E6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0AAC-85DE-4D13-A3C1-40B81AD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2FB-DAF9-42EB-A62B-16F740B2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B5AB-C934-4A9C-8C8C-CB85AA09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6110-79E4-4E58-906C-0BFAD028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70D0-473C-4D0C-A03E-3FE7887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B7F2-8D78-4138-9553-E928EE5A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B3DF-3A7B-429C-94BF-F1DB3EB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C246-3B60-42F3-9188-91BA50A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416-62DF-47C7-8046-11F64CA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77D-9AB7-4667-BF45-7EA55662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DA7A-16B5-437A-A23E-3B6F600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40A3-9E05-45FD-97A1-8F1B025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3C84-B46C-4FBF-847C-AB32512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F864-3826-45D1-8553-AD4998F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A877-EEAC-4957-BD1F-C07FF610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FF11-6BE6-4434-902D-FABF7AA7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D006-0A04-4713-A613-0A53D00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F45A-5B09-4C5E-89C4-3BA40C82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B75E-F97F-4E13-A275-3E6C0C9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0A6-9A7F-4E67-B157-7D6543D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ACAF-4888-4937-950A-593990C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0D52-F541-4691-BCC3-8784945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75B5-845A-4960-9548-C54D935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3E1E-94E0-4708-9A5C-BF48B59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5C0C-60CE-460B-B2FF-1CE4233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FC1A-2E54-4A5A-88B6-F6404D4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2123-7982-4E2F-8F64-C5BB952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2A1B-5B6D-4C1C-91B0-E4662AED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BEA7-9AA5-44A8-916E-1E985D0F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069D-3D95-4DCE-9CB3-384659F8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68B-A550-4DF0-9259-3459A26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068E-F4D0-4461-9655-FFC4EF6C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9FBE-3305-4D57-883B-5E239EC9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90603-F32D-42D2-9CB6-3B46AE6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E5BA-B0A3-410C-8A91-9D437685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40F2-BD0F-40E2-8B84-F62E8311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F7E7-2602-4BF4-89CC-6EC40F1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D3AE2-3968-4F21-BD71-1CB67EE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1F23-9AAE-4611-9EEB-9C54CB1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1F91-CB2B-40D0-9A08-42234A1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5F8D-26A9-42E0-A2A4-4EEA089B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2C8-778E-460B-992F-0F5F9642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1E4A-3EE4-46CD-BCC9-EB2B24BF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628B-7729-4C68-97ED-9C9BDBAD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324F-2A1B-4417-9632-7D14D6F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3985-AC0C-4BB0-AC00-77A20036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CE52-C30A-4643-87AC-F86A6048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77D1-590F-4612-A465-D7DC8A9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F6FD-AED9-4C06-A517-2508FEC6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F584-0142-4960-8FE4-50B4C92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17B8-FDFA-4E9B-BD50-6229428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73EE9-08BE-49AE-96B6-B3F3EF5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D70-1F5C-400D-B384-5D304EE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08F9-2EB0-48A3-9783-5FDFC27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7A7D-6F1A-459D-BC9B-C753AF91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6D1B-E16D-476F-8312-BFEB1510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EDE1-9020-4F18-8D0B-562F6625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452F-A4BC-4B62-BFA5-898F3D70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134FD-81B6-400D-8F75-EC2586D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4C59-52F4-457F-AD96-F9934908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682E-4616-486C-BE52-C617795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3C24-EDEE-4D34-AB5B-CDBE74D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5228B-2873-4633-A317-AA086A1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1F5-1BD1-4709-829F-9BA5C7C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3D31-D0D2-46E4-B91D-70B695A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6F8F-E20C-488D-8476-22BCCBA1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8114C-C270-4527-AB57-3C26685E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D7D2-A5B1-40E8-84C0-023DFC0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3D7D-A8CE-4FB3-8AC2-996BB94C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0BB2D-E742-4889-8D8C-C25810CB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83EC3-4F82-4691-BDE5-8FE2AAA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35E5-8460-4CD9-8EC4-9858B56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E28C-7CE1-4D7D-A7D9-DFA3522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A388-ABFC-4061-83A9-3DB59F1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E92-52A8-4886-B0B3-66FE18C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A5AA-43EB-49C4-9AAA-611B73B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51139-A367-4E84-A950-6DA176D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8EBB-13C3-451C-A2B3-5A56AED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BEFE4-D6BF-401F-A877-CAD4433A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03845-8C2F-4DB4-B2E4-5B36773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2BF6D-55EB-42BC-8515-485A5759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A1BA-2B34-4865-974E-F3AA36BB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36F5-B6EA-4E1E-B793-659202615C54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64C-3019-47A6-8AF8-0B0DDFD4297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03D-2169-4712-904F-0B5A4097A47F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8F7-A5E3-4B9A-8E29-1873FCE4A13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7635960" y="6237360"/>
            <a:ext cx="1512720" cy="620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255E-B088-4102-9F51-2ABEEE4717A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60B-28FC-446E-AEE9-DA1B8083A344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5E0-1786-46B9-B6F4-280317E9F9E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6C6-ED46-4D42-A53D-EA555AC23F9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63A-66F2-4B87-BCAE-7BF392FCB582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A09-6DDB-4AC4-873A-902AF2EEF8F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5B74-72DF-409F-B4C5-9B1C5032F223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B21-C06C-4C55-95D9-68CB73D5DD8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09B-005B-4907-A990-BC86E51D4900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8D34-D97A-4DEA-A7C0-CF1E5844FD0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788-B9EC-48DA-B317-9B055BBC625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399-F8BC-4E79-8CBA-A947A0D5DCC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맑은 고딕"/>
              </a:rPr>
              <a:t>JCT3V-E0227</a:t>
            </a:r>
            <a:br>
              <a:rPr sz="2400"/>
            </a:br>
            <a:r>
              <a:rPr b="1" lang="en-CA" sz="3600" spc="-1" strike="noStrike">
                <a:solidFill>
                  <a:srgbClr val="000000"/>
                </a:solidFill>
                <a:latin typeface="맑은 고딕"/>
              </a:rPr>
              <a:t>Inter-view MAD prediction for rate control of 3D multi-view video coding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W. Lim, H. Jo, J. Yoo, I.V. Bajić and D. S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KWU and SFU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247-8CF7-45BD-BF5D-E22506705528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error in the actual bitrate (%) in R-lambda model-based rate control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F7D7-46C9-43F4-9577-AF26CE233D6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50920" y="1952640"/>
          <a:ext cx="8661240" cy="4500720"/>
        </p:xfrm>
        <a:graphic>
          <a:graphicData uri="http://schemas.openxmlformats.org/drawingml/2006/table">
            <a:tbl>
              <a:tblPr/>
              <a:tblGrid>
                <a:gridCol w="1427040"/>
                <a:gridCol w="905040"/>
                <a:gridCol w="903240"/>
                <a:gridCol w="904680"/>
                <a:gridCol w="905040"/>
                <a:gridCol w="903240"/>
                <a:gridCol w="903240"/>
                <a:gridCol w="905040"/>
                <a:gridCol w="904680"/>
              </a:tblGrid>
              <a:tr h="53964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R-lambda model-based rate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R-lambda model-based rate control + the proposed meth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38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performance in R-lambda model-based rate control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EAE-A33A-4363-9BA1-67622E4B4F1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925560" y="1773360"/>
          <a:ext cx="7632720" cy="4032000"/>
        </p:xfrm>
        <a:graphic>
          <a:graphicData uri="http://schemas.openxmlformats.org/drawingml/2006/table">
            <a:tbl>
              <a:tblPr/>
              <a:tblGrid>
                <a:gridCol w="1668240"/>
                <a:gridCol w="2981520"/>
                <a:gridCol w="2982960"/>
              </a:tblGrid>
              <a:tr h="58572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drate of R-lambda only vs. R-lambda + the 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4.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6.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8.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5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6.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error in the actual bitrate (%) in URQ model-based rate control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4EF1-BC9F-4B11-B386-2C07DCB2B48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0920" y="1952640"/>
          <a:ext cx="8661240" cy="4500720"/>
        </p:xfrm>
        <a:graphic>
          <a:graphicData uri="http://schemas.openxmlformats.org/drawingml/2006/table">
            <a:tbl>
              <a:tblPr/>
              <a:tblGrid>
                <a:gridCol w="1427040"/>
                <a:gridCol w="905040"/>
                <a:gridCol w="903240"/>
                <a:gridCol w="904680"/>
                <a:gridCol w="905040"/>
                <a:gridCol w="903240"/>
                <a:gridCol w="903240"/>
                <a:gridCol w="905040"/>
                <a:gridCol w="904680"/>
              </a:tblGrid>
              <a:tr h="53964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URQ model-based rate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URQ model-based rate control +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the proposed meth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36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38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3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performance in URQ model-based rate control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5CB-393C-4FBD-802F-41AF7E82098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25560" y="1773360"/>
          <a:ext cx="7632720" cy="4032000"/>
        </p:xfrm>
        <a:graphic>
          <a:graphicData uri="http://schemas.openxmlformats.org/drawingml/2006/table">
            <a:tbl>
              <a:tblPr/>
              <a:tblGrid>
                <a:gridCol w="1668240"/>
                <a:gridCol w="2981520"/>
                <a:gridCol w="2982960"/>
              </a:tblGrid>
              <a:tr h="58572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drate of URQ only vs. URQ+ the 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.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-wise accumulated virtual buffer occupancy in R-lambda model-based rate control ca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 (black) : only R-lambda or URQ model-based rate control is use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 (red) : R-lambda or URQ model-based rate control is used with the proposed inter-view MAD predi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5627-5485-4B78-8144-628E1691A63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R-lambda / Dancer / extended views / Random Access / R2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DA6-3886-46B2-B1F2-E21944EC61B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468360" y="4275000"/>
            <a:ext cx="8207280" cy="24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URQ / Dancer / extended views / Random Access / R2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615-5798-4537-ADC9-1255D24E81F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68360" y="4255920"/>
            <a:ext cx="820728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d two methods to improve rate control of extended views in multi-view video coding based on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rate alloca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AD prediction for the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208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methods can be used with any rate control algorithms that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s on the prediction of to-be-generated bits from MAD or other error metrics, including the newly adopted R-lambda model-based algorithm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208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experimental results are crosschecked by KHU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208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3</a:t>
            </a:r>
            <a:r>
              <a:rPr b="0" lang="en-CA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eting in Geneva, we proposed the same algorith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supports, no objec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son why it is not adopted is there was no implementation of rate control in reference softwar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proposed algorithms are implemented in HTM7.0_r1 based on HTM-DEV0.3 and our previous implementa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2080" indent="-271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rovide the source cod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208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commend the proposed methods to be adopted to the current rate control for multi-view video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AB6-C854-45F8-88A2-01ECF6CC124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of multiple videos acquired by cameras with translated position at the same tim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e view is compatible to the single-view video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ded views are with the inter-view prediction to exploit high correlation between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vide view scalability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is important in the practical use of video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Q (Unified Rate-Distortion) model-based rate control and R-lambda model-based rate control in HEVC reference softwar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ulti-view extension of HEVC, no implementation of rate control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the last meeting in Incheon, HTM_DEV0.3 with rate control was released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re is no rate control in current HTM7.0_r1 ye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257-0217-4B44-89EF-C712061C047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vious research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Q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, and I. V. Bajić, “Rate control based on unified RQ model for HEVC,” JCT-VC of ITU-T SG16 WP3 and ISO/IEC JTC1/SC29/WG11, JCT-VC H0213 (m23088), San Jos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, USA, Feb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, and I. V. Bajić, “Improvement of the rate control based on pixel-based URQ model for HEVC,” JCT-VC of ITU-T SG16 WP3 and ISO/IEC JTC1/SC29/WG11, JCTVC-I0094 (m24333), Geneva, Switzerland, Apr.-May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view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Choi, J. Nam, H. Jo, D. Sim and I. Bajić, “Rate control for 3D multi-view video coding,” JCT3V of ITU-T SG16 WP3 and ISO/IEC JTC1/SC29/WG11, JCT3V-A0151, Stockholm, Sweden, Jul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Choi, J. Nam, H. Jo, D. Sim and I. Bajić, “Improvement of the rate control for 3D multi-view video coding,” JCT3V of ITU-T SG16 WP3 and ISO/IEC JTC1/SC29/WG11, JCT3V-B0030, Shanghai, China, Oct. 2012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D. Sim and I. Bajić, “Improvement of the rate control for 3D multi-view video coding,” JCT3V of ITU-T SG16 WP3 and ISO/IEC JTC1/SC29/WG11, JCT3V-C0090, Geneva, CH, Jan. 20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Jo, D. Sim and I. Bajić, “The rate control schemes for 3D multi-view video coding,” JCT3V of ITU-T SG16 WP3 and ISO/IEC JTC1/SC29/WG11, JCT3V-D0111, Incheon, KR, Apr. 20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E63-78F2-44E7-A0AF-81806E5C70E4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method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rate alloc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to be configured for the various applications of multi-view video cod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ulti-view video services for the clients not only with multi-view display but also with single-view display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onsideration of the diverse display, the quality of the base view is important and it must be controlled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AD predi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e view among the multiple views is compatible to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rate control algorithms are suitabl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ded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d not only with the intra and temporal prediction in HEVC but also with the inter-view predic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ast motion or scene change, temporal correlation will be decreased but inter-view correlation won’t be decreased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D3D-AD05-49CF-8A99-EEC20C357136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rate control for HEVC-based multi-view coding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the rate control performance, we propo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rate alloc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187-C867-4ACC-AFB1-CD0AF34ED9F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직사각형 33"/>
          <p:cNvSpPr/>
          <p:nvPr/>
        </p:nvSpPr>
        <p:spPr>
          <a:xfrm>
            <a:off x="3209760" y="5557680"/>
            <a:ext cx="2397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VC with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te control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xtended view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53" name="직선 화살표 연결선 34"/>
          <p:cNvCxnSpPr>
            <a:stCxn id="354" idx="3"/>
            <a:endCxn id="352" idx="1"/>
          </p:cNvCxnSpPr>
          <p:nvPr/>
        </p:nvCxnSpPr>
        <p:spPr>
          <a:xfrm>
            <a:off x="2893680" y="5970240"/>
            <a:ext cx="31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직사각형 35"/>
          <p:cNvSpPr/>
          <p:nvPr/>
        </p:nvSpPr>
        <p:spPr>
          <a:xfrm>
            <a:off x="1800360" y="5764320"/>
            <a:ext cx="1093680" cy="41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arget bitrat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직사각형 36"/>
          <p:cNvSpPr/>
          <p:nvPr/>
        </p:nvSpPr>
        <p:spPr>
          <a:xfrm>
            <a:off x="3209760" y="3728880"/>
            <a:ext cx="2397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VC with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te control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ase view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직사각형 37"/>
          <p:cNvSpPr/>
          <p:nvPr/>
        </p:nvSpPr>
        <p:spPr>
          <a:xfrm>
            <a:off x="3519360" y="4826160"/>
            <a:ext cx="939960" cy="458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D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57" name="직선 화살표 연결선 38"/>
          <p:cNvCxnSpPr>
            <a:endCxn id="356" idx="0"/>
          </p:cNvCxnSpPr>
          <p:nvPr/>
        </p:nvCxnSpPr>
        <p:spPr>
          <a:xfrm flipH="1">
            <a:off x="3989160" y="4552560"/>
            <a:ext cx="21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직선 화살표 연결선 39"/>
          <p:cNvCxnSpPr>
            <a:stCxn id="356" idx="2"/>
          </p:cNvCxnSpPr>
          <p:nvPr/>
        </p:nvCxnSpPr>
        <p:spPr>
          <a:xfrm>
            <a:off x="3989520" y="5284800"/>
            <a:ext cx="21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직사각형 40"/>
          <p:cNvSpPr/>
          <p:nvPr/>
        </p:nvSpPr>
        <p:spPr>
          <a:xfrm>
            <a:off x="5397480" y="2997360"/>
            <a:ext cx="939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D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60" name="꺾인 연결선 41"/>
          <p:cNvCxnSpPr>
            <a:stCxn id="361" idx="3"/>
            <a:endCxn id="359" idx="2"/>
          </p:cNvCxnSpPr>
          <p:nvPr/>
        </p:nvCxnSpPr>
        <p:spPr>
          <a:xfrm flipV="1">
            <a:off x="5606640" y="3454200"/>
            <a:ext cx="261000" cy="48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꺾인 연결선 42"/>
          <p:cNvCxnSpPr>
            <a:stCxn id="359" idx="1"/>
            <a:endCxn id="363" idx="0"/>
          </p:cNvCxnSpPr>
          <p:nvPr/>
        </p:nvCxnSpPr>
        <p:spPr>
          <a:xfrm flipV="1" rot="10800000">
            <a:off x="4928400" y="3224880"/>
            <a:ext cx="469080" cy="50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직사각형 43"/>
          <p:cNvSpPr/>
          <p:nvPr/>
        </p:nvSpPr>
        <p:spPr>
          <a:xfrm>
            <a:off x="6442200" y="2997360"/>
            <a:ext cx="938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mount of bits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직사각형 44"/>
          <p:cNvSpPr/>
          <p:nvPr/>
        </p:nvSpPr>
        <p:spPr>
          <a:xfrm>
            <a:off x="5294160" y="3728880"/>
            <a:ext cx="312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직사각형 45"/>
          <p:cNvSpPr/>
          <p:nvPr/>
        </p:nvSpPr>
        <p:spPr>
          <a:xfrm>
            <a:off x="5294160" y="4140360"/>
            <a:ext cx="312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66" name="꺾인 연결선 46"/>
          <p:cNvCxnSpPr>
            <a:stCxn id="365" idx="3"/>
            <a:endCxn id="364" idx="2"/>
          </p:cNvCxnSpPr>
          <p:nvPr/>
        </p:nvCxnSpPr>
        <p:spPr>
          <a:xfrm flipV="1">
            <a:off x="5606640" y="3454200"/>
            <a:ext cx="1304280" cy="892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직사각형 47"/>
          <p:cNvSpPr/>
          <p:nvPr/>
        </p:nvSpPr>
        <p:spPr>
          <a:xfrm>
            <a:off x="4772160" y="3728880"/>
            <a:ext cx="312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직사각형 48"/>
          <p:cNvSpPr/>
          <p:nvPr/>
        </p:nvSpPr>
        <p:spPr>
          <a:xfrm>
            <a:off x="3833640" y="3728880"/>
            <a:ext cx="312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68" name="꺾인 연결선 49"/>
          <p:cNvCxnSpPr>
            <a:stCxn id="364" idx="0"/>
            <a:endCxn id="367" idx="0"/>
          </p:cNvCxnSpPr>
          <p:nvPr/>
        </p:nvCxnSpPr>
        <p:spPr>
          <a:xfrm rot="5400000">
            <a:off x="5083560" y="1902600"/>
            <a:ext cx="732240" cy="2921760"/>
          </a:xfrm>
          <a:prstGeom prst="bentConnector3">
            <a:avLst>
              <a:gd name="adj1" fmla="val -39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직사각형 50"/>
          <p:cNvSpPr/>
          <p:nvPr/>
        </p:nvSpPr>
        <p:spPr>
          <a:xfrm>
            <a:off x="4772160" y="5557680"/>
            <a:ext cx="312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직사각형 51"/>
          <p:cNvSpPr/>
          <p:nvPr/>
        </p:nvSpPr>
        <p:spPr>
          <a:xfrm>
            <a:off x="5397480" y="4826160"/>
            <a:ext cx="93996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mount of bits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71" name="꺾인 연결선 52"/>
          <p:cNvCxnSpPr>
            <a:stCxn id="370" idx="1"/>
            <a:endCxn id="369" idx="0"/>
          </p:cNvCxnSpPr>
          <p:nvPr/>
        </p:nvCxnSpPr>
        <p:spPr>
          <a:xfrm flipV="1" rot="10800000">
            <a:off x="4928400" y="5053680"/>
            <a:ext cx="469080" cy="50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꺾인 연결선 53"/>
          <p:cNvCxnSpPr>
            <a:stCxn id="352" idx="3"/>
            <a:endCxn id="370" idx="2"/>
          </p:cNvCxnSpPr>
          <p:nvPr/>
        </p:nvCxnSpPr>
        <p:spPr>
          <a:xfrm flipV="1">
            <a:off x="5606640" y="5284080"/>
            <a:ext cx="2610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직선 화살표 연결선 54"/>
          <p:cNvCxnSpPr>
            <a:stCxn id="374" idx="3"/>
            <a:endCxn id="355" idx="1"/>
          </p:cNvCxnSpPr>
          <p:nvPr/>
        </p:nvCxnSpPr>
        <p:spPr>
          <a:xfrm flipV="1">
            <a:off x="2893680" y="4139640"/>
            <a:ext cx="31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직사각형 55"/>
          <p:cNvSpPr/>
          <p:nvPr/>
        </p:nvSpPr>
        <p:spPr>
          <a:xfrm>
            <a:off x="1800360" y="3935520"/>
            <a:ext cx="1093680" cy="41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arget bitrat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rate alloc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rate alloc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function to configure the target bitrate for each view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nabled or disabled as an encoding issu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can use the conventional URQ and R-lambda model-based rate control algorith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BitAssign’ : If the value is equal to 1, view-wise target bitrate allocation is enabled. If the value is equal to 0, view-wise target bitrate allocation is disable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WiseTargetBits’ : If view-wise target bitrate allocation is on, values are target bitrate for each view along the coding order (the units are bps for R-lambda model-based rate control and Kbps for URQ model-based rate control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9228-A78A-4FA6-9033-E4626CF1366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직사각형 1"/>
          <p:cNvSpPr/>
          <p:nvPr/>
        </p:nvSpPr>
        <p:spPr>
          <a:xfrm>
            <a:off x="1160640" y="3141720"/>
            <a:ext cx="770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TargetBitAssign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: 1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# Manual assignment of target bit-rat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ViewWiseTargetBit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: 934 356 366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# View-wise target bit-rate sett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select a QP value for the current CTU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te control algorithm needs to predict the MAD value of the current CTU using previously encoded inform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ngle-view rate control, this is done by using the MAD of a collocated block in the reference frame (temporal MAD prediction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may work well in the case of low mo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MAD prediction is less accura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motion level incr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becomes completely unreliable in case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 chang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61D-1969-4733-9C0B-DB698A410CFF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view MAD predi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rate control algorith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temporal distance becomes further, the temporal correlation will be decreased not only in case of moving objects but also in case of camera panning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84" name="직선 화살표 연결선 5"/>
          <p:cNvCxnSpPr/>
          <p:nvPr/>
        </p:nvCxnSpPr>
        <p:spPr>
          <a:xfrm>
            <a:off x="1147320" y="6357600"/>
            <a:ext cx="796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직선 화살표 연결선 6"/>
          <p:cNvCxnSpPr/>
          <p:nvPr/>
        </p:nvCxnSpPr>
        <p:spPr>
          <a:xfrm flipV="1">
            <a:off x="1147320" y="2540880"/>
            <a:ext cx="1080" cy="381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86" name="그림 7" descr=""/>
          <p:cNvPicPr/>
          <p:nvPr/>
        </p:nvPicPr>
        <p:blipFill>
          <a:blip r:embed="rId1"/>
          <a:stretch/>
        </p:blipFill>
        <p:spPr>
          <a:xfrm>
            <a:off x="1309680" y="2759040"/>
            <a:ext cx="2901960" cy="16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그림 8" descr=""/>
          <p:cNvPicPr/>
          <p:nvPr/>
        </p:nvPicPr>
        <p:blipFill>
          <a:blip r:embed="rId2"/>
          <a:stretch/>
        </p:blipFill>
        <p:spPr>
          <a:xfrm>
            <a:off x="1309680" y="4479840"/>
            <a:ext cx="2901960" cy="163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8" name="그림 9" descr=""/>
          <p:cNvPicPr/>
          <p:nvPr/>
        </p:nvPicPr>
        <p:blipFill>
          <a:blip r:embed="rId3"/>
          <a:stretch/>
        </p:blipFill>
        <p:spPr>
          <a:xfrm>
            <a:off x="6084720" y="2757600"/>
            <a:ext cx="293076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9" name="그림 10" descr=""/>
          <p:cNvPicPr/>
          <p:nvPr/>
        </p:nvPicPr>
        <p:blipFill>
          <a:blip r:embed="rId4"/>
          <a:stretch/>
        </p:blipFill>
        <p:spPr>
          <a:xfrm>
            <a:off x="6084720" y="4479840"/>
            <a:ext cx="29307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0" name="직사각형 11"/>
          <p:cNvSpPr/>
          <p:nvPr/>
        </p:nvSpPr>
        <p:spPr>
          <a:xfrm>
            <a:off x="7596360" y="3549600"/>
            <a:ext cx="2887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직사각형 12"/>
          <p:cNvSpPr/>
          <p:nvPr/>
        </p:nvSpPr>
        <p:spPr>
          <a:xfrm>
            <a:off x="2819520" y="3551400"/>
            <a:ext cx="287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직사각형 13"/>
          <p:cNvSpPr/>
          <p:nvPr/>
        </p:nvSpPr>
        <p:spPr>
          <a:xfrm>
            <a:off x="7616880" y="5281560"/>
            <a:ext cx="2872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393" name="구부러진 연결선 14"/>
          <p:cNvCxnSpPr>
            <a:stCxn id="391" idx="0"/>
            <a:endCxn id="390" idx="0"/>
          </p:cNvCxnSpPr>
          <p:nvPr/>
        </p:nvCxnSpPr>
        <p:spPr>
          <a:xfrm flipH="1" flipV="1" rot="5400000">
            <a:off x="5350320" y="1161360"/>
            <a:ext cx="2520" cy="4777560"/>
          </a:xfrm>
          <a:prstGeom prst="curvedConnector5">
            <a:avLst>
              <a:gd name="adj1" fmla="val 14966666"/>
              <a:gd name="adj2" fmla="val 50000"/>
              <a:gd name="adj3" fmla="val 14966666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94" name="구부러진 연결선 15"/>
          <p:cNvCxnSpPr>
            <a:stCxn id="392" idx="3"/>
            <a:endCxn id="390" idx="3"/>
          </p:cNvCxnSpPr>
          <p:nvPr/>
        </p:nvCxnSpPr>
        <p:spPr>
          <a:xfrm flipH="1" flipV="1">
            <a:off x="7884360" y="3693240"/>
            <a:ext cx="19800" cy="1732680"/>
          </a:xfrm>
          <a:prstGeom prst="curvedConnector5">
            <a:avLst>
              <a:gd name="adj1" fmla="val -1127777"/>
              <a:gd name="adj2" fmla="val 50000"/>
              <a:gd name="adj3" fmla="val -112777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TextBox 16"/>
          <p:cNvSpPr/>
          <p:nvPr/>
        </p:nvSpPr>
        <p:spPr>
          <a:xfrm>
            <a:off x="4829760" y="317664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4876560" y="494496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TextBox 18"/>
          <p:cNvSpPr/>
          <p:nvPr/>
        </p:nvSpPr>
        <p:spPr>
          <a:xfrm>
            <a:off x="4174920" y="2814480"/>
            <a:ext cx="19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AD from temporally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collocated block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6927480" y="3900600"/>
            <a:ext cx="191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MAD from inter-view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corresponding block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15480" y="349236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xtended 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TextBox 21"/>
          <p:cNvSpPr/>
          <p:nvPr/>
        </p:nvSpPr>
        <p:spPr>
          <a:xfrm>
            <a:off x="258480" y="52164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 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715680" y="240336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8872200" y="6319800"/>
            <a:ext cx="2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7104960" y="3259080"/>
            <a:ext cx="124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맑은 고딕"/>
              </a:rPr>
              <a:t>The current unit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BD36-BE7F-4AAB-913A-4E8C61C53D8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900000" y="1252440"/>
            <a:ext cx="6985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ipsl</cp:lastModifiedBy>
  <cp:lastPrinted>2011-07-17T23:54:03Z</cp:lastPrinted>
  <dcterms:modified xsi:type="dcterms:W3CDTF">2013-07-27T15:41:10Z</dcterms:modified>
  <cp:revision>333</cp:revision>
  <dc:subject/>
  <dc:title>PowerPoint 프레젠테이션</dc:title>
</cp:coreProperties>
</file>