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B70-AF5B-447D-A282-8624820AA7F3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F01-B58D-4C8B-9734-BD2AE14385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CDC-7EAB-439F-A912-F788C1D8B83B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1C86-A46E-431A-94A4-EC04F32DB4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32CC046-01A7-4464-B173-A397DA4AE33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79C2E48-73BE-4410-AEFF-5E7561BA9B0B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743200" y="3137040"/>
            <a:ext cx="6985080" cy="26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CT3V-E0226: Modification of Binaryzation for Depth Intra Mode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u Chen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35966B0-F4BB-4FAE-922B-DFCA2977682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6840" y="1983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CTC) (anchor is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modify on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23920" y="2487600"/>
          <a:ext cx="6276960" cy="4680000"/>
        </p:xfrm>
        <a:graphic>
          <a:graphicData uri="http://schemas.openxmlformats.org/drawingml/2006/table">
            <a:tbl>
              <a:tblPr/>
              <a:tblGrid>
                <a:gridCol w="947880"/>
                <a:gridCol w="887400"/>
                <a:gridCol w="888840"/>
                <a:gridCol w="887760"/>
                <a:gridCol w="888840"/>
                <a:gridCol w="887400"/>
                <a:gridCol w="888840"/>
              </a:tblGrid>
              <a:tr h="876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3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矩形 6"/>
          <p:cNvSpPr/>
          <p:nvPr/>
        </p:nvSpPr>
        <p:spPr>
          <a:xfrm>
            <a:off x="800280" y="1407960"/>
            <a:ext cx="2016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99ff"/>
                </a:solidFill>
                <a:latin typeface="Arial"/>
              </a:rPr>
              <a:t>Solution1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827B500-8A41-4A03-B650-6522D4FA946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6840" y="1983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CTC) (anchor is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modify on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13120" y="2487600"/>
          <a:ext cx="6276960" cy="4680000"/>
        </p:xfrm>
        <a:graphic>
          <a:graphicData uri="http://schemas.openxmlformats.org/drawingml/2006/table">
            <a:tbl>
              <a:tblPr/>
              <a:tblGrid>
                <a:gridCol w="947520"/>
                <a:gridCol w="887400"/>
                <a:gridCol w="889200"/>
                <a:gridCol w="887400"/>
                <a:gridCol w="888840"/>
                <a:gridCol w="887400"/>
                <a:gridCol w="889200"/>
              </a:tblGrid>
              <a:tr h="876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9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矩形 6"/>
          <p:cNvSpPr/>
          <p:nvPr/>
        </p:nvSpPr>
        <p:spPr>
          <a:xfrm>
            <a:off x="809640" y="1407960"/>
            <a:ext cx="1665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99ff"/>
                </a:solidFill>
                <a:latin typeface="Arial"/>
              </a:rPr>
              <a:t>Solution2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F419F5D-A3BD-40DA-A187-32768CAEE57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6840" y="1983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13120" y="2487600"/>
          <a:ext cx="6276960" cy="4680000"/>
        </p:xfrm>
        <a:graphic>
          <a:graphicData uri="http://schemas.openxmlformats.org/drawingml/2006/table">
            <a:tbl>
              <a:tblPr/>
              <a:tblGrid>
                <a:gridCol w="947520"/>
                <a:gridCol w="887400"/>
                <a:gridCol w="889200"/>
                <a:gridCol w="887400"/>
                <a:gridCol w="888840"/>
                <a:gridCol w="887400"/>
                <a:gridCol w="889200"/>
              </a:tblGrid>
              <a:tr h="876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1" name="矩形 6"/>
          <p:cNvSpPr/>
          <p:nvPr/>
        </p:nvSpPr>
        <p:spPr>
          <a:xfrm>
            <a:off x="809640" y="1407960"/>
            <a:ext cx="1665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99ff"/>
                </a:solidFill>
                <a:latin typeface="Arial"/>
              </a:rPr>
              <a:t>Solution1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9460281-0C4A-419E-B282-D31A3AB9EB8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6840" y="1983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13120" y="2487600"/>
          <a:ext cx="6276960" cy="4680000"/>
        </p:xfrm>
        <a:graphic>
          <a:graphicData uri="http://schemas.openxmlformats.org/drawingml/2006/table">
            <a:tbl>
              <a:tblPr/>
              <a:tblGrid>
                <a:gridCol w="947520"/>
                <a:gridCol w="887400"/>
                <a:gridCol w="889200"/>
                <a:gridCol w="887400"/>
                <a:gridCol w="888840"/>
                <a:gridCol w="887400"/>
                <a:gridCol w="889200"/>
              </a:tblGrid>
              <a:tr h="876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9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upport lat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矩形 6"/>
          <p:cNvSpPr/>
          <p:nvPr/>
        </p:nvSpPr>
        <p:spPr>
          <a:xfrm>
            <a:off x="809640" y="1407960"/>
            <a:ext cx="1665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99ff"/>
                </a:solidFill>
                <a:latin typeface="Arial"/>
              </a:rPr>
              <a:t>Solution2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9895FA0-1AF7-4B86-83FD-A4FE60549B3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9001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syntax table for depth intra mode without complexity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1:  0.04%(modify 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0.05%(modify 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M7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ding gain on synthesized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%(modify 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M7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ding gain on Video total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%(modify 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M7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0.02%(modify 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ding gain on Video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2: 0.01% coding gain on synthesized view and 0.05% lost on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adopting the propose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3463920" y="6521400"/>
            <a:ext cx="763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ross-check by Qualcomm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0DEB0D6-CF8C-4757-A298-A6722A5A052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125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27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4654497-555D-47C4-A7DD-2E02A3DE672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145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low-up of JCT3V-D0195 with the following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bits for signaling depth intra mode 0, 1 and 2 in 8×8-32×32 without complexity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bits for signaling depth intra mode 3 in 4×4 without complexity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361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depth intra modes are applied for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and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,which are list depth modeling table semantics as fo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04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38DE47F-1FF5-4234-AD1B-0434CCFD92D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39560" y="3713040"/>
          <a:ext cx="3384720" cy="2135160"/>
        </p:xfrm>
        <a:graphic>
          <a:graphicData uri="http://schemas.openxmlformats.org/drawingml/2006/table">
            <a:tbl>
              <a:tblPr/>
              <a:tblGrid>
                <a:gridCol w="966960"/>
                <a:gridCol w="2417760"/>
              </a:tblGrid>
              <a:tr h="35100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pth_intra_mod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pthIntraMod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DCM_Planar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HEVC intra (HEVC_INTRA_PRED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DCM_DMM_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MM_1 (MODE_DMM_WFULL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MM_4 (MODE_DMM_CPREDTEX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MM_3 (MODE_DMM_W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EDTE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DCM_DC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7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MM_2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DE_DMM_WPREDDI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8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503280" indent="-503280"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CM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081320" y="3063960"/>
          <a:ext cx="5934240" cy="3579840"/>
        </p:xfrm>
        <a:graphic>
          <a:graphicData uri="http://schemas.openxmlformats.org/drawingml/2006/table">
            <a:tbl>
              <a:tblPr/>
              <a:tblGrid>
                <a:gridCol w="2862360"/>
                <a:gridCol w="1536840"/>
                <a:gridCol w="1535040"/>
              </a:tblGrid>
              <a:tr h="139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TEX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361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ify the syntax table of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8-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2, fewer bits for signalling depth intra mode 1 and 2, which can bring greater impact than other modes beh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04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DAFE7CB-634E-443C-BC9E-A0918F6F981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7920" y="3206880"/>
          <a:ext cx="4321440" cy="3960720"/>
        </p:xfrm>
        <a:graphic>
          <a:graphicData uri="http://schemas.openxmlformats.org/drawingml/2006/table">
            <a:tbl>
              <a:tblPr/>
              <a:tblGrid>
                <a:gridCol w="1871640"/>
                <a:gridCol w="936720"/>
                <a:gridCol w="1513080"/>
              </a:tblGrid>
              <a:tr h="1400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TEX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EA5F080-D281-4CFE-9F98-900DF8ADBF2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378000" y="1479600"/>
            <a:ext cx="2278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99ff"/>
                </a:solidFill>
                <a:latin typeface="Arial"/>
              </a:rPr>
              <a:t>Solution1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7200" y="2344680"/>
            <a:ext cx="9361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ify the syntax table of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4 with syntax fla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_intramode_det0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ich for signaling weather mode 5 or 8 applied in detecting unit(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sig_intramode_det0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ly exist once in detecting unit(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4) that with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4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ide and the flag determine the signaling depth intra mode way of all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4s inside detecting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olu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CC9003A-E316-4DE4-BC13-C2DBA1CE8DA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39560" y="2487600"/>
          <a:ext cx="4753080" cy="3129120"/>
        </p:xfrm>
        <a:graphic>
          <a:graphicData uri="http://schemas.openxmlformats.org/drawingml/2006/table">
            <a:tbl>
              <a:tblPr/>
              <a:tblGrid>
                <a:gridCol w="1800360"/>
                <a:gridCol w="1295280"/>
                <a:gridCol w="1081080"/>
                <a:gridCol w="57636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mode_det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EDTEX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35560" y="2487600"/>
          <a:ext cx="4753080" cy="3129120"/>
        </p:xfrm>
        <a:graphic>
          <a:graphicData uri="http://schemas.openxmlformats.org/drawingml/2006/table">
            <a:tbl>
              <a:tblPr/>
              <a:tblGrid>
                <a:gridCol w="1800360"/>
                <a:gridCol w="1295280"/>
                <a:gridCol w="1081080"/>
                <a:gridCol w="57636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mode_det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EDTEX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矩形 13"/>
          <p:cNvSpPr/>
          <p:nvPr/>
        </p:nvSpPr>
        <p:spPr>
          <a:xfrm>
            <a:off x="584280" y="5800680"/>
            <a:ext cx="43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mode 5 or 8 applied in detecting unit(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5551560" y="5800680"/>
            <a:ext cx="439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Without mode 5 or 8 in detecting unit(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olu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7200" y="2344680"/>
            <a:ext cx="9361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modify the syntax table of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8-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with syntax fla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_intramode_det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ich for signaling weather mode 3-8 applied in detecting unit(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sig_intramode_det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ly exist once in detecting unit(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4) that with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8-32×3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ide and the flag determine the signaling depth intra mode way of all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8-32×32s inside detecting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15B1362-F1F3-489F-A6A2-4121C6DB9F5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378000" y="1479600"/>
            <a:ext cx="2278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99ff"/>
                </a:solidFill>
                <a:latin typeface="Arial"/>
              </a:rPr>
              <a:t>Solution2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olu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5E21A13-2076-4DCD-ADF2-213476D65F4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9560" y="2487600"/>
          <a:ext cx="4753080" cy="3129120"/>
        </p:xfrm>
        <a:graphic>
          <a:graphicData uri="http://schemas.openxmlformats.org/drawingml/2006/table">
            <a:tbl>
              <a:tblPr/>
              <a:tblGrid>
                <a:gridCol w="1800360"/>
                <a:gridCol w="1295280"/>
                <a:gridCol w="1081080"/>
                <a:gridCol w="57636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mode_det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0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EDTEX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11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35560" y="2487600"/>
          <a:ext cx="4753080" cy="3129120"/>
        </p:xfrm>
        <a:graphic>
          <a:graphicData uri="http://schemas.openxmlformats.org/drawingml/2006/table">
            <a:tbl>
              <a:tblPr/>
              <a:tblGrid>
                <a:gridCol w="1800360"/>
                <a:gridCol w="1295280"/>
                <a:gridCol w="1081080"/>
                <a:gridCol w="57636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ame of depth_intra_mod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String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 cLog2CbSize = =  3 &amp;&amp;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2Nx2N ) | | </a:t>
                      </a:r>
                      <a:br>
                        <a:rPr sz="800"/>
                      </a:b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( cLog2CbSize &gt; 3  &amp;&amp;  cLog2CbSize &lt; 6 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Log2CbSize = = 3 &amp;&amp; 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artMode[ xC ][ yC ] = = PART_Nx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mode_det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PLANAR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NONE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11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FULL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CPREDTEX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EDTEX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0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SDC_DC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DMM_WPREDDIR)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TRA_DEP_CHAIN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-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11</a:t>
                      </a:r>
                      <a:endParaRPr b="0" lang="en-US" sz="8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矩形 13"/>
          <p:cNvSpPr/>
          <p:nvPr/>
        </p:nvSpPr>
        <p:spPr>
          <a:xfrm>
            <a:off x="584280" y="5800680"/>
            <a:ext cx="43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mode 3-8 applied in detecting unit(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551560" y="5800680"/>
            <a:ext cx="439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Without mode 3-8 in detecting unit(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4176CEE-71DA-442C-99EF-29C7B71A56C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6840" y="1983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CTC) (anchor is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modify on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7.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13120" y="2487600"/>
          <a:ext cx="6276960" cy="4680000"/>
        </p:xfrm>
        <a:graphic>
          <a:graphicData uri="http://schemas.openxmlformats.org/drawingml/2006/table">
            <a:tbl>
              <a:tblPr/>
              <a:tblGrid>
                <a:gridCol w="947520"/>
                <a:gridCol w="887400"/>
                <a:gridCol w="889200"/>
                <a:gridCol w="887400"/>
                <a:gridCol w="888840"/>
                <a:gridCol w="887400"/>
                <a:gridCol w="889200"/>
              </a:tblGrid>
              <a:tr h="876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7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59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9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8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9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4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矩形 6"/>
          <p:cNvSpPr/>
          <p:nvPr/>
        </p:nvSpPr>
        <p:spPr>
          <a:xfrm>
            <a:off x="800280" y="1407960"/>
            <a:ext cx="2087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99ff"/>
                </a:solidFill>
                <a:latin typeface="Arial"/>
              </a:rPr>
              <a:t>Solution1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c00232985</cp:lastModifiedBy>
  <dcterms:modified xsi:type="dcterms:W3CDTF">2013-07-28T10:10:18Z</dcterms:modified>
  <cp:revision>7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Bj+sktepairdCGqLyl2ZiwO62A4MjsHrHFbk5XxRqLAT3kV7n46YzeGaiHfFERg1GacBBHNCBRD5C9bHjb2ltMWbTaPmzGEsyLWjFQ2/z0vij8g/zsKpHd6QoZCwQPNbrXBLgY8XFscIbDlfJc7+fJRvCjoFAEYg3PAoM8D3d8wxIvBRX45s1ANydHMf2ixa+/ySXCnw/ngG4jFmsg9WYQmL7VtNv0w2YJxIZUxQOAac2qiq</vt:lpwstr>
  </property>
  <property fmtid="{D5CDD505-2E9C-101B-9397-08002B2CF9AE}" pid="3" name="_ms_pID_7253431">
    <vt:lpwstr>RZsCxAO8b3r5j3j5TyHJ/lePmk1WSfEJcACdj0Jili6KjQyq9vmBRFKwuqxjvGc5o2PrT4rRnfQNFJNTgrtGWbasBdetzRAcNTc3c0ORBL+i8Z1Wp68T/Up360ATI6zrAV/f7Vf5tbRksK0tr+OewkHImP6Kfv949rjucx74QGKf4GUnf2KCmaObJFWnXdaHmAXutwHKYmdcwF2+TsI2ruQdA6tfxYy9QQ6YEWwO3K69pjkv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cR1B4XkoWCa6mE48ef8suqMjhi9Ys064Cc2htWQeBHlRULYQSwShTD5XoqC+NiBfMxCRWrk0hFs=</vt:lpwstr>
  </property>
  <property fmtid="{D5CDD505-2E9C-101B-9397-08002B2CF9AE}" pid="6" name="_ms_pID_7253432_00">
    <vt:lpwstr>_ms_pID_7253432</vt:lpwstr>
  </property>
  <property fmtid="{D5CDD505-2E9C-101B-9397-08002B2CF9AE}" pid="7" name="_ms_pID_725343_00">
    <vt:lpwstr>_ms_pID_725343</vt:lpwstr>
  </property>
  <property fmtid="{D5CDD505-2E9C-101B-9397-08002B2CF9AE}" pid="8" name="sflag">
    <vt:lpwstr>1375005446</vt:lpwstr>
  </property>
</Properties>
</file>