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7000" y="1179000"/>
            <a:ext cx="85960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7000" y="3929040"/>
            <a:ext cx="85960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000" y="117900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1960" y="117900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000" y="392904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1960" y="392904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97000" y="1179000"/>
            <a:ext cx="27676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03280" y="1179000"/>
            <a:ext cx="27676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9920" y="1179000"/>
            <a:ext cx="27676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97000" y="3929040"/>
            <a:ext cx="27676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03280" y="3929040"/>
            <a:ext cx="27676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9920" y="3929040"/>
            <a:ext cx="27676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97000" y="1179000"/>
            <a:ext cx="8596080" cy="52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97000" y="1179000"/>
            <a:ext cx="859608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97000" y="1179000"/>
            <a:ext cx="419472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1960" y="1179000"/>
            <a:ext cx="419472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74680" y="0"/>
            <a:ext cx="861840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7000" y="117900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1960" y="1179000"/>
            <a:ext cx="419472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7000" y="392904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97000" y="1179000"/>
            <a:ext cx="8596080" cy="52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7000" y="1179000"/>
            <a:ext cx="419472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1960" y="117900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01960" y="392904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97000" y="117900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1960" y="117900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97000" y="3929040"/>
            <a:ext cx="85960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7000" y="1179000"/>
            <a:ext cx="85960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7000" y="3929040"/>
            <a:ext cx="85960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97000" y="117900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1960" y="117900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97000" y="392904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01960" y="392904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97000" y="1179000"/>
            <a:ext cx="27676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03280" y="1179000"/>
            <a:ext cx="27676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9920" y="1179000"/>
            <a:ext cx="27676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97000" y="3929040"/>
            <a:ext cx="27676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03280" y="3929040"/>
            <a:ext cx="27676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9920" y="3929040"/>
            <a:ext cx="27676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7000" y="1179000"/>
            <a:ext cx="859608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97000" y="1179000"/>
            <a:ext cx="419472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1960" y="1179000"/>
            <a:ext cx="419472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4680" y="0"/>
            <a:ext cx="861840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000" y="117900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1960" y="1179000"/>
            <a:ext cx="419472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97000" y="392904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7000" y="1179000"/>
            <a:ext cx="419472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1960" y="117900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1960" y="392904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7000" y="117900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1960" y="117900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97000" y="3929040"/>
            <a:ext cx="85960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1415880" y="6588000"/>
            <a:ext cx="7067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高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1" lang="ja-JP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独立成分分析</a:t>
            </a:r>
            <a:r>
              <a:rPr b="1" lang="ja-JP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TT confid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2" descr="C:\Users\Aki\Desktop\Futter.jpg"/>
          <p:cNvPicPr/>
          <p:nvPr/>
        </p:nvPicPr>
        <p:blipFill>
          <a:blip r:embed="rId2"/>
          <a:stretch/>
        </p:blipFill>
        <p:spPr>
          <a:xfrm>
            <a:off x="1440" y="6416640"/>
            <a:ext cx="9144000" cy="4492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2" descr="C:\Users\Aki\Desktop\Back2.jpg"/>
          <p:cNvPicPr/>
          <p:nvPr/>
        </p:nvPicPr>
        <p:blipFill>
          <a:blip r:embed="rId3"/>
          <a:stretch/>
        </p:blipFill>
        <p:spPr>
          <a:xfrm>
            <a:off x="0" y="0"/>
            <a:ext cx="9144000" cy="1627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nttlogo-ntt"/>
          <p:cNvPicPr/>
          <p:nvPr/>
        </p:nvPicPr>
        <p:blipFill>
          <a:blip r:embed="rId4"/>
          <a:stretch/>
        </p:blipFill>
        <p:spPr>
          <a:xfrm>
            <a:off x="349200" y="6550200"/>
            <a:ext cx="663480" cy="258480"/>
          </a:xfrm>
          <a:prstGeom prst="rect">
            <a:avLst/>
          </a:prstGeom>
          <a:ln w="0">
            <a:noFill/>
          </a:ln>
        </p:spPr>
      </p:pic>
      <p:sp>
        <p:nvSpPr>
          <p:cNvPr id="4" name="Rectangle 15"/>
          <p:cNvSpPr/>
          <p:nvPr/>
        </p:nvSpPr>
        <p:spPr>
          <a:xfrm>
            <a:off x="8369280" y="6556320"/>
            <a:ext cx="7747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719B-068E-476F-B1A0-9DC7F121A353}" type="slidenum"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C:\Users\Aki\Desktop\Mark.wmf"/>
          <p:cNvPicPr/>
          <p:nvPr/>
        </p:nvPicPr>
        <p:blipFill>
          <a:blip r:embed="rId5"/>
          <a:stretch/>
        </p:blipFill>
        <p:spPr>
          <a:xfrm>
            <a:off x="0" y="6513480"/>
            <a:ext cx="331920" cy="344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297000" y="1179000"/>
            <a:ext cx="859608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14ffb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b61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14ff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b61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nttlogo-ntt"/>
          <p:cNvPicPr/>
          <p:nvPr/>
        </p:nvPicPr>
        <p:blipFill>
          <a:blip r:embed="rId3"/>
          <a:stretch/>
        </p:blipFill>
        <p:spPr>
          <a:xfrm>
            <a:off x="6759720" y="6146640"/>
            <a:ext cx="1555560" cy="606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Aki\Desktop\Mark.wmf"/>
          <p:cNvPicPr/>
          <p:nvPr/>
        </p:nvPicPr>
        <p:blipFill>
          <a:blip r:embed="rId4"/>
          <a:stretch/>
        </p:blipFill>
        <p:spPr>
          <a:xfrm>
            <a:off x="8389800" y="6075360"/>
            <a:ext cx="754200" cy="782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97000" y="1179000"/>
            <a:ext cx="859608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14ffb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b61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14ff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b61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385560" y="4328640"/>
            <a:ext cx="8507160" cy="10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inya Shimizu, Shiori Sugimoto/ N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12760" y="1089000"/>
            <a:ext cx="34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JCT3V-D02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4"/>
          <p:cNvSpPr/>
          <p:nvPr/>
        </p:nvSpPr>
        <p:spPr>
          <a:xfrm>
            <a:off x="250920" y="2033640"/>
            <a:ext cx="8642160" cy="2070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D-CE1.h: Adaptive block partitioning for VS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97000" y="1179000"/>
            <a:ext cx="859608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ive partition for sub-PU level D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14ffb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8x8 block, either 4x8 or 8x4 is decided by checking 4 corners of corresponding virtual depth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グループ化 8"/>
          <p:cNvGrpSpPr/>
          <p:nvPr/>
        </p:nvGrpSpPr>
        <p:grpSpPr>
          <a:xfrm>
            <a:off x="971640" y="3699000"/>
            <a:ext cx="2160360" cy="2160360"/>
            <a:chOff x="971640" y="3699000"/>
            <a:chExt cx="2160360" cy="2160360"/>
          </a:xfrm>
        </p:grpSpPr>
        <p:sp>
          <p:nvSpPr>
            <p:cNvPr id="91" name="正方形/長方形 3"/>
            <p:cNvSpPr/>
            <p:nvPr/>
          </p:nvSpPr>
          <p:spPr>
            <a:xfrm>
              <a:off x="971640" y="3699000"/>
              <a:ext cx="2160360" cy="216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正方形/長方形 4"/>
            <p:cNvSpPr/>
            <p:nvPr/>
          </p:nvSpPr>
          <p:spPr>
            <a:xfrm>
              <a:off x="971640" y="3699000"/>
              <a:ext cx="450000" cy="450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T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正方形/長方形 5"/>
            <p:cNvSpPr/>
            <p:nvPr/>
          </p:nvSpPr>
          <p:spPr>
            <a:xfrm>
              <a:off x="2682000" y="3699000"/>
              <a:ext cx="450000" cy="450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T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正方形/長方形 6"/>
            <p:cNvSpPr/>
            <p:nvPr/>
          </p:nvSpPr>
          <p:spPr>
            <a:xfrm>
              <a:off x="2682000" y="5409360"/>
              <a:ext cx="450000" cy="450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B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正方形/長方形 7"/>
            <p:cNvSpPr/>
            <p:nvPr/>
          </p:nvSpPr>
          <p:spPr>
            <a:xfrm>
              <a:off x="971640" y="5409360"/>
              <a:ext cx="450000" cy="450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B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テキスト ボックス 9"/>
          <p:cNvSpPr/>
          <p:nvPr/>
        </p:nvSpPr>
        <p:spPr>
          <a:xfrm>
            <a:off x="979200" y="5904000"/>
            <a:ext cx="217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rtual depth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3"/>
              <p:cNvSpPr txBox="1"/>
              <p:nvPr/>
            </p:nvSpPr>
            <p:spPr>
              <a:xfrm>
                <a:off x="3519360" y="4329000"/>
                <a:ext cx="547236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depth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L</m:t>
                                </m:r>
                              </m:e>
                            </m:d>
                            <m:r>
                              <m:t xml:space="preserve">&l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depth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R</m:t>
                                </m:r>
                              </m:e>
                            </m:d>
                            <m:r>
                              <m:t xml:space="preserve">?</m:t>
                            </m:r>
                            <m:r>
                              <m:t xml:space="preserve">0</m:t>
                            </m:r>
                            <m:r>
                              <m:t xml:space="preserve">:</m:t>
                            </m:r>
                            <m:r>
                              <m:t xml:space="preserve">1</m:t>
                            </m:r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depth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R</m:t>
                                    </m:r>
                                  </m:e>
                                </m:d>
                                <m:r>
                                  <m:t xml:space="preserve">&lt;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vdepth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L</m:t>
                                    </m:r>
                                  </m:e>
                                </m:d>
                                <m:r>
                                  <m:t xml:space="preserve">?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: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acc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use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parti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lse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use</m:t>
                        </m:r>
                        <m:r>
                          <m:t xml:space="preserve"> </m:t>
                        </m:r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parti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cxnSp>
        <p:nvCxnSpPr>
          <p:cNvPr id="100" name="直線矢印コネクタ 15"/>
          <p:cNvCxnSpPr/>
          <p:nvPr/>
        </p:nvCxnSpPr>
        <p:spPr>
          <a:xfrm>
            <a:off x="1510920" y="4238280"/>
            <a:ext cx="1081800" cy="10818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1" name="直線矢印コネクタ 17"/>
          <p:cNvCxnSpPr/>
          <p:nvPr/>
        </p:nvCxnSpPr>
        <p:spPr>
          <a:xfrm flipV="1">
            <a:off x="1510920" y="4238280"/>
            <a:ext cx="1081800" cy="1126080"/>
          </a:xfrm>
          <a:prstGeom prst="straightConnector1">
            <a:avLst/>
          </a:prstGeom>
          <a:ln w="38160">
            <a:solidFill>
              <a:srgbClr val="008000"/>
            </a:solidFill>
            <a:miter/>
            <a:headEnd len="med" type="arrow" w="med"/>
            <a:tailEnd len="med" type="arrow" w="med"/>
          </a:ln>
        </p:spPr>
      </p:cxnSp>
      <p:sp>
        <p:nvSpPr>
          <p:cNvPr id="102" name="直線コネクタ 23"/>
          <p:cNvSpPr/>
          <p:nvPr/>
        </p:nvSpPr>
        <p:spPr>
          <a:xfrm>
            <a:off x="3762360" y="4599000"/>
            <a:ext cx="2519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線コネクタ 24"/>
          <p:cNvSpPr/>
          <p:nvPr/>
        </p:nvSpPr>
        <p:spPr>
          <a:xfrm>
            <a:off x="6462720" y="4599000"/>
            <a:ext cx="251928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mula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50920" y="1449000"/>
            <a:ext cx="8642160" cy="499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4ffb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on HTM v7.0r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14ffb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the common test condition (JCT3V-D1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50920" y="1854360"/>
          <a:ext cx="8642160" cy="2922480"/>
        </p:xfrm>
        <a:graphic>
          <a:graphicData uri="http://schemas.openxmlformats.org/drawingml/2006/table">
            <a:tbl>
              <a:tblPr/>
              <a:tblGrid>
                <a:gridCol w="1042920"/>
                <a:gridCol w="977760"/>
                <a:gridCol w="976320"/>
                <a:gridCol w="978120"/>
                <a:gridCol w="977760"/>
                <a:gridCol w="976320"/>
                <a:gridCol w="977760"/>
                <a:gridCol w="866880"/>
                <a:gridCol w="868320"/>
              </a:tblGrid>
              <a:tr h="484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video 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video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video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video PSNR / video bit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video PSNR / total bit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ynth PSNR / total bitra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nc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dec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Ballo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9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1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1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Ken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9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1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1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ewspaper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9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0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1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GhostTownF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9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8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1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oznanHall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9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1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1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oznanStr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9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0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4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UndoDa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9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24x7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9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1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4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920x10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9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.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.1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.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.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.0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9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lexit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97000" y="1179000"/>
            <a:ext cx="859608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d operation to decide block parti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14ffb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compar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84320" y="3259080"/>
          <a:ext cx="8724600" cy="1790640"/>
        </p:xfrm>
        <a:graphic>
          <a:graphicData uri="http://schemas.openxmlformats.org/drawingml/2006/table">
            <a:tbl>
              <a:tblPr/>
              <a:tblGrid>
                <a:gridCol w="1288800"/>
                <a:gridCol w="1859040"/>
                <a:gridCol w="1859040"/>
                <a:gridCol w="1859040"/>
                <a:gridCol w="1858680"/>
              </a:tblGrid>
              <a:tr h="890640">
                <a:tc>
                  <a:txBody>
                    <a:bodyPr lIns="14760" rIns="14760" tIns="14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760" marR="14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760" rIns="14760" tIns="14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of operation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/Sub/Comp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atio to ancho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760" marR="14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  <a:tc>
                  <a:txBody>
                    <a:bodyPr lIns="14760" rIns="14760" tIns="14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storage</a:t>
                      </a:r>
                      <a:br>
                        <a:rPr sz="1800"/>
                      </a:b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atio to ancho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760" marR="14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  <a:tc>
                  <a:txBody>
                    <a:bodyPr lIns="14760" rIns="14760" tIns="14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transfer rate (ratio to ancho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760" marR="14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  <a:tc>
                  <a:txBody>
                    <a:bodyPr lIns="14760" rIns="14760" tIns="14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of storage accessing (ratio to ancho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760" marR="14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299880">
                <a:tc>
                  <a:txBody>
                    <a:bodyPr lIns="14760" rIns="14760" tIns="14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760" marR="14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14760" rIns="14760" tIns="14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4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760" marR="14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760" rIns="14760" tIns="14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5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760" marR="14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760" rIns="14760" tIns="14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760" marR="14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760" rIns="14760" tIns="14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760" marR="14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14760" rIns="14760" tIns="14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760" marR="14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14760" rIns="14760" tIns="14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760" marR="14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760" rIns="14760" tIns="14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760" marR="14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760" rIns="14760" tIns="14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.3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760" marR="14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760" rIns="14760" tIns="14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.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760" marR="14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14760" rIns="14760" tIns="14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760" marR="14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ef3"/>
                    </a:solidFill>
                  </a:tcPr>
                </a:tc>
                <a:tc>
                  <a:txBody>
                    <a:bodyPr lIns="14760" rIns="14760" tIns="14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760" marR="14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760" rIns="14760" tIns="14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760" marR="14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760" rIns="14760" tIns="14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760" marR="14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760" rIns="14760" tIns="14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760" marR="14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97000" y="1179000"/>
            <a:ext cx="859608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4ffb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aptive block size on 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CP in VS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14ffb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based on virtual depth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14ffb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x8 or 8x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14ffb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14ffb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oding loss (&lt; 0.03% on aver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14ffb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reduction with better alignment with HEV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14ffb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 to the next version of 3D-HEV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7:00:09Z</dcterms:created>
  <dc:creator>Shohei Matsuo</dc:creator>
  <dc:description/>
  <dc:language>en-US</dc:language>
  <cp:lastModifiedBy>shinya</cp:lastModifiedBy>
  <cp:lastPrinted>1999-06-25T10:10:31Z</cp:lastPrinted>
  <dcterms:modified xsi:type="dcterms:W3CDTF">2013-07-27T13:21:45Z</dcterms:modified>
  <cp:revision>2078</cp:revision>
  <dc:subject/>
  <dc:title>ポストH.264を目指した超高圧縮映像符号化技術の研究</dc:title>
</cp:coreProperties>
</file>