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6F9E-7AD3-4012-94B1-07B23FEF7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2037-2347-4122-AB06-85F549E16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2E4D-5EBA-4119-8E32-69B57FDAB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B65A7-8848-42BB-B507-6D563E6AF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0F167-0126-4350-A08E-94D91D9EB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8FD03-BA53-4101-9096-588652240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E361-052A-495E-9D44-847467410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DC85-32BB-4B02-BA7B-C620228D9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8F69-3346-4D23-AC1C-938ABBBC1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7EA0-A3E3-48C1-8C62-DBE99F7B0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6052-8252-4D35-9067-55462CE19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6C17-6142-4E2B-8B53-E0EA52D96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6917-92F1-4E14-B2CF-CC7CC2E3DC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3V-E01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3V-E01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3D-CE3.h related: 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ced temporal residual predi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9600" y="407988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cheng An, Kai Zhang, Jian-Liang Lin, and Shawmin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Advanced temporal residual predictio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s proposed to improve the coding efficiency of advanced residual prediction (ARP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.8% BD-rate gain for V1, V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.2% BD-rate gain for synthesized 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 coding time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1451-DE29-46A6-B20B-EEA2C9F93F6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P in HTM7.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ARP is only applied to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motion compensated predi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 not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parity compensated predi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urrent MV is pointing to a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temporal reference pi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MV is applied to a corresponding block in reference view to generate the reference resid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rresponding block in reference view is located by the derived NB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urrent MV is pointing to a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inter-view reference pi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ARP weighting is signaled as 0 (redundant fla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proposal, it is proposed to further apply the ARP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parity compensated predi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 make the current advanced residual prediction method more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8D6F-8FB6-4532-B270-7BD149F8656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ced temporal residual predi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560" y="1142640"/>
            <a:ext cx="571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ference picture is an inter-view ref picture, the DV is applied to a corresponding block in temporal ref picture to generate the reference resid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 block in temporal ref picture is located by a derived MV of current 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20"/>
          <p:cNvGraphicFramePr/>
          <p:nvPr/>
        </p:nvGraphicFramePr>
        <p:xfrm>
          <a:off x="5791320" y="1076400"/>
          <a:ext cx="297180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076400"/>
                    <a:ext cx="29718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F014-F3FB-44E1-A1F0-2B745923921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22"/>
          <p:cNvGraphicFramePr/>
          <p:nvPr/>
        </p:nvGraphicFramePr>
        <p:xfrm>
          <a:off x="1828800" y="4802040"/>
          <a:ext cx="419112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802040"/>
                    <a:ext cx="419112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hor: HTM7.0r1 under C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6588-AD96-42AD-8B6A-902F4CD1C29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483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dvanced temporal residual prediction is propo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.8% BD-rate gain for V1, V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.2% BD-rate gain for synthesized 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 run-time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2E1C-4209-44B7-9AA3-9D159F68E80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9600" y="407988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ediatek</cp:lastModifiedBy>
  <dcterms:modified xsi:type="dcterms:W3CDTF">2013-07-26T17:48:44Z</dcterms:modified>
  <cp:revision>344</cp:revision>
  <dc:subject/>
  <dc:title>In slice header</dc:title>
</cp:coreProperties>
</file>