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6788-A1D7-4149-84C6-C5AA1D5D1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C955-C19A-446F-ABA0-307BED6A9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4F4D-CF03-4395-9724-6A154716C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A7EC-2FFD-4C11-B3B5-3C6C77729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AE5E-8429-4185-8AEA-687913E19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742C-79CB-43FB-9D25-1CA00895A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8D33-C7BD-4079-8F5D-9258C1EE3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0894-D436-4145-ABC2-004D92D10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D4D4-230C-45B4-BC47-82CAB74D6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5AF1-A49A-4C70-BD01-66261BC99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389A-C1C9-4A66-B52C-7C652E97B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82D-D9F3-4BD2-84B7-C582FA965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70F-A702-4845-941C-7BECFEE6A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E01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E01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-CE3.h related: Sub-PU level inter-view motion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level inter-view motion prediction is proposed for the temporal inter-view merge candi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BD-rate reduction and modest complexity increase can be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ub-PU sizes were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1447560"/>
          </a:xfrm>
          <a:prstGeom prst="rect">
            <a:avLst/>
          </a:prstGeom>
          <a:ln w="0">
            <a:noFill/>
          </a:ln>
        </p:spPr>
      </p:pic>
      <p:sp>
        <p:nvSpPr>
          <p:cNvPr id="92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34F-2640-4109-960B-DEDD415792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Design in 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emporal inter-view merge candidate (TIV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V (by DoNBDV) to the current PU to obtain a referenc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eference block is coded using MCP, the associated motion parameters can be used as TIVMC for the current 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4572000" y="3505320"/>
          <a:ext cx="40766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505320"/>
                    <a:ext cx="4076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8"/>
          <p:cNvSpPr/>
          <p:nvPr/>
        </p:nvSpPr>
        <p:spPr>
          <a:xfrm>
            <a:off x="838080" y="380988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responding area in the ref view may contain plentiful motion info., but only motion info. in the middle position of the area is used for the current 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43B-558B-45F6-82EB-EDAAA7542E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24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level inter-view motion prediction (SPIVMP) for temporal inter-view merge candidate (TIV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current PU into sub-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V to each sub-PU to obtain each referenc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reference block, the associated motion parameters (MP) can be utilized for the sub-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3568680" y="3657600"/>
          <a:ext cx="466092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8680" y="3657600"/>
                    <a:ext cx="46609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488-16E8-4A35-B16E-C87253F533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yntax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one flag in SPS to signal the sub-PU size, which can be one of the following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(PU size &lt;= 8x8 will not be di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x16 (PU size &lt;= 16x16 will not be di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x32 (PU size &lt;= 32x32 will not be divi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x64 (PU are always not divided, same as anc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BD3-E0B8-4044-8182-B177934BF2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for Sub-PU Size = 4x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7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0592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EFB9-56A8-4660-B2EF-E1ACDE9207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for Sub-PU Size = 8x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7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 size &lt;= 8x8 will not be di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715240" cy="2819520"/>
          </a:xfrm>
          <a:prstGeom prst="rect">
            <a:avLst/>
          </a:prstGeom>
          <a:ln w="0">
            <a:noFill/>
          </a:ln>
        </p:spPr>
      </p:pic>
      <p:sp>
        <p:nvSpPr>
          <p:cNvPr id="117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96AD-A77A-48FC-BFB9-95B2869EDB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for Sub-PU Size = 16x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7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 size &lt;= 16x16 will not be di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3067200"/>
            <a:ext cx="8656560" cy="2800080"/>
          </a:xfrm>
          <a:prstGeom prst="rect">
            <a:avLst/>
          </a:prstGeom>
          <a:ln w="0">
            <a:noFill/>
          </a:ln>
        </p:spPr>
      </p:pic>
      <p:sp>
        <p:nvSpPr>
          <p:cNvPr id="12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B09-516C-48B7-861D-CC69854E84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level inter-view motion prediction is proposed for the temporal inter-view merge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BD-rate reduction and modest complexity increase can be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size is signaled in SPS for flex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8763120" cy="1447560"/>
          </a:xfrm>
          <a:prstGeom prst="rect">
            <a:avLst/>
          </a:prstGeom>
          <a:ln w="0">
            <a:noFill/>
          </a:ln>
        </p:spPr>
      </p:pic>
      <p:sp>
        <p:nvSpPr>
          <p:cNvPr id="125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69B-EA85-462D-992A-AF5AF12E35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ediatek</cp:lastModifiedBy>
  <dcterms:modified xsi:type="dcterms:W3CDTF">2013-07-23T06:29:10Z</dcterms:modified>
  <cp:revision>343</cp:revision>
  <dc:subject/>
  <dc:title>In slice hea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9723046</vt:r8>
  </property>
  <property fmtid="{D5CDD505-2E9C-101B-9397-08002B2CF9AE}" pid="3" name="_AuthorEmail">
    <vt:lpwstr>Jicheng.An@mediatek.com</vt:lpwstr>
  </property>
  <property fmtid="{D5CDD505-2E9C-101B-9397-08002B2CF9AE}" pid="4" name="_AuthorEmailDisplayName">
    <vt:lpwstr>Jicheng An (安基程)</vt:lpwstr>
  </property>
  <property fmtid="{D5CDD505-2E9C-101B-9397-08002B2CF9AE}" pid="5" name="_EmailSubject">
    <vt:lpwstr>presentation slides of my proposals</vt:lpwstr>
  </property>
  <property fmtid="{D5CDD505-2E9C-101B-9397-08002B2CF9AE}" pid="6" name="_NewReviewCycle">
    <vt:lpwstr/>
  </property>
</Properties>
</file>