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529888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40000"/>
              </a:lnSpc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D625-B183-47DC-B094-F08E25C045F7}" type="datetime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49320" y="744120"/>
            <a:ext cx="489888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83A1-6EE3-449C-A880-464EF41D8D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F7F3-CF42-43F9-91A4-58557213EF98}" type="datetime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E283-BF65-4B0E-93C6-C96FB111EE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49320" y="744480"/>
            <a:ext cx="4898880" cy="37227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41040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27200" y="4427640"/>
            <a:ext cx="941040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27200" y="442764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549400" y="442764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08880" y="176832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090560" y="176832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27200" y="442764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08880" y="442764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090560" y="442764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27200" y="39240"/>
            <a:ext cx="9410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27200" y="442764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49400" y="442764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27200" y="4427640"/>
            <a:ext cx="941040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9"/>
          <p:cNvGraphicFramePr/>
          <p:nvPr/>
        </p:nvGraphicFramePr>
        <p:xfrm>
          <a:off x="800280" y="7569360"/>
          <a:ext cx="1800000" cy="17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280" y="7569360"/>
                    <a:ext cx="1800000" cy="17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Text Box 7"/>
          <p:cNvSpPr/>
          <p:nvPr/>
        </p:nvSpPr>
        <p:spPr>
          <a:xfrm>
            <a:off x="-2224080" y="0"/>
            <a:ext cx="2095560" cy="87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封面英文标题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字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Arial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大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47pt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颜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黑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反白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封面中文标题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字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黑体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大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40-47pt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颜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黑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反白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英文内页标题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字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Arial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大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30-35pt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颜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 R153 G0 B0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英文内页正文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字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 Ari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大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18-24pt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颜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R0 G0 B0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中文内页标题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字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黑体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大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35pt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颜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 R153 G0 B0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中文内页正文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字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细黑体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大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22-24pt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颜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R0 G0 B0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</p:txBody>
      </p:sp>
      <p:pic>
        <p:nvPicPr>
          <p:cNvPr id="3" name="Picture 11" descr="海思-修"/>
          <p:cNvPicPr/>
          <p:nvPr/>
        </p:nvPicPr>
        <p:blipFill>
          <a:blip r:embed="rId4"/>
          <a:stretch/>
        </p:blipFill>
        <p:spPr>
          <a:xfrm>
            <a:off x="8504280" y="7481880"/>
            <a:ext cx="1728720" cy="35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33192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24080" indent="-265320">
              <a:spcBef>
                <a:spcPts val="601"/>
              </a:spcBef>
              <a:buClr>
                <a:srgbClr val="808080"/>
              </a:buClr>
              <a:buSzPct val="12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52560" indent="-264960">
              <a:spcBef>
                <a:spcPts val="601"/>
              </a:spcBef>
              <a:buClr>
                <a:srgbClr val="3333ff"/>
              </a:buClr>
              <a:buFont typeface="Wingdings" charset="2"/>
              <a:buChar char="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382840" indent="-26496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382840" indent="-26496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382840" indent="-26496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87E90B4C-47D2-4B46-AB54-1CA7FA2B9E38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0" y="1336680"/>
            <a:ext cx="10528200" cy="71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3333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8" name="Rectangle 19"/>
          <p:cNvSpPr/>
          <p:nvPr/>
        </p:nvSpPr>
        <p:spPr>
          <a:xfrm>
            <a:off x="0" y="7313760"/>
            <a:ext cx="10528200" cy="71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3333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日期占位符 5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C3F02E10-484D-4A69-9A04-B5FA09D1E0EF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53" name="Rectangle 39"/>
          <p:cNvSpPr/>
          <p:nvPr/>
        </p:nvSpPr>
        <p:spPr>
          <a:xfrm>
            <a:off x="0" y="0"/>
            <a:ext cx="10528200" cy="800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pic>
        <p:nvPicPr>
          <p:cNvPr id="54" name="Picture 69" descr="海思-修"/>
          <p:cNvPicPr/>
          <p:nvPr/>
        </p:nvPicPr>
        <p:blipFill>
          <a:blip r:embed="rId1"/>
          <a:stretch/>
        </p:blipFill>
        <p:spPr>
          <a:xfrm>
            <a:off x="0" y="0"/>
            <a:ext cx="10528200" cy="790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Object 14"/>
          <p:cNvGraphicFramePr/>
          <p:nvPr/>
        </p:nvGraphicFramePr>
        <p:xfrm>
          <a:off x="655560" y="7313760"/>
          <a:ext cx="2448000" cy="14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560" y="7313760"/>
                    <a:ext cx="2448000" cy="1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Picture 51" descr="海思-修"/>
          <p:cNvPicPr/>
          <p:nvPr/>
        </p:nvPicPr>
        <p:blipFill>
          <a:blip r:embed="rId4"/>
          <a:stretch/>
        </p:blipFill>
        <p:spPr>
          <a:xfrm>
            <a:off x="7856640" y="7169040"/>
            <a:ext cx="1985760" cy="4111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0"/>
          <p:cNvSpPr/>
          <p:nvPr/>
        </p:nvSpPr>
        <p:spPr>
          <a:xfrm>
            <a:off x="2743200" y="3137040"/>
            <a:ext cx="6985080" cy="259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216000" bIns="216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CT3V-D0174: CE6.h related: Extension of reference samples sub-sampling to all block-sizes in DMM and SDC</a:t>
            </a: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Xiaozhen Zheng</a:t>
            </a: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59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pPr>
              <a:lnSpc>
                <a:spcPct val="140000"/>
              </a:lnSpc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日期占位符 3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BB4645FF-B6A8-4041-AE4F-C9B96B8A50B5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 to use reference sub-sampling to all of block-sizes in DMM and S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mputing complexity for DMM and SDC can be further re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ous tests show that the proposed sub-sampling method does not have the impact on the coding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gest adopting the proposed sub-sampling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日期占位符 3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BADCA95F-3C5A-498B-BFB6-D73E63D5CA4C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0" y="0"/>
            <a:ext cx="10528200" cy="8001000"/>
          </a:xfrm>
          <a:prstGeom prst="rect">
            <a:avLst/>
          </a:prstGeom>
          <a:solidFill>
            <a:srgbClr val="a7a7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824280" y="47214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Thank you!</a:t>
            </a:r>
            <a:endParaRPr b="0" lang="en-US" sz="4400" spc="-1" strike="noStrike">
              <a:solidFill>
                <a:srgbClr val="6699ff"/>
              </a:solidFill>
              <a:latin typeface="Arial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3763800" y="2122560"/>
            <a:ext cx="3197520" cy="2442960"/>
            <a:chOff x="3763800" y="2122560"/>
            <a:chExt cx="3197520" cy="2442960"/>
          </a:xfrm>
        </p:grpSpPr>
        <p:pic>
          <p:nvPicPr>
            <p:cNvPr id="97" name="Picture 5" descr="风车"/>
            <p:cNvPicPr/>
            <p:nvPr/>
          </p:nvPicPr>
          <p:blipFill>
            <a:blip r:embed="rId1"/>
            <a:srcRect l="17909" t="40828" r="0" b="0"/>
            <a:stretch/>
          </p:blipFill>
          <p:spPr>
            <a:xfrm>
              <a:off x="3816360" y="2173320"/>
              <a:ext cx="3105000" cy="23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Rectangle 6"/>
            <p:cNvSpPr/>
            <p:nvPr/>
          </p:nvSpPr>
          <p:spPr>
            <a:xfrm>
              <a:off x="3763800" y="2122560"/>
              <a:ext cx="3197520" cy="24429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spcBef>
                  <a:spcPts val="649"/>
                </a:spcBef>
                <a:buClr>
                  <a:srgbClr val="cc0000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6699ff"/>
                </a:solidFill>
                <a:latin typeface="Arial"/>
              </a:endParaRPr>
            </a:p>
          </p:txBody>
        </p:sp>
      </p:grpSp>
      <p:sp>
        <p:nvSpPr>
          <p:cNvPr id="99" name="Text Box 7"/>
          <p:cNvSpPr/>
          <p:nvPr/>
        </p:nvSpPr>
        <p:spPr>
          <a:xfrm>
            <a:off x="4400640" y="55134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www.hisilicon.com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日期占位符 5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94D6EAAD-08B9-4F47-8873-8591011FBF69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6840" y="1768320"/>
            <a:ext cx="84978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331920">
              <a:spcBef>
                <a:spcPts val="550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d reference sub-sampling to all of block-sizes in DMM and SDC to further reduce computing complex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spcBef>
                <a:spcPts val="550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331920">
              <a:spcBef>
                <a:spcPts val="550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-sampling for SDC: 0.0% / 0.0% for CTC, 0.0% / 0.0% for All-intra on video / synthesized view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31920">
              <a:spcBef>
                <a:spcPts val="550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-sampling for SDC and DMM: 0.0% / -0.1% for CTC, 0.0% / 0.0% for All-intra on video / synthesized 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check: JCT3V-D0283 by In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日期占位符 3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3A9C77AC-EE66-4008-B08A-ED537B72CC22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Reference sub-sampling in current and proposed designs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26840" y="176796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reference sub-sampling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331920">
              <a:spcBef>
                <a:spcPts val="49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:1 sub-sampling is used at 32x32 block in DMM, 32x32 and 64x64 blocks in S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spcBef>
                <a:spcPts val="49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d reference sub-sampling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331920">
              <a:spcBef>
                <a:spcPts val="550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ly 2:1 sub-sampling to all of block-sizes in DMM and SD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spcBef>
                <a:spcPts val="550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der 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331920">
              <a:spcBef>
                <a:spcPts val="550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 value for the original samples is calculated without sub-samp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spcBef>
                <a:spcPts val="550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日期占位符 3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19C1F1C0-63FF-4A40-AAEE-977BD89A538B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Experimental results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6840" y="1767960"/>
            <a:ext cx="87138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 sample sub-sampling for SDC only (C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160640" y="2344680"/>
          <a:ext cx="8207280" cy="4608720"/>
        </p:xfrm>
        <a:graphic>
          <a:graphicData uri="http://schemas.openxmlformats.org/drawingml/2006/table">
            <a:tbl>
              <a:tblPr/>
              <a:tblGrid>
                <a:gridCol w="898200"/>
                <a:gridCol w="808200"/>
                <a:gridCol w="806400"/>
                <a:gridCol w="806400"/>
                <a:gridCol w="806400"/>
                <a:gridCol w="831960"/>
                <a:gridCol w="830160"/>
                <a:gridCol w="806400"/>
                <a:gridCol w="806760"/>
                <a:gridCol w="806400"/>
              </a:tblGrid>
              <a:tr h="76032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video 0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video 1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video 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video PSNR / video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video PSNR / total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ynth PSNR / total bitrate 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en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de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ren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84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Balloons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0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8.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3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84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Kendo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0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7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2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0796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Newspaper_CC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9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2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5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504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T_Fly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9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88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5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84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Poznan_Hall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0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8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8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48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Poznan_Street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10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7.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124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ndo_Dancer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9.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4.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5.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48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24x76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9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9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0.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944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920x108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9.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7.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9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124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verage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9.9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8.5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9.7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日期占位符 3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29F19713-6876-4A0E-AECE-CDE26962E47A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Experimental results (2)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26840" y="1767960"/>
            <a:ext cx="87138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 sample sub-sampling for SDC only (A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160640" y="2344680"/>
          <a:ext cx="8207280" cy="4608720"/>
        </p:xfrm>
        <a:graphic>
          <a:graphicData uri="http://schemas.openxmlformats.org/drawingml/2006/table">
            <a:tbl>
              <a:tblPr/>
              <a:tblGrid>
                <a:gridCol w="898200"/>
                <a:gridCol w="808200"/>
                <a:gridCol w="806400"/>
                <a:gridCol w="806400"/>
                <a:gridCol w="806400"/>
                <a:gridCol w="831960"/>
                <a:gridCol w="830160"/>
                <a:gridCol w="806400"/>
                <a:gridCol w="806760"/>
                <a:gridCol w="806400"/>
              </a:tblGrid>
              <a:tr h="76032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video 0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video 1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video 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video PSNR / video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video PSNR / total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synth PSNR / total bitrate 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en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de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ren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84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Balloons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9.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9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84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Kendo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9.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9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0796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Newspaper_CC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7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504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GT_Fly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8.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9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84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Poznan_Hall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9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2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48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Poznan_Street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9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3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9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124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Undo_Dancer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9.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4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9.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48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24x76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9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9.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944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920x108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9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2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9.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124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average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99.9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100.9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99.6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日期占位符 3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1419900D-EB2E-4AB2-A0FC-09EE1AA96494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Experimental results (3)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6840" y="1767960"/>
            <a:ext cx="87138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 sample sub-sampling for SDC and DMM (C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160640" y="2344680"/>
          <a:ext cx="8207280" cy="4608720"/>
        </p:xfrm>
        <a:graphic>
          <a:graphicData uri="http://schemas.openxmlformats.org/drawingml/2006/table">
            <a:tbl>
              <a:tblPr/>
              <a:tblGrid>
                <a:gridCol w="898200"/>
                <a:gridCol w="808200"/>
                <a:gridCol w="806400"/>
                <a:gridCol w="806400"/>
                <a:gridCol w="806400"/>
                <a:gridCol w="831960"/>
                <a:gridCol w="830160"/>
                <a:gridCol w="806400"/>
                <a:gridCol w="806760"/>
                <a:gridCol w="806400"/>
              </a:tblGrid>
              <a:tr h="76032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video 0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video 1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video 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video PSNR / video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video PSNR / total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synth PSNR / total bitrate 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en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de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ren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84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Balloons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8.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2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84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Kendo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6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1.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0796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Newspaper_CC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6.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4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504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GT_Fly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9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9.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7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84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Poznan_Hall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7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7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48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Poznan_Street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8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11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124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Undo_Dancer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9.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4.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7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48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24x76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7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9.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944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920x108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7.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124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average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100.1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97.4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100.3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日期占位符 3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C0C9CD71-83C6-4A33-BEB0-FF7AAD2DB277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Experimental results (4)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26840" y="1767960"/>
            <a:ext cx="87138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 sample sub-sampling for SDC and DMM (A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160640" y="2344680"/>
          <a:ext cx="8207280" cy="4608720"/>
        </p:xfrm>
        <a:graphic>
          <a:graphicData uri="http://schemas.openxmlformats.org/drawingml/2006/table">
            <a:tbl>
              <a:tblPr/>
              <a:tblGrid>
                <a:gridCol w="898200"/>
                <a:gridCol w="808200"/>
                <a:gridCol w="806400"/>
                <a:gridCol w="806400"/>
                <a:gridCol w="806400"/>
                <a:gridCol w="831960"/>
                <a:gridCol w="830160"/>
                <a:gridCol w="806400"/>
                <a:gridCol w="806760"/>
                <a:gridCol w="806400"/>
              </a:tblGrid>
              <a:tr h="76032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video 0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video 1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video 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video PSNR / video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video PSNR / total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synth PSNR / total bitrate 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en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de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ren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84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Balloons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9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84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Kendo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7.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9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0796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Newspaper_CC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1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504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GT_Fly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8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9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84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Poznan_Hall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7.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48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Poznan_Street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9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7.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124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Undo_Dancer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9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8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9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48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24x76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9.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9.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944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920x108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8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9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1240">
                <a:tc>
                  <a:txBody>
                    <a:bodyPr lIns="36360" rIns="363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average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100.2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98.9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99.3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日期占位符 3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810D7B2D-BA27-49D8-98CA-378AC92B8BBC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Experimental results (5)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26840" y="176796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76560" indent="-37656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 sample sub-sampling for SDC and DMM without encoder optimization (C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560"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15920" y="2705040"/>
          <a:ext cx="8209080" cy="4608720"/>
        </p:xfrm>
        <a:graphic>
          <a:graphicData uri="http://schemas.openxmlformats.org/drawingml/2006/table">
            <a:tbl>
              <a:tblPr/>
              <a:tblGrid>
                <a:gridCol w="898560"/>
                <a:gridCol w="808200"/>
                <a:gridCol w="806400"/>
                <a:gridCol w="806400"/>
                <a:gridCol w="806400"/>
                <a:gridCol w="831960"/>
                <a:gridCol w="831600"/>
                <a:gridCol w="806760"/>
                <a:gridCol w="806400"/>
                <a:gridCol w="806400"/>
              </a:tblGrid>
              <a:tr h="760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video 0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video 1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video 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video PSNR / video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video PSNR / total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synth PSNR / total bitrate 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en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de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ren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Balloons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10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99.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101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Kendo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10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101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99.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07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Newspaper_CC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10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116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98.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5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GT_Fly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100.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96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101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Poznan_Hall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101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98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101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Poznan_Street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99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101.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101.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1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Undo_Dancer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99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98.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99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1024x76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10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105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99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9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1920x108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100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98.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101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1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average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100.2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101.8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100.5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日期占位符 3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4A41D3DC-F26F-4F80-83F1-58E3EE157F0E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Experimental results (6)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26840" y="176796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76560" indent="-37656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 sample sub-sampling for SDC and DMM without encoder optimization (A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560"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015920" y="2705040"/>
          <a:ext cx="8209080" cy="4608720"/>
        </p:xfrm>
        <a:graphic>
          <a:graphicData uri="http://schemas.openxmlformats.org/drawingml/2006/table">
            <a:tbl>
              <a:tblPr/>
              <a:tblGrid>
                <a:gridCol w="898560"/>
                <a:gridCol w="808200"/>
                <a:gridCol w="806400"/>
                <a:gridCol w="806400"/>
                <a:gridCol w="806400"/>
                <a:gridCol w="831960"/>
                <a:gridCol w="831600"/>
                <a:gridCol w="806760"/>
                <a:gridCol w="806400"/>
                <a:gridCol w="806400"/>
              </a:tblGrid>
              <a:tr h="760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video 0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video 1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video 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video PSNR / video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video PSNR / total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synth PSNR / total bitrate 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en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de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ren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Balloons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10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10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96.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Kendo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10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99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99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07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Newspaper_CC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102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99.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101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5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GT_Fly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100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97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99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Poznan_Hall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100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99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100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Poznan_Street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100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99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97.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1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Undo_Dancer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10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98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99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1024x76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100.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99.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99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9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1920x108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100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98.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99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1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average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0.1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100.4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99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99.1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08:10:34Z</dcterms:created>
  <dc:creator>guopeng</dc:creator>
  <dc:description/>
  <dc:language>en-US</dc:language>
  <cp:lastModifiedBy>Xiaozhen Zheng</cp:lastModifiedBy>
  <dcterms:modified xsi:type="dcterms:W3CDTF">2013-04-21T09:09:15Z</dcterms:modified>
  <cp:revision>68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89840466</vt:lpwstr>
  </property>
</Properties>
</file>