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529888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5F2D-8790-4A5D-B984-D330D4C0DDF2}" type="datetime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49320" y="744120"/>
            <a:ext cx="489888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D4BB-E719-4527-932A-8B9FEB9518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9D92-74D4-4FAD-AA68-A4F2A12D1AE2}" type="datetime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2744-301B-4F86-A7F1-B25B0B7676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49320" y="744480"/>
            <a:ext cx="489888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27200" y="4427640"/>
            <a:ext cx="941040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272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5494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08880" y="176832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090560" y="176832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27200" y="442764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08880" y="442764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090560" y="442764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27200" y="39240"/>
            <a:ext cx="9410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272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494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27200" y="4427640"/>
            <a:ext cx="941040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9"/>
          <p:cNvGraphicFramePr/>
          <p:nvPr/>
        </p:nvGraphicFramePr>
        <p:xfrm>
          <a:off x="800280" y="7569360"/>
          <a:ext cx="1800000" cy="17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280" y="7569360"/>
                    <a:ext cx="1800000" cy="1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Text Box 7"/>
          <p:cNvSpPr/>
          <p:nvPr/>
        </p:nvSpPr>
        <p:spPr>
          <a:xfrm>
            <a:off x="-2224080" y="0"/>
            <a:ext cx="2095560" cy="87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封面英文标题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Arial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47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黑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反白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封面中文标题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黑体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40-47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黑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反白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英文内页标题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Arial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30-35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 R153 G0 B0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英文内页正文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 Ar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18-24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R0 G0 B0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中文内页标题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黑体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35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 R153 G0 B0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中文内页正文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细黑体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22-24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R0 G0 B0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</p:txBody>
      </p:sp>
      <p:pic>
        <p:nvPicPr>
          <p:cNvPr id="3" name="Picture 11" descr="海思-修"/>
          <p:cNvPicPr/>
          <p:nvPr/>
        </p:nvPicPr>
        <p:blipFill>
          <a:blip r:embed="rId4"/>
          <a:stretch/>
        </p:blipFill>
        <p:spPr>
          <a:xfrm>
            <a:off x="8504280" y="7481880"/>
            <a:ext cx="1728720" cy="35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33192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4080" indent="-265320">
              <a:spcBef>
                <a:spcPts val="601"/>
              </a:spcBef>
              <a:buClr>
                <a:srgbClr val="808080"/>
              </a:buClr>
              <a:buSzPct val="12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52560" indent="-264960">
              <a:spcBef>
                <a:spcPts val="601"/>
              </a:spcBef>
              <a:buClr>
                <a:srgbClr val="3333ff"/>
              </a:buClr>
              <a:buFont typeface="Wingdings" charset="2"/>
              <a:buChar char="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382840" indent="-2649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382840" indent="-26496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382840" indent="-26496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5D6CABFA-F548-4C20-ACCB-E291ACA29B4F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0" y="1336680"/>
            <a:ext cx="10528200" cy="71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333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8" name="Rectangle 19"/>
          <p:cNvSpPr/>
          <p:nvPr/>
        </p:nvSpPr>
        <p:spPr>
          <a:xfrm>
            <a:off x="0" y="7313760"/>
            <a:ext cx="10528200" cy="71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333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日期占位符 5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37DFA7F3-575B-40FE-925E-40467357709D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53" name="Rectangle 39"/>
          <p:cNvSpPr/>
          <p:nvPr/>
        </p:nvSpPr>
        <p:spPr>
          <a:xfrm>
            <a:off x="0" y="0"/>
            <a:ext cx="10528200" cy="800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pic>
        <p:nvPicPr>
          <p:cNvPr id="54" name="Picture 69" descr="海思-修"/>
          <p:cNvPicPr/>
          <p:nvPr/>
        </p:nvPicPr>
        <p:blipFill>
          <a:blip r:embed="rId1"/>
          <a:stretch/>
        </p:blipFill>
        <p:spPr>
          <a:xfrm>
            <a:off x="0" y="0"/>
            <a:ext cx="10528200" cy="790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Object 14"/>
          <p:cNvGraphicFramePr/>
          <p:nvPr/>
        </p:nvGraphicFramePr>
        <p:xfrm>
          <a:off x="655560" y="7313760"/>
          <a:ext cx="2448000" cy="14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560" y="7313760"/>
                    <a:ext cx="2448000" cy="1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Picture 51" descr="海思-修"/>
          <p:cNvPicPr/>
          <p:nvPr/>
        </p:nvPicPr>
        <p:blipFill>
          <a:blip r:embed="rId4"/>
          <a:stretch/>
        </p:blipFill>
        <p:spPr>
          <a:xfrm>
            <a:off x="7856640" y="7169040"/>
            <a:ext cx="1985760" cy="4111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0"/>
          <p:cNvSpPr/>
          <p:nvPr/>
        </p:nvSpPr>
        <p:spPr>
          <a:xfrm>
            <a:off x="2743200" y="3137040"/>
            <a:ext cx="6985080" cy="268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216000" bIns="216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CT3V-D0173: CE6.h related Removal of division operation for DMM and SDC</a:t>
            </a: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Xiaozhen Zheng</a:t>
            </a: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59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24CF2782-1390-4C02-859E-D12954FBFB6E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xperimental results (4)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6840" y="1767960"/>
            <a:ext cx="8713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2 (A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160640" y="2344680"/>
          <a:ext cx="8207280" cy="4608720"/>
        </p:xfrm>
        <a:graphic>
          <a:graphicData uri="http://schemas.openxmlformats.org/drawingml/2006/table">
            <a:tbl>
              <a:tblPr/>
              <a:tblGrid>
                <a:gridCol w="898200"/>
                <a:gridCol w="806760"/>
                <a:gridCol w="807840"/>
                <a:gridCol w="806400"/>
                <a:gridCol w="806400"/>
                <a:gridCol w="831960"/>
                <a:gridCol w="831960"/>
                <a:gridCol w="806400"/>
                <a:gridCol w="806400"/>
                <a:gridCol w="804960"/>
              </a:tblGrid>
              <a:tr h="76032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video 0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video 1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video 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video PSNR / video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video PSNR / total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ynth PSNR / total bitrate 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en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de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ren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8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Balloons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0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8.9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3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8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Kendo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1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3.6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3.2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0616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Newspaper_CC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7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9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9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8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GT_Fly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3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1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8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Poznan_Hall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7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6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4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48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Poznan_Street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6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8.9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6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12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Undo_Dancer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4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3.3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6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50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24x76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3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4.4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1.5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088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920x108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7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8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7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12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average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99.97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102.4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100.49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B25C90C3-3051-4DFC-AB6A-5046983014AD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proposed solutions can replace division operation for DMM and SDC with LUT with considerabl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olutions don’t have impact on coding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gest adopting the proposed solutions (solution2 is prefer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6DA65343-C876-43C0-9BCF-B1C19DBD8ACC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0" y="0"/>
            <a:ext cx="10528200" cy="8001000"/>
          </a:xfrm>
          <a:prstGeom prst="rect">
            <a:avLst/>
          </a:prstGeom>
          <a:solidFill>
            <a:srgbClr val="a7a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824280" y="47214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Thank you!</a:t>
            </a:r>
            <a:endParaRPr b="0" lang="en-US" sz="4400" spc="-1" strike="noStrike">
              <a:solidFill>
                <a:srgbClr val="6699ff"/>
              </a:solidFill>
              <a:latin typeface="Arial"/>
            </a:endParaRPr>
          </a:p>
        </p:txBody>
      </p:sp>
      <p:grpSp>
        <p:nvGrpSpPr>
          <p:cNvPr id="98" name="Group 4"/>
          <p:cNvGrpSpPr/>
          <p:nvPr/>
        </p:nvGrpSpPr>
        <p:grpSpPr>
          <a:xfrm>
            <a:off x="3763800" y="2122560"/>
            <a:ext cx="3197520" cy="2442960"/>
            <a:chOff x="3763800" y="2122560"/>
            <a:chExt cx="3197520" cy="2442960"/>
          </a:xfrm>
        </p:grpSpPr>
        <p:pic>
          <p:nvPicPr>
            <p:cNvPr id="99" name="Picture 5" descr="风车"/>
            <p:cNvPicPr/>
            <p:nvPr/>
          </p:nvPicPr>
          <p:blipFill>
            <a:blip r:embed="rId1"/>
            <a:srcRect l="17909" t="40828" r="0" b="0"/>
            <a:stretch/>
          </p:blipFill>
          <p:spPr>
            <a:xfrm>
              <a:off x="3816360" y="2173320"/>
              <a:ext cx="3105000" cy="23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Rectangle 6"/>
            <p:cNvSpPr/>
            <p:nvPr/>
          </p:nvSpPr>
          <p:spPr>
            <a:xfrm>
              <a:off x="3763800" y="2122560"/>
              <a:ext cx="3197520" cy="2442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spcBef>
                  <a:spcPts val="649"/>
                </a:spcBef>
                <a:buClr>
                  <a:srgbClr val="cc0000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6699ff"/>
                </a:solidFill>
                <a:latin typeface="Arial"/>
              </a:endParaRPr>
            </a:p>
          </p:txBody>
        </p:sp>
      </p:grpSp>
      <p:sp>
        <p:nvSpPr>
          <p:cNvPr id="101" name="Text Box 7"/>
          <p:cNvSpPr/>
          <p:nvPr/>
        </p:nvSpPr>
        <p:spPr>
          <a:xfrm>
            <a:off x="4400640" y="55134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www.hisilicon.com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日期占位符 5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3FA8E267-8AB5-4C68-A702-2C7B3D270392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6840" y="1768320"/>
            <a:ext cx="84978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331920">
              <a:spcBef>
                <a:spcPts val="550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ove division operations for DMM and SD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55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331920">
              <a:spcBef>
                <a:spcPts val="550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lution1: 0.0% / -0.1% for CTC, 0.0% / 0.0% for All-intra on video / synthesized view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1920">
              <a:spcBef>
                <a:spcPts val="550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lution2: 0.0% / 0.1% for CTC, 0.0% / 0.0% for All-intra on video / synthesized 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check: JCT3V-D0204 by Qualco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vision operation in DMM and SDC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074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MM might partition a square block into two non-rectangular part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331920">
              <a:spcBef>
                <a:spcPts val="550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blem: The number of samples can’t be represented as 2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which means the division for DC calculation can’t be simply achieved by the right shift ope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1920">
              <a:spcBef>
                <a:spcPts val="550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values of numerator and denominator are changed in same time that cause the size of look-up table (LUT) for the storage of division results is extremely lar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550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日期占位符 5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BF731908-CE36-4A38-9FD9-FA3C295AB55B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519200" y="4863960"/>
          <a:ext cx="7705800" cy="2016360"/>
        </p:xfrm>
        <a:graphic>
          <a:graphicData uri="http://schemas.openxmlformats.org/drawingml/2006/table">
            <a:tbl>
              <a:tblPr/>
              <a:tblGrid>
                <a:gridCol w="1301760"/>
                <a:gridCol w="2409840"/>
                <a:gridCol w="2409840"/>
                <a:gridCol w="1584360"/>
              </a:tblGrid>
              <a:tr h="1008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Numerator (summary of samples value)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Denominator (number of samples)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LUT size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DMM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r>
                        <a:rPr b="0" lang="en-CA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3</a:t>
                      </a:r>
                      <a:endParaRPr b="0" lang="en-US" sz="14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r>
                        <a:rPr b="0" lang="en-CA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14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r>
                        <a:rPr b="0" lang="en-CA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8</a:t>
                      </a:r>
                      <a:endParaRPr b="0" lang="en-US" sz="14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SDC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r>
                        <a:rPr b="0" lang="en-CA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8</a:t>
                      </a:r>
                      <a:endParaRPr b="0" lang="en-US" sz="14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r>
                        <a:rPr b="0" lang="en-CA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</a:t>
                      </a:r>
                      <a:endParaRPr b="0" lang="en-US" sz="14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r>
                        <a:rPr b="0" lang="en-CA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8</a:t>
                      </a:r>
                      <a:endParaRPr b="0" lang="en-US" sz="14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General concept for division free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6840" y="1768320"/>
            <a:ext cx="92170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concept as motion vector scaling in HE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331920">
              <a:spcBef>
                <a:spcPts val="550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parate the calculation of denominator and numerator into two ste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499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x = ( 16384 + ( Abs( td )  &gt;&gt;  1 ) ) / t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spcBef>
                <a:spcPts val="499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stScaleFactor = Clip3( −4096, 4095, ( tb * tx + 32 )  &gt;&gt;  6 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331920">
              <a:spcBef>
                <a:spcPts val="550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UT size is much smaller by using the separation calc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日期占位符 5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94287E80-0BAB-4C7C-82D8-72A37843243A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roposed solution1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14544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 the method for motion vector sc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331920">
              <a:spcBef>
                <a:spcPts val="550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1: calculate the 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reciprocal of denomin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X = (0x1000 + (numNeigh &gt;&gt; 1)) / numNeigh (D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X = (0x10000 + numPred&gt;&gt;1) / numPred (SD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1920">
              <a:spcBef>
                <a:spcPts val="550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Step 2: Calculate DC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DcVal = Clip(0, 255, ( sumNeigh x iX + 0x800 ) &gt;&gt; 12)  (D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cPred[p] = Clip (0, 255, (iX x sumPred + 0x8000) &gt;&gt; 16)  (SD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1920">
              <a:spcBef>
                <a:spcPts val="550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The LUT size is significantly redu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-265320">
              <a:spcBef>
                <a:spcPts val="499"/>
              </a:spcBef>
              <a:buClr>
                <a:srgbClr val="808080"/>
              </a:buClr>
              <a:buSzPct val="120000"/>
              <a:buFont typeface="Wingdings" charset="2"/>
              <a:buChar char="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CA" sz="2000" spc="-1" strike="noStrike">
                <a:solidFill>
                  <a:srgbClr val="333333"/>
                </a:solidFill>
                <a:latin typeface="Arial"/>
              </a:rPr>
              <a:t>DMM: From 2</a:t>
            </a:r>
            <a:r>
              <a:rPr b="0" lang="en-CA" sz="2000" spc="-1" strike="noStrike" baseline="30000">
                <a:solidFill>
                  <a:srgbClr val="333333"/>
                </a:solidFill>
                <a:latin typeface="Arial"/>
              </a:rPr>
              <a:t>18</a:t>
            </a:r>
            <a:r>
              <a:rPr b="0" lang="en-CA" sz="2000" spc="-1" strike="noStrike">
                <a:solidFill>
                  <a:srgbClr val="333333"/>
                </a:solidFill>
                <a:latin typeface="Arial"/>
              </a:rPr>
              <a:t> to 2</a:t>
            </a:r>
            <a:r>
              <a:rPr b="0" lang="en-CA" sz="2000" spc="-1" strike="noStrike" baseline="30000">
                <a:solidFill>
                  <a:srgbClr val="333333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324080" indent="-265320">
              <a:spcBef>
                <a:spcPts val="499"/>
              </a:spcBef>
              <a:buClr>
                <a:srgbClr val="808080"/>
              </a:buClr>
              <a:buSzPct val="120000"/>
              <a:buFont typeface="Wingdings" charset="2"/>
              <a:buChar char="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DC: 2</a:t>
            </a:r>
            <a:r>
              <a:rPr b="0" lang="en-US" sz="2000" spc="-1" strike="noStrike" baseline="30000">
                <a:solidFill>
                  <a:srgbClr val="333333"/>
                </a:solidFill>
                <a:latin typeface="Arial"/>
              </a:rPr>
              <a:t>28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to 2</a:t>
            </a:r>
            <a:r>
              <a:rPr b="0" lang="en-US" sz="2000" spc="-1" strike="noStrike" baseline="30000">
                <a:solidFill>
                  <a:srgbClr val="333333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日期占位符 5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6556D652-4664-41F0-A38A-EB96EBAEB3CA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roposed solution2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14544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same LUT of motion vector scaling for DMM and S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331920">
              <a:spcBef>
                <a:spcPts val="550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MM: Same steps as motion vector scal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-265320">
              <a:spcBef>
                <a:spcPts val="451"/>
              </a:spcBef>
              <a:buClr>
                <a:srgbClr val="808080"/>
              </a:buClr>
              <a:buSzPct val="120000"/>
              <a:buFont typeface="Wingdings" charset="2"/>
              <a:buChar char="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TEP1: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X = (0x4000 + (numNeigh &gt;&gt; 1)) / numNeig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324080" indent="-265320">
              <a:spcBef>
                <a:spcPts val="451"/>
              </a:spcBef>
              <a:buClr>
                <a:srgbClr val="808080"/>
              </a:buClr>
              <a:buSzPct val="120000"/>
              <a:buFont typeface="Wingdings" charset="2"/>
              <a:buChar char="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TEP2: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predDcVal =Clip(0, 255, ( sumNeigh x iX + 0x2000 ) &gt;&gt; 14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860400" indent="-331920">
              <a:spcBef>
                <a:spcPts val="550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DC: A pre-right shift is added to the denominator whose value is larger than 12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-265320">
              <a:spcBef>
                <a:spcPts val="451"/>
              </a:spcBef>
              <a:buClr>
                <a:srgbClr val="808080"/>
              </a:buClr>
              <a:buSzPct val="120000"/>
              <a:buFont typeface="Wingdings" charset="2"/>
              <a:buChar char="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TEP1: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X = (0x4000 + numPred&gt;&gt;1) / numPred (0&lt;numPred&lt;128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324080" indent="0">
              <a:spcBef>
                <a:spcPts val="451"/>
              </a:spcBef>
              <a:buNone/>
              <a:tabLst>
                <a:tab algn="l" pos="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X = (0x4000 + numPred&gt;&gt;4) / (numPred&gt;&gt;3) (numPred&gt;=128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324080" indent="-265320">
              <a:spcBef>
                <a:spcPts val="499"/>
              </a:spcBef>
              <a:buClr>
                <a:srgbClr val="808080"/>
              </a:buClr>
              <a:buSzPct val="120000"/>
              <a:buFont typeface="Wingdings" charset="2"/>
              <a:buChar char="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TEP2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324080" indent="0">
              <a:spcBef>
                <a:spcPts val="451"/>
              </a:spcBef>
              <a:buNone/>
              <a:tabLst>
                <a:tab algn="l" pos="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dcPred[p] = Clip (0, 255, (iX x sumPred + 0x2000) &gt;&gt; 14) (0&lt;numPred&lt;128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324080" indent="0">
              <a:spcBef>
                <a:spcPts val="451"/>
              </a:spcBef>
              <a:buNone/>
              <a:tabLst>
                <a:tab algn="l" pos="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dcPred[p] = Clip (0, 255, (iX x sumPred + 0x10000) &gt;&gt; 17) (numPred&gt;=128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860400" indent="-331920">
              <a:spcBef>
                <a:spcPts val="550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tion vector scaling’s LUT can be totally used at DMM and SD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550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55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日期占位符 5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BA046429-97B1-49DD-A64A-C2EAA1014666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B7491118-CBDB-47DF-B2EE-73528BC83C5E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xperimental results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6840" y="1767960"/>
            <a:ext cx="8713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1 (C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160640" y="2344680"/>
          <a:ext cx="8207280" cy="4608720"/>
        </p:xfrm>
        <a:graphic>
          <a:graphicData uri="http://schemas.openxmlformats.org/drawingml/2006/table">
            <a:tbl>
              <a:tblPr/>
              <a:tblGrid>
                <a:gridCol w="898200"/>
                <a:gridCol w="806760"/>
                <a:gridCol w="807840"/>
                <a:gridCol w="806400"/>
                <a:gridCol w="806400"/>
                <a:gridCol w="831960"/>
                <a:gridCol w="831960"/>
                <a:gridCol w="806400"/>
                <a:gridCol w="806400"/>
                <a:gridCol w="804960"/>
              </a:tblGrid>
              <a:tr h="76032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video 0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video 1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video 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video PSNR / video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video PSNR / total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ynth PSNR / total bitrate 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en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de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ren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8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Balloons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3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8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Kendo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8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0616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Newspaper_CC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6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1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8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GT_Fly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6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8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Poznan_Hall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5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4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48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Poznan_Street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8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3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12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Undo_Dancer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8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2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50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24x76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6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088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920x108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2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12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average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10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102.4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101.7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F33EBC18-6159-4DED-8003-F82126D066FA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xperimental results (2)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26840" y="1767960"/>
            <a:ext cx="8713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1 (A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160640" y="2344680"/>
          <a:ext cx="8207280" cy="4608720"/>
        </p:xfrm>
        <a:graphic>
          <a:graphicData uri="http://schemas.openxmlformats.org/drawingml/2006/table">
            <a:tbl>
              <a:tblPr/>
              <a:tblGrid>
                <a:gridCol w="898200"/>
                <a:gridCol w="806760"/>
                <a:gridCol w="807840"/>
                <a:gridCol w="806400"/>
                <a:gridCol w="806400"/>
                <a:gridCol w="831960"/>
                <a:gridCol w="831960"/>
                <a:gridCol w="806400"/>
                <a:gridCol w="806400"/>
                <a:gridCol w="804960"/>
              </a:tblGrid>
              <a:tr h="76032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video 0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video 1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video 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video PSNR / video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video PSNR / total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ynth PSNR / total bitrate 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en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de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ren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8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Balloons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9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2.7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1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8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Kendo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9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3.1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9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0616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Newspaper_CC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0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3.4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1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8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GT_Fly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5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9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3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8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Poznan_Hall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3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2.2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7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48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Poznan_Street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5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3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8.8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12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Undo_Dancer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2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6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8.2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50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24x76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9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3.1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0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088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920x108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4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8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3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12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average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99.66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101.79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99.64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A95C3ECE-73E6-4F74-A5CD-D81342882ABC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xperimental results (3)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26840" y="1767960"/>
            <a:ext cx="8713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2 (C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160640" y="2344680"/>
          <a:ext cx="8207280" cy="4608720"/>
        </p:xfrm>
        <a:graphic>
          <a:graphicData uri="http://schemas.openxmlformats.org/drawingml/2006/table">
            <a:tbl>
              <a:tblPr/>
              <a:tblGrid>
                <a:gridCol w="898200"/>
                <a:gridCol w="806760"/>
                <a:gridCol w="807840"/>
                <a:gridCol w="806400"/>
                <a:gridCol w="806400"/>
                <a:gridCol w="831960"/>
                <a:gridCol w="831960"/>
                <a:gridCol w="806400"/>
                <a:gridCol w="806400"/>
                <a:gridCol w="804960"/>
              </a:tblGrid>
              <a:tr h="76032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video 0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video 1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video 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video PSNR / video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video PSNR / total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ynth PSNR / total bitrate 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en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de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ren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8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Balloons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1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8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Kendo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6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0616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Newspaper_CC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14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8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GT_Fly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5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1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8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Poznan_Hall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1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4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48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Poznan_Street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1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12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Undo_Dancer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7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50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24x76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3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088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920x108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8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1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12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average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100.2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100.8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101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08:10:34Z</dcterms:created>
  <dc:creator>guopeng</dc:creator>
  <dc:description/>
  <dc:language>en-US</dc:language>
  <cp:lastModifiedBy>Xiaozhen Zheng</cp:lastModifiedBy>
  <dcterms:modified xsi:type="dcterms:W3CDTF">2013-04-21T07:45:48Z</dcterms:modified>
  <cp:revision>7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89840466</vt:lpwstr>
  </property>
</Properties>
</file>