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5342-C98A-4F54-B4DA-C12CF9B31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7DEA-57C7-4DED-BA55-EE60FA247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EE10-0850-4665-BBEE-D0123858A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BFC3-5BE6-4F27-B5C5-70E029D0B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4004-91F7-44B0-90BC-C6CD06DF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8750-F9E3-4B27-B719-8639649CE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FB5F-F0AD-4747-B1E8-E1BC1C9EC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A62B-E15B-4048-955B-64ED768E2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E406-4192-42D9-871E-E24B098E5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BE9C-C31F-424D-BE47-8A4E85915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A561-A069-4EB3-BAA8-DA3F67C0F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0E4F-E44C-49E8-90D6-CCF20E3C7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D509-F6BD-48E9-8303-B930742EEC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D01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3V-D01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-view scaling for DV der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9600" y="407988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cheng An, Kai Zhang, Jian-Liang Lin, and Shawmin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600" y="267336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iew scaling for DV derivation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aling with some inconsistent cases of reference 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act for common test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% gain for video 2 for IBP view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un-tim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903-70CA-4204-8B31-0C508B0E6F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V derivation in HTM6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rive NBDV associated with a reference view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rive DoNBDV by using the derived NBDV and dep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blem1: Currently the view index of depth map is always 0, and the view index of NBDV has no restriction. They may not be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8A5-E7B4-40D5-A08D-10C049F65F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od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rive NBDV associated with a reference view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rive DoNBDV by using the derived NBDV and dep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If the view index of derived NBDV is not equal to the view index of depth map, then the derived NBDV is scaled with the difference between these two view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067-5D90-4BD6-A1C2-E2246D2A09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of Derived DV in HTM6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NBDV used for temporal inter-view candidate (TI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blem2: The reference view of TIVC, which is the smallest view that included in the reference list, could be different from the reference view of the DoNBD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NBDV used for disparity inter-view candidate (DI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blem3: The reference view of DIVC, which is directly the reference picture, could be different from the reference view of the DoNBD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BDV used for inter-view residual prediction (IV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blem4: The reference view of IVRP, which is always the base view, could be different from the reference view of the NBD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D35B-2C26-4497-A8D2-0F09770240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od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NBDV used for temporal inter-view candidate (TI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If the reference view index of TIVM is not equal to that of the DoNBDV, then the DoNBDV is scaled with the difference between these two view ind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NBDV used for disparity inter-view candidate (DI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If the reference view index of DIVM is not equal to that of the DoNBDV, then the DoNBDV is scaled with the difference between these two view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BDV used for inter-view residual prediction (IV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If the reference view index of IVRP is not equal to that of the NBDV, then the NBDV is scaled with the difference between these two view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3AD-6334-4725-8C05-F851C6240D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22824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condition (IBP view configur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2080" y="114300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view coding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:  Left/right, right/left,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C:  center, left/right, right/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redic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527120" y="3352680"/>
            <a:ext cx="5940360" cy="2186280"/>
          </a:xfrm>
          <a:prstGeom prst="rect">
            <a:avLst/>
          </a:prstGeom>
          <a:ln w="0">
            <a:noFill/>
          </a:ln>
        </p:spPr>
      </p:pic>
      <p:sp>
        <p:nvSpPr>
          <p:cNvPr id="107" name="灯片编号占位符 4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8453-CB6F-4AB1-8023-857D4FC5E44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odifications vs. HTM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2441520"/>
          <a:ext cx="8229600" cy="3121200"/>
        </p:xfrm>
        <a:graphic>
          <a:graphicData uri="http://schemas.openxmlformats.org/drawingml/2006/table">
            <a:tbl>
              <a:tblPr/>
              <a:tblGrid>
                <a:gridCol w="901800"/>
                <a:gridCol w="846000"/>
                <a:gridCol w="846360"/>
                <a:gridCol w="846000"/>
                <a:gridCol w="846360"/>
                <a:gridCol w="846000"/>
                <a:gridCol w="844560"/>
                <a:gridCol w="750960"/>
                <a:gridCol w="750960"/>
                <a:gridCol w="750600"/>
              </a:tblGrid>
              <a:tr h="4651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PSNR / video bit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PSNR / total bit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h PSNR / total bit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52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paper_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T_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an_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an_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o_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4x7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x1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4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9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灯片编号占位符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ED54-8D45-4609-A868-6A258A9E29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iew scaling for DV derivation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aling with some inconsistent cases of referenc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act for common test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% gain for video 2 for IBP view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un-tim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CFB5-944D-44F0-96B2-D7E44E0B97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bj</cp:lastModifiedBy>
  <dcterms:modified xsi:type="dcterms:W3CDTF">2013-04-18T07:51:34Z</dcterms:modified>
  <cp:revision>310</cp:revision>
  <dc:subject/>
  <dc:title>In slice hea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2821829</vt:r8>
  </property>
  <property fmtid="{D5CDD505-2E9C-101B-9397-08002B2CF9AE}" pid="3" name="_AuthorEmail">
    <vt:lpwstr>Jicheng.An@mediatek.com</vt:lpwstr>
  </property>
  <property fmtid="{D5CDD505-2E9C-101B-9397-08002B2CF9AE}" pid="4" name="_AuthorEmailDisplayName">
    <vt:lpwstr>Jicheng An (安基程)</vt:lpwstr>
  </property>
  <property fmtid="{D5CDD505-2E9C-101B-9397-08002B2CF9AE}" pid="5" name="_EmailSubject">
    <vt:lpwstr>my updated proposal and slides </vt:lpwstr>
  </property>
  <property fmtid="{D5CDD505-2E9C-101B-9397-08002B2CF9AE}" pid="6" name="_NewReviewCycle">
    <vt:lpwstr/>
  </property>
</Properties>
</file>