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68442-AFCC-42C0-86A7-4759EA0F7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E59E-DB34-4420-BC5F-03562411A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EF08-2879-4F0B-B0CB-8061EC996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43D1-9A12-4DAD-9396-5F5189119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4AEF-1047-4BFF-BDFA-DFD70C823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A56B-37BB-405E-A576-C0FFAE021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A7C1-9558-4FFE-A2F6-8A2A69349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8161C-1DDB-4F16-B9B2-270C82475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E15F-3F09-46EC-8297-430CABC21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73DD-B8E7-400A-A029-409D4DE8E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5CB8-F35A-461F-9F13-F9590962B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0D9F-7543-42C6-9FD9-1FD6F5EE0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A0A5-DE0B-41E1-8D33-C8297BE852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3V-D01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3V-D01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D-CE4.h related: Limited inter-view residual prediction by CBF chec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9600" y="407988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cheng An, Kai Zhang, Jian-Liang Lin, and Shawmin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ble the inter-view residual prediction when the center TU in the reference block does not contain non-zero 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many inefficient IVRP cases whose reference residual block contain mostly the zero s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% decoding time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% BD-rate gain for V1, 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灯片编号占位符 3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4049-7EDE-43F8-991A-43B4054A144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-view residual prediction in HTM6.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IVRP is enabled when the temporal inter-view merge candidate with 2Nx2N partition is selec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derived DV is used to locate the reference block in reference view to do IV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ever, in many cases, the reference residual block contains few non-zero transform coefficients. In those cases, the RD performance cannot justify the computational cost due to the addition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灯片编号占位符 3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250E-183D-49EA-B94F-4666DC7B315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CBF Chec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sable the IVRP if the transform unit (TU), which covers the center sample of the reference block in reference view, does not contain non-zero CB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us, the inefficient reference residual blocks which mostly contain zero residual samples would be removed from the IVRP mode so that the average computational complexity is redu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13E2-8EA3-4A77-8E90-3C69970B3A8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imental Resul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method vs. HTM6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BB30-CE28-48A0-A912-0B244BC81E8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7770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ble the inter-view residual prediction when the center TU in the reference block does not contain non-zero 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many inefficient IVRP cases whose reference residual block contain mostly the zero s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% decoding time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% BD-rate gain for V1, 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灯片编号占位符 3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20C7-6309-4A9E-917D-147EED35A15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9600" y="407988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142920"/>
            <a:ext cx="805968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ced residual prediction for multiview coding (D0177, QC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22080" y="1071720"/>
            <a:ext cx="8055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Encoding RDO ti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 times need to try: ARP weight = 0, 1, 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% encoding time incr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syntax element to parsing in CU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ABAC context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kinds of interpolation fil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CTIF and bi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ference pictures needed in on-chip mem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wo more ref pic with ref_idx=0 from both li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motion compensation in bas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8E6C-4F0F-4069-8B6B-6C3A142F17B5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Yulin Chang</cp:lastModifiedBy>
  <dcterms:modified xsi:type="dcterms:W3CDTF">2013-04-20T10:15:16Z</dcterms:modified>
  <cp:revision>315</cp:revision>
  <dc:subject/>
  <dc:title>In slice header</dc:title>
</cp:coreProperties>
</file>