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553AE-02A0-4B3F-BA16-7EE58A630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3003-6C0E-48DF-BE93-042CBF2C6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FAA0D-F104-49BC-A0D1-8FCFEB846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B479A-52BC-4EF6-B91B-9BA0D3504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226E-DFAA-4C5D-8EFA-F7B235899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8948-C8F3-4F56-B3E8-1843613EF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43F3-2A8F-475A-9EF2-8AC96246F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FE57-A2FE-465E-AD6C-5E47A8F36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219F0-C714-4391-81A4-653FFFB9F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02746-C503-4AA6-909F-DDA02CF5C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B57C2-6773-4B4A-8995-F411DE8A5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6299-A2A9-459F-909C-797B570FA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2D28-1B30-423A-9793-193E5A1056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3V-D01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3V-D01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Unification of the Reference View for Inter-view Motion Prediction and Inter-view Residual Predi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1295280" y="420228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cheng An, Jian-Liang Lin, Kai Zhang, and Shawmin 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4800600" y="5621400"/>
            <a:ext cx="40338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Presented b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an-Liang 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10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 MPEG Meeting in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nche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20-26 Apr.,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nify the reference view for the inter-view motion prediction and inter-view residual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roviding a syntax in slice header to identify the reference view picture from the reference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ication of signaling reference view and collocated temporal reference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in reference view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rohibiting the reference view to be changed on every slice in a same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acilitate the management of decoded motion and residu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D performance impact (0.0% for synthesized resul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9DDB-04E1-44D3-959A-C295BAE5611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ce View Setting in HTM6.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view for inter-view motion prediction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VM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iew with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mallest view inde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view for inter-view residual prediction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VR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iew with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iew index equal to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VRP is combined with IVMP, so the reference views for IVMP and for IVRP should be un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DC6F-63FA-494A-B065-AC0A91C7F77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roposed Unification of the Reference View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imilar to the signalling of the collocated reference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ignal the reference view from reference lists in the slice header, and semantically restrict that all slices in a picture shall point to a same reference view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灯片编号占位符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D1C5-095B-4962-9BDC-692365ABEF9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表格 4" descr=""/>
          <p:cNvPicPr/>
          <p:nvPr/>
        </p:nvPicPr>
        <p:blipFill>
          <a:blip r:embed="rId1"/>
          <a:stretch/>
        </p:blipFill>
        <p:spPr>
          <a:xfrm>
            <a:off x="768240" y="3402000"/>
            <a:ext cx="81439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roposed Unification of the Reference View (cont.)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ication of reference view for IVMP and IV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ication of signaling reference view and collocated temporal reference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acilitate the management of decoded motion and residu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flexibility in reference view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A282-9B99-40E5-8C62-EF660B9D56D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method vs. HTM6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difference is that more several bits in slice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4A1A-14A0-4B5C-B4D3-9BB0537C647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24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Unify the reference view for the inter-view motion prediction and inter-view residual predi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Providing a syntax in slice header to identify the reference view picture from the reference lis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Prohibiting the reference view to be changed on every slice in a same pic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fication of signaling reference view and collocated temporal reference pi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Facilitate the management of decoded motion and residual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flexibility in reference view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RD performance impact (0.0% for synthesized resul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9BE9-08CE-4DAB-B3B5-4FB2F7FA091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9600" y="267336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s for your attention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tk02478</cp:lastModifiedBy>
  <dcterms:modified xsi:type="dcterms:W3CDTF">2013-04-20T10:22:06Z</dcterms:modified>
  <cp:revision>309</cp:revision>
  <dc:subject/>
  <dc:title>In slice header</dc:title>
</cp:coreProperties>
</file>