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8A8-73E5-40F7-B504-BA981457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481-611F-44DA-AFF4-128282F4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E20-67A2-4B3F-88F1-04B8AD61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6C0-39DB-46B9-A642-68CBC9A6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65A-426B-4AC0-A342-994C798C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9FC-18DB-460D-B057-867B8FF4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BE7-7F3C-40FE-82EE-4DC909F3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68F-31B6-4383-990B-BE6C3BC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C80-707A-490B-A302-488837D0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885-8BF3-40C2-B115-6418013F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CC4-A149-4CBB-822F-DD55CCD2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6EE-ADB0-4011-A22A-DD0AA464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8FDD4-D243-4EB8-989B-DA5AFE9187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6A64A-9F9F-4725-A55C-8E5C83956A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0A75E-7B17-4522-917F-4DBEFD9B71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C8845-143A-4287-8CF2-535D1E8378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0F315-3DCA-482E-935C-2911E7D47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9078C-C855-42DB-BF56-22A054FD38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EC4BA-979B-4AE7-9D52-8A8B1D008D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29776-3418-4949-B18C-E9E8D451CE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7BD11-4C14-473B-95F7-B80FA338D3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29AF6-F21E-4FB1-B48A-6FE251F5E4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68EC9-9A80-4836-87AC-5DD2E8AAF5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642AC-4D2D-4D6B-8F3D-FA76351B0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B318-A6CC-4B56-BB20-DDAFF49CDC7C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B086-1566-4BC4-BC04-14DB1176E64D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201600" y="1268280"/>
            <a:ext cx="9507600" cy="1297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3D-CE1.h related: Results on Removal of BVSP for Depth Cod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(JCT3V-D0139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148280" y="5378400"/>
            <a:ext cx="16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April 20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3913200" y="5756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0" y="3714840"/>
            <a:ext cx="9906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Jin Heo (jin78.heo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ehoon Yea (sehoon.ye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5800" y="691920"/>
            <a:ext cx="918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ward-warping view synthesis prediction (BVSP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직사각형 3"/>
          <p:cNvSpPr/>
          <p:nvPr/>
        </p:nvSpPr>
        <p:spPr>
          <a:xfrm>
            <a:off x="3324240" y="3632040"/>
            <a:ext cx="331920" cy="358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직사각형 4"/>
          <p:cNvSpPr/>
          <p:nvPr/>
        </p:nvSpPr>
        <p:spPr>
          <a:xfrm>
            <a:off x="2492280" y="3244680"/>
            <a:ext cx="1828800" cy="198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3324240" y="3622680"/>
            <a:ext cx="66348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직사각형 6"/>
          <p:cNvSpPr/>
          <p:nvPr/>
        </p:nvSpPr>
        <p:spPr>
          <a:xfrm>
            <a:off x="5526000" y="1967040"/>
            <a:ext cx="1828800" cy="197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직사각형 7"/>
          <p:cNvSpPr/>
          <p:nvPr/>
        </p:nvSpPr>
        <p:spPr>
          <a:xfrm>
            <a:off x="5526000" y="4235400"/>
            <a:ext cx="1828800" cy="197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8"/>
          <p:cNvSpPr/>
          <p:nvPr/>
        </p:nvSpPr>
        <p:spPr>
          <a:xfrm>
            <a:off x="6024600" y="4919760"/>
            <a:ext cx="331920" cy="35856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직선 연결선 9"/>
          <p:cNvSpPr/>
          <p:nvPr/>
        </p:nvSpPr>
        <p:spPr>
          <a:xfrm>
            <a:off x="3324240" y="3983040"/>
            <a:ext cx="663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선 연결선 10"/>
          <p:cNvSpPr/>
          <p:nvPr/>
        </p:nvSpPr>
        <p:spPr>
          <a:xfrm>
            <a:off x="3656160" y="362268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5" name="그룹 11"/>
          <p:cNvGrpSpPr/>
          <p:nvPr/>
        </p:nvGrpSpPr>
        <p:grpSpPr>
          <a:xfrm>
            <a:off x="6489720" y="2487600"/>
            <a:ext cx="665280" cy="719280"/>
            <a:chOff x="6489720" y="2487600"/>
            <a:chExt cx="665280" cy="719280"/>
          </a:xfrm>
        </p:grpSpPr>
        <p:sp>
          <p:nvSpPr>
            <p:cNvPr id="136" name="직사각형 24"/>
            <p:cNvSpPr/>
            <p:nvPr/>
          </p:nvSpPr>
          <p:spPr>
            <a:xfrm>
              <a:off x="6489720" y="2489040"/>
              <a:ext cx="333360" cy="358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25"/>
            <p:cNvSpPr/>
            <p:nvPr/>
          </p:nvSpPr>
          <p:spPr>
            <a:xfrm>
              <a:off x="6489720" y="2487600"/>
              <a:ext cx="665280" cy="71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직선 연결선 26"/>
            <p:cNvSpPr/>
            <p:nvPr/>
          </p:nvSpPr>
          <p:spPr>
            <a:xfrm flipH="1">
              <a:off x="6489720" y="2847960"/>
              <a:ext cx="665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직선 연결선 27"/>
            <p:cNvSpPr/>
            <p:nvPr/>
          </p:nvSpPr>
          <p:spPr>
            <a:xfrm>
              <a:off x="6823080" y="2487600"/>
              <a:ext cx="0" cy="719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0" name="직선 연결선 12"/>
          <p:cNvSpPr/>
          <p:nvPr/>
        </p:nvSpPr>
        <p:spPr>
          <a:xfrm flipV="1">
            <a:off x="3365640" y="2506680"/>
            <a:ext cx="3120840" cy="11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13"/>
          <p:cNvSpPr/>
          <p:nvPr/>
        </p:nvSpPr>
        <p:spPr>
          <a:xfrm flipH="1">
            <a:off x="6024240" y="2486160"/>
            <a:ext cx="468360" cy="243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4"/>
          <p:cNvSpPr/>
          <p:nvPr/>
        </p:nvSpPr>
        <p:spPr>
          <a:xfrm>
            <a:off x="507960" y="3983040"/>
            <a:ext cx="19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endent view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Texture or depth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직사각형 15"/>
          <p:cNvSpPr/>
          <p:nvPr/>
        </p:nvSpPr>
        <p:spPr>
          <a:xfrm>
            <a:off x="7370640" y="4857840"/>
            <a:ext cx="20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 view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Texture or depth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16"/>
          <p:cNvSpPr/>
          <p:nvPr/>
        </p:nvSpPr>
        <p:spPr>
          <a:xfrm>
            <a:off x="7354800" y="2759040"/>
            <a:ext cx="19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 vie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Depth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선 연결선 17"/>
          <p:cNvSpPr/>
          <p:nvPr/>
        </p:nvSpPr>
        <p:spPr>
          <a:xfrm flipH="1" flipV="1">
            <a:off x="3298680" y="3622320"/>
            <a:ext cx="2725920" cy="1297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18"/>
          <p:cNvSpPr/>
          <p:nvPr/>
        </p:nvSpPr>
        <p:spPr>
          <a:xfrm>
            <a:off x="3016080" y="4354560"/>
            <a:ext cx="12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rrent Blo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직사각형 19"/>
          <p:cNvSpPr/>
          <p:nvPr/>
        </p:nvSpPr>
        <p:spPr>
          <a:xfrm>
            <a:off x="6180120" y="2201760"/>
            <a:ext cx="128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Dep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직사각형 20"/>
          <p:cNvSpPr/>
          <p:nvPr/>
        </p:nvSpPr>
        <p:spPr>
          <a:xfrm>
            <a:off x="5541840" y="5289480"/>
            <a:ext cx="12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Blo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모서리가 둥근 직사각형 21"/>
          <p:cNvSpPr/>
          <p:nvPr/>
        </p:nvSpPr>
        <p:spPr>
          <a:xfrm>
            <a:off x="6316560" y="3153600"/>
            <a:ext cx="905040" cy="907560"/>
          </a:xfrm>
          <a:custGeom>
            <a:avLst/>
            <a:gdLst>
              <a:gd name="textAreaLeft" fmla="*/ 132480 w 905040"/>
              <a:gd name="textAreaRight" fmla="*/ 772560 w 905040"/>
              <a:gd name="textAreaTop" fmla="*/ 132480 h 907560"/>
              <a:gd name="textAreaBottom" fmla="*/ 775080 h 907560"/>
            </a:gdLst>
            <a:ahLst/>
            <a:rect l="textAreaLeft" t="textAreaTop" r="textAreaRight" b="textAreaBottom"/>
            <a:pathLst>
              <a:path w="21600" h="21660">
                <a:moveTo>
                  <a:pt x="10800" y="0"/>
                </a:moveTo>
                <a:arcTo wR="10800" hR="10800" stAng="16200000" swAng="-5400000"/>
                <a:lnTo>
                  <a:pt x="0" y="10860"/>
                </a:lnTo>
                <a:arcTo wR="10800" hR="10800" stAng="10800000" swAng="-5400000"/>
                <a:lnTo>
                  <a:pt x="10800" y="216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DV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모서리가 둥근 직사각형 22"/>
          <p:cNvSpPr/>
          <p:nvPr/>
        </p:nvSpPr>
        <p:spPr>
          <a:xfrm>
            <a:off x="4230720" y="2233440"/>
            <a:ext cx="903240" cy="906840"/>
          </a:xfrm>
          <a:custGeom>
            <a:avLst/>
            <a:gdLst>
              <a:gd name="textAreaLeft" fmla="*/ 132120 w 903240"/>
              <a:gd name="textAreaRight" fmla="*/ 771120 w 903240"/>
              <a:gd name="textAreaTop" fmla="*/ 132120 h 906840"/>
              <a:gd name="textAreaBottom" fmla="*/ 774720 h 906840"/>
            </a:gdLst>
            <a:ahLst/>
            <a:rect l="textAreaLeft" t="textAreaTop" r="textAreaRight" b="textAreaBottom"/>
            <a:pathLst>
              <a:path w="21600" h="21686">
                <a:moveTo>
                  <a:pt x="10800" y="0"/>
                </a:moveTo>
                <a:arcTo wR="10800" hR="10800" stAng="16200000" swAng="-5400000"/>
                <a:lnTo>
                  <a:pt x="0" y="10886"/>
                </a:lnTo>
                <a:arcTo wR="10800" hR="10800" stAng="10800000" swAng="-5400000"/>
                <a:lnTo>
                  <a:pt x="10800" y="2168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 D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모서리가 둥근 직사각형 23"/>
          <p:cNvSpPr/>
          <p:nvPr/>
        </p:nvSpPr>
        <p:spPr>
          <a:xfrm>
            <a:off x="4403880" y="4392720"/>
            <a:ext cx="1089000" cy="90828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 Pred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val of VSP candidate from merge candidate li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87400" y="1522440"/>
          <a:ext cx="8109000" cy="2335320"/>
        </p:xfrm>
        <a:graphic>
          <a:graphicData uri="http://schemas.openxmlformats.org/drawingml/2006/table">
            <a:tbl>
              <a:tblPr/>
              <a:tblGrid>
                <a:gridCol w="1728720"/>
                <a:gridCol w="3189240"/>
                <a:gridCol w="3191040"/>
              </a:tblGrid>
              <a:tr h="64764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HTM 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ed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68768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VSP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2790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1862280" y="1387440"/>
            <a:ext cx="61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3DV-HTM 6.0 vs. removal BVSP for depth coding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776160" y="1695600"/>
            <a:ext cx="8353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ve the BVSP approach in depth co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mpact coding performa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김태섭/연구원/Convergence(연)ATS팀(taesup.kim@lge.com)</cp:lastModifiedBy>
  <dcterms:modified xsi:type="dcterms:W3CDTF">2013-04-20T06:21:44Z</dcterms:modified>
  <cp:revision>1798</cp:revision>
  <dc:subject/>
  <dc:title>슬라이드 1</dc:title>
</cp:coreProperties>
</file>