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331-C89E-4CD7-84FB-389E1695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641-1627-488E-B9A6-7DA05D76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15-74CE-4196-9185-EBACA46D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DCD-8DBD-4E31-A1C4-A7628A26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846-8B45-4FFB-B8F0-FED52D2A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C8C-E747-4F20-876F-BD2CE5A5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647-1F73-4C1C-82DE-0272417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142-DCD5-498D-B7F0-F37842D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817-6424-46E7-A0AE-08C9009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29F-A0CD-4B15-A0C1-B62E192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EFF-9AA0-415E-A0DD-1B92D325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2AD-576B-4E67-8FC9-65D4694C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6FF08-14EF-46FC-82BC-404867E374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39684-B767-4BF4-B417-2ADED2B26A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B616A-D47B-42C5-BCB3-EE41D46C02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2E664-98BE-4B2D-A33C-CB29210934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922B2-CEAE-459F-8071-3E9F96E68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D971A-C172-478B-A4B1-500F7DECCB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3515E-0807-4AD9-83B4-FE75CA455A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880F-1E19-4DBE-8530-DEBC2A6A68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F1B7A-BFF3-4765-BA48-9B0F446FFB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9E29-8651-43F1-ACC0-61D503A806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FD8EA-187D-4361-B5CD-CA4BD81CA5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5C662-6D9C-43C7-A5BF-D89060C24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622-8964-4CCB-92B2-9C2E79ED9F64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D61-9F4C-4169-8866-D2FFBA84D1AF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60520" y="1268280"/>
            <a:ext cx="864072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3D-CE6.h related: Improvement of SDC co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(JCT3V-D013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72400" y="53784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April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71880" y="57564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Junghak Nam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junghak.na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Hongbin Liu (hongbin.liu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2280"/>
            <a:ext cx="941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Modification of depth value reconstruction proc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for Simplified Depth Coding (SDC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se of predicted samples instead of DC of predicted samples in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order to get recon. sampl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TC: 0.2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All intra: 0.1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rosscheck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JCT3V-D0159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D2D-8697-4CA9-8D6D-05BA6CCC8127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urrent 3D-HEVC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blem stat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n current 3D-HEVC, use of 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맑은 고딕"/>
              </a:rPr>
              <a:t>p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to get reconstructed samples in SD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B1C-6BB6-47B7-9AB3-9BB0033685CB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직사각형 4"/>
          <p:cNvSpPr/>
          <p:nvPr/>
        </p:nvSpPr>
        <p:spPr>
          <a:xfrm>
            <a:off x="1928880" y="5033880"/>
            <a:ext cx="1139760" cy="8683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5"/>
          <p:cNvSpPr/>
          <p:nvPr/>
        </p:nvSpPr>
        <p:spPr>
          <a:xfrm>
            <a:off x="3782880" y="5033880"/>
            <a:ext cx="1140120" cy="8683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직사각형 6"/>
          <p:cNvSpPr/>
          <p:nvPr/>
        </p:nvSpPr>
        <p:spPr>
          <a:xfrm>
            <a:off x="5637240" y="5033880"/>
            <a:ext cx="1136520" cy="8683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7"/>
          <p:cNvSpPr/>
          <p:nvPr/>
        </p:nvSpPr>
        <p:spPr>
          <a:xfrm>
            <a:off x="7491240" y="5033880"/>
            <a:ext cx="1136880" cy="86832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직사각형 8"/>
          <p:cNvSpPr/>
          <p:nvPr/>
        </p:nvSpPr>
        <p:spPr>
          <a:xfrm>
            <a:off x="1128600" y="5335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a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오른쪽 화살표 9"/>
          <p:cNvSpPr/>
          <p:nvPr/>
        </p:nvSpPr>
        <p:spPr>
          <a:xfrm>
            <a:off x="3268800" y="5295960"/>
            <a:ext cx="336240" cy="371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0"/>
          <p:cNvSpPr/>
          <p:nvPr/>
        </p:nvSpPr>
        <p:spPr>
          <a:xfrm>
            <a:off x="1682640" y="5902200"/>
            <a:ext cx="16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ed samp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1"/>
          <p:cNvSpPr/>
          <p:nvPr/>
        </p:nvSpPr>
        <p:spPr>
          <a:xfrm>
            <a:off x="3577320" y="5902200"/>
            <a:ext cx="15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 predic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12"/>
          <p:cNvSpPr/>
          <p:nvPr/>
        </p:nvSpPr>
        <p:spPr>
          <a:xfrm>
            <a:off x="5550480" y="59022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residua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3"/>
          <p:cNvSpPr/>
          <p:nvPr/>
        </p:nvSpPr>
        <p:spPr>
          <a:xfrm>
            <a:off x="5112000" y="528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사각형 14"/>
          <p:cNvSpPr/>
          <p:nvPr/>
        </p:nvSpPr>
        <p:spPr>
          <a:xfrm>
            <a:off x="7402320" y="5902200"/>
            <a:ext cx="13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ruc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그룹 15"/>
          <p:cNvGrpSpPr/>
          <p:nvPr/>
        </p:nvGrpSpPr>
        <p:grpSpPr>
          <a:xfrm>
            <a:off x="1095840" y="2865240"/>
            <a:ext cx="7532280" cy="866880"/>
            <a:chOff x="1095840" y="2865240"/>
            <a:chExt cx="7532280" cy="866880"/>
          </a:xfrm>
        </p:grpSpPr>
        <p:sp>
          <p:nvSpPr>
            <p:cNvPr id="143" name="직사각형 28"/>
            <p:cNvSpPr/>
            <p:nvPr/>
          </p:nvSpPr>
          <p:spPr>
            <a:xfrm>
              <a:off x="1095840" y="31654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MM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오른쪽 화살표 29"/>
            <p:cNvSpPr/>
            <p:nvPr/>
          </p:nvSpPr>
          <p:spPr>
            <a:xfrm>
              <a:off x="3268440" y="3125880"/>
              <a:ext cx="334800" cy="371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직사각형 30"/>
            <p:cNvSpPr/>
            <p:nvPr/>
          </p:nvSpPr>
          <p:spPr>
            <a:xfrm>
              <a:off x="5111280" y="311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6" name="그룹 31"/>
            <p:cNvGrpSpPr/>
            <p:nvPr/>
          </p:nvGrpSpPr>
          <p:grpSpPr>
            <a:xfrm>
              <a:off x="1928160" y="2865240"/>
              <a:ext cx="1140120" cy="866880"/>
              <a:chOff x="1928160" y="2865240"/>
              <a:chExt cx="1140120" cy="866880"/>
            </a:xfrm>
          </p:grpSpPr>
          <p:sp>
            <p:nvSpPr>
              <p:cNvPr id="147" name="순서도: 수동 입력 42"/>
              <p:cNvSpPr/>
              <p:nvPr/>
            </p:nvSpPr>
            <p:spPr>
              <a:xfrm rot="5400000">
                <a:off x="1884600" y="2909160"/>
                <a:ext cx="866520" cy="779400"/>
              </a:xfrm>
              <a:prstGeom prst="flowChartManualInput">
                <a:avLst/>
              </a:prstGeom>
              <a:solidFill>
                <a:srgbClr val="a6a6a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순서도: 수동 입력 43"/>
              <p:cNvSpPr/>
              <p:nvPr/>
            </p:nvSpPr>
            <p:spPr>
              <a:xfrm rot="16200000">
                <a:off x="2369160" y="3032640"/>
                <a:ext cx="866520" cy="531720"/>
              </a:xfrm>
              <a:prstGeom prst="flowChartManualInput">
                <a:avLst/>
              </a:prstGeom>
              <a:solidFill>
                <a:srgbClr val="bfbfb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9" name="그룹 32"/>
            <p:cNvGrpSpPr/>
            <p:nvPr/>
          </p:nvGrpSpPr>
          <p:grpSpPr>
            <a:xfrm>
              <a:off x="3779280" y="2865240"/>
              <a:ext cx="1140120" cy="866880"/>
              <a:chOff x="3779280" y="2865240"/>
              <a:chExt cx="1140120" cy="866880"/>
            </a:xfrm>
          </p:grpSpPr>
          <p:sp>
            <p:nvSpPr>
              <p:cNvPr id="150" name="순서도: 수동 입력 40"/>
              <p:cNvSpPr/>
              <p:nvPr/>
            </p:nvSpPr>
            <p:spPr>
              <a:xfrm rot="5400000">
                <a:off x="3735000" y="2909880"/>
                <a:ext cx="866520" cy="777960"/>
              </a:xfrm>
              <a:prstGeom prst="flowChartManualInput">
                <a:avLst/>
              </a:prstGeom>
              <a:solidFill>
                <a:srgbClr val="a6a6a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순서도: 수동 입력 41"/>
              <p:cNvSpPr/>
              <p:nvPr/>
            </p:nvSpPr>
            <p:spPr>
              <a:xfrm rot="16200000">
                <a:off x="4220280" y="3032640"/>
                <a:ext cx="866520" cy="531720"/>
              </a:xfrm>
              <a:prstGeom prst="flowChartManualInput">
                <a:avLst/>
              </a:prstGeom>
              <a:solidFill>
                <a:srgbClr val="bfbfb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2" name="그룹 33"/>
            <p:cNvGrpSpPr/>
            <p:nvPr/>
          </p:nvGrpSpPr>
          <p:grpSpPr>
            <a:xfrm>
              <a:off x="5630400" y="2865240"/>
              <a:ext cx="1138680" cy="866880"/>
              <a:chOff x="5630400" y="2865240"/>
              <a:chExt cx="1138680" cy="866880"/>
            </a:xfrm>
          </p:grpSpPr>
          <p:sp>
            <p:nvSpPr>
              <p:cNvPr id="153" name="순서도: 수동 입력 38"/>
              <p:cNvSpPr/>
              <p:nvPr/>
            </p:nvSpPr>
            <p:spPr>
              <a:xfrm rot="5400000">
                <a:off x="5586120" y="2909880"/>
                <a:ext cx="866520" cy="777960"/>
              </a:xfrm>
              <a:prstGeom prst="flowChartManualInput">
                <a:avLst/>
              </a:prstGeom>
              <a:solidFill>
                <a:srgbClr val="d9d9d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순서도: 수동 입력 39"/>
              <p:cNvSpPr/>
              <p:nvPr/>
            </p:nvSpPr>
            <p:spPr>
              <a:xfrm rot="16200000">
                <a:off x="6069960" y="3032640"/>
                <a:ext cx="866520" cy="531720"/>
              </a:xfrm>
              <a:prstGeom prst="flowChartManualInput">
                <a:avLst/>
              </a:prstGeom>
              <a:solidFill>
                <a:srgbClr val="f2f2f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5" name="그룹 34"/>
            <p:cNvGrpSpPr/>
            <p:nvPr/>
          </p:nvGrpSpPr>
          <p:grpSpPr>
            <a:xfrm>
              <a:off x="7489440" y="2865240"/>
              <a:ext cx="1138680" cy="866880"/>
              <a:chOff x="7489440" y="2865240"/>
              <a:chExt cx="1138680" cy="866880"/>
            </a:xfrm>
          </p:grpSpPr>
          <p:sp>
            <p:nvSpPr>
              <p:cNvPr id="156" name="순서도: 수동 입력 36"/>
              <p:cNvSpPr/>
              <p:nvPr/>
            </p:nvSpPr>
            <p:spPr>
              <a:xfrm rot="5400000">
                <a:off x="7445160" y="2909880"/>
                <a:ext cx="866520" cy="777960"/>
              </a:xfrm>
              <a:prstGeom prst="flowChartManualInput">
                <a:avLst/>
              </a:prstGeom>
              <a:solidFill>
                <a:srgbClr val="7f7f7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순서도: 수동 입력 37"/>
              <p:cNvSpPr/>
              <p:nvPr/>
            </p:nvSpPr>
            <p:spPr>
              <a:xfrm rot="16200000">
                <a:off x="7929000" y="3032640"/>
                <a:ext cx="866520" cy="531720"/>
              </a:xfrm>
              <a:prstGeom prst="flowChartManualInput">
                <a:avLst/>
              </a:prstGeom>
              <a:solidFill>
                <a:srgbClr val="bfbfb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8" name="직사각형 35"/>
            <p:cNvSpPr/>
            <p:nvPr/>
          </p:nvSpPr>
          <p:spPr>
            <a:xfrm>
              <a:off x="6954480" y="311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9" name="직사각형 16"/>
          <p:cNvSpPr/>
          <p:nvPr/>
        </p:nvSpPr>
        <p:spPr>
          <a:xfrm>
            <a:off x="6955920" y="528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그룹 17"/>
          <p:cNvGrpSpPr/>
          <p:nvPr/>
        </p:nvGrpSpPr>
        <p:grpSpPr>
          <a:xfrm>
            <a:off x="1281960" y="3944880"/>
            <a:ext cx="7347600" cy="866880"/>
            <a:chOff x="1281960" y="3944880"/>
            <a:chExt cx="7347600" cy="866880"/>
          </a:xfrm>
        </p:grpSpPr>
        <p:sp>
          <p:nvSpPr>
            <p:cNvPr id="161" name="직사각형 19"/>
            <p:cNvSpPr/>
            <p:nvPr/>
          </p:nvSpPr>
          <p:spPr>
            <a:xfrm>
              <a:off x="1930320" y="3944880"/>
              <a:ext cx="1137960" cy="8668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직사각형 20"/>
            <p:cNvSpPr/>
            <p:nvPr/>
          </p:nvSpPr>
          <p:spPr>
            <a:xfrm>
              <a:off x="3784320" y="3944880"/>
              <a:ext cx="1137960" cy="8668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직사각형 21"/>
            <p:cNvSpPr/>
            <p:nvPr/>
          </p:nvSpPr>
          <p:spPr>
            <a:xfrm>
              <a:off x="5637240" y="3944880"/>
              <a:ext cx="1137960" cy="8668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직사각형 22"/>
            <p:cNvSpPr/>
            <p:nvPr/>
          </p:nvSpPr>
          <p:spPr>
            <a:xfrm>
              <a:off x="7491600" y="3944880"/>
              <a:ext cx="1137960" cy="86688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직사각형 23"/>
            <p:cNvSpPr/>
            <p:nvPr/>
          </p:nvSpPr>
          <p:spPr>
            <a:xfrm>
              <a:off x="1281960" y="42447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직사각형 24"/>
            <p:cNvSpPr/>
            <p:nvPr/>
          </p:nvSpPr>
          <p:spPr>
            <a:xfrm>
              <a:off x="5112720" y="4192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오른쪽 화살표 25"/>
            <p:cNvSpPr/>
            <p:nvPr/>
          </p:nvSpPr>
          <p:spPr>
            <a:xfrm>
              <a:off x="3270240" y="4203720"/>
              <a:ext cx="334800" cy="3715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직사각형 26"/>
            <p:cNvSpPr/>
            <p:nvPr/>
          </p:nvSpPr>
          <p:spPr>
            <a:xfrm>
              <a:off x="6955920" y="4192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직사각형 27"/>
            <p:cNvSpPr/>
            <p:nvPr/>
          </p:nvSpPr>
          <p:spPr>
            <a:xfrm>
              <a:off x="2006280" y="4016160"/>
              <a:ext cx="1055520" cy="7891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0" name="직사각형 18"/>
          <p:cNvSpPr/>
          <p:nvPr/>
        </p:nvSpPr>
        <p:spPr>
          <a:xfrm>
            <a:off x="1074600" y="1643040"/>
            <a:ext cx="7702560" cy="8650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amples[ x ][ y ]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Pred[ wedgePattern[ x ][ y ] 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SdcResidual[ xB ][ yB ][ wedgePattern[ x ][ y ] 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al: use of predicted samples for depth value reconstr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Reconstructed samples are calculated by adding SDC residuals with predicted samp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instead of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DC of predicted sampl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Fidelity of reconstructed samples could be improved by maintaining shape of the predicted sampl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There is no affect for DMM1 mode in SD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8E1-D164-4D73-9555-9816C3570CBB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4"/>
          <p:cNvSpPr/>
          <p:nvPr/>
        </p:nvSpPr>
        <p:spPr>
          <a:xfrm>
            <a:off x="1074600" y="2349360"/>
            <a:ext cx="7702560" cy="8654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amples[ x ][ y ] =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dSamples[ x ][ y ]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SdcResidual[ xB ][ yB ][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gePattern[ x ][ y ] ]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직사각형 5"/>
          <p:cNvSpPr/>
          <p:nvPr/>
        </p:nvSpPr>
        <p:spPr>
          <a:xfrm>
            <a:off x="4665600" y="3459240"/>
            <a:ext cx="1136880" cy="8665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6"/>
          <p:cNvSpPr/>
          <p:nvPr/>
        </p:nvSpPr>
        <p:spPr>
          <a:xfrm>
            <a:off x="4665600" y="4548240"/>
            <a:ext cx="1136880" cy="8683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6519960" y="3459240"/>
            <a:ext cx="1136520" cy="866520"/>
          </a:xfrm>
          <a:prstGeom prst="rect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6519960" y="4548240"/>
            <a:ext cx="1136520" cy="86832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d9d9d9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9"/>
          <p:cNvSpPr/>
          <p:nvPr/>
        </p:nvSpPr>
        <p:spPr>
          <a:xfrm>
            <a:off x="2204640" y="3740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0"/>
          <p:cNvSpPr/>
          <p:nvPr/>
        </p:nvSpPr>
        <p:spPr>
          <a:xfrm>
            <a:off x="2051640" y="4830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a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1"/>
          <p:cNvSpPr/>
          <p:nvPr/>
        </p:nvSpPr>
        <p:spPr>
          <a:xfrm>
            <a:off x="4140720" y="370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직사각형 12"/>
          <p:cNvSpPr/>
          <p:nvPr/>
        </p:nvSpPr>
        <p:spPr>
          <a:xfrm>
            <a:off x="2876040" y="541656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직사각형 13"/>
          <p:cNvSpPr/>
          <p:nvPr/>
        </p:nvSpPr>
        <p:spPr>
          <a:xfrm>
            <a:off x="4578840" y="541656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C residua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14"/>
          <p:cNvSpPr/>
          <p:nvPr/>
        </p:nvSpPr>
        <p:spPr>
          <a:xfrm>
            <a:off x="4140720" y="479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5"/>
          <p:cNvSpPr/>
          <p:nvPr/>
        </p:nvSpPr>
        <p:spPr>
          <a:xfrm>
            <a:off x="6430680" y="5416560"/>
            <a:ext cx="13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ruc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6"/>
          <p:cNvSpPr/>
          <p:nvPr/>
        </p:nvSpPr>
        <p:spPr>
          <a:xfrm>
            <a:off x="5984280" y="370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사각형 17"/>
          <p:cNvSpPr/>
          <p:nvPr/>
        </p:nvSpPr>
        <p:spPr>
          <a:xfrm>
            <a:off x="5984280" y="479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사각형 19"/>
          <p:cNvSpPr/>
          <p:nvPr/>
        </p:nvSpPr>
        <p:spPr>
          <a:xfrm>
            <a:off x="2817720" y="4551480"/>
            <a:ext cx="1136880" cy="866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f2f2f2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21"/>
          <p:cNvSpPr/>
          <p:nvPr/>
        </p:nvSpPr>
        <p:spPr>
          <a:xfrm>
            <a:off x="2814480" y="3459240"/>
            <a:ext cx="1138320" cy="8665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22"/>
          <p:cNvSpPr/>
          <p:nvPr/>
        </p:nvSpPr>
        <p:spPr>
          <a:xfrm>
            <a:off x="2886120" y="3524400"/>
            <a:ext cx="1055520" cy="7887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23"/>
          <p:cNvSpPr/>
          <p:nvPr/>
        </p:nvSpPr>
        <p:spPr>
          <a:xfrm>
            <a:off x="6591240" y="3524400"/>
            <a:ext cx="1055880" cy="788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66760" y="1009800"/>
          <a:ext cx="7572600" cy="238572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7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7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7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A55-015F-4ECF-9828-374F61B450CC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863720" y="64296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CTC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1862280" y="3552840"/>
            <a:ext cx="61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DV-HTM 6.0 vs. All Intra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66760" y="3900600"/>
          <a:ext cx="7572600" cy="2386080"/>
        </p:xfrm>
        <a:graphic>
          <a:graphicData uri="http://schemas.openxmlformats.org/drawingml/2006/table">
            <a:tbl>
              <a:tblPr/>
              <a:tblGrid>
                <a:gridCol w="1090800"/>
                <a:gridCol w="691920"/>
                <a:gridCol w="690480"/>
                <a:gridCol w="692280"/>
                <a:gridCol w="833400"/>
                <a:gridCol w="1057320"/>
                <a:gridCol w="1214640"/>
                <a:gridCol w="650880"/>
                <a:gridCol w="65088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/video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deo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ynth PSNR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/ total bitr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ewspape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hostTown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7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Use of predicted samples instead of DC of predicted samples in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order to get recon. sampl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TC: 0.2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All intra: 0.1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t is recommended to adopt proposed method into 3D-HEV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7CF-737C-471F-A0D2-99CEBB6E50F1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1:02:19Z</dcterms:created>
  <dc:creator>남정학/선임연구원/Convergence(연)ATS팀(junghak.nam@lge.com)</dc:creator>
  <dc:description/>
  <dc:language>en-US</dc:language>
  <cp:lastModifiedBy>남정학/선임연구원/Convergence(연)ATS팀(junghak.nam@lge.com)</cp:lastModifiedBy>
  <dcterms:modified xsi:type="dcterms:W3CDTF">2013-04-17T06:20:10Z</dcterms:modified>
  <cp:revision>7</cp:revision>
  <dc:subject/>
  <dc:title>슬라이드 1</dc:title>
</cp:coreProperties>
</file>