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AE2-0FFD-4986-8103-5D06B696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7C7-01E8-4ED2-B0F4-F22EC52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05F-3631-4154-A9A7-C473B1B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E00-872D-44CB-BEDD-571532F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503-CB9F-4319-A5A7-8C8564B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20D-63F8-49D4-91F5-A0AB3923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DB8-762F-4B7D-A79E-65473F7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A3E-5031-436E-9533-4A3AEFE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204-11A1-4267-8216-9B49B4B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AA8-CE42-4E3E-BC82-63F88F4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FB9-BE2B-4574-8C36-50AC1D1F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212-5A63-47C2-A292-390F3DC5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7B345-EBCC-4D47-A31C-0A25767FFB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C26D0-17B4-4FA7-91F4-E589CC4790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10FBB-4505-4AED-9F8F-9034D2C775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A29E-FD24-4039-8722-45A1BAC43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4FEEE-508E-4618-A449-0842820BB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2A8F5-DB5D-4817-B76D-414AD40846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AE26-DAE0-492C-B5AC-0F72ACAC3D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EAC6E-4EFC-4BF2-BA4C-1C7EF59C97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2973-20E3-4E37-888A-262AA546D0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FB187-63BD-4062-9478-18522BE59B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72B52-E6AF-4DFA-A033-C4AC02119A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4400D-0823-493F-A2D5-E6DE90189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FC37-CAEE-42FB-986E-FB6E3F6D3828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3A43-0A3C-49EC-B008-F0578CE35461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60520" y="1268280"/>
            <a:ext cx="864072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3D-CE5.h related: Unification of disparity vector roun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(JCT3V-D0135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72400" y="53784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April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71880" y="57564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Junghak Nam (junghak.nam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nification of Conversion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isparity vector to corresponding block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se of rounding operation for disparity vector with rounding offse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TC: 0.1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rosscheck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JCT3V-D0128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EE20-01BA-45AE-B200-B590FBBEC901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urrent 3D-HEVC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n HTM-6.0, a disparity vector (DV) is used to find a virtual depth block or a corresponding texture block in reconstructed base 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oNBD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V derived by NBDV process is exploited to find a virtual depth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2) IVM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Refined DV from DoNBDV process is used to find a corresponding 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3) B-VS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V is used to get a corresponding virtual depth block to select PU-wise max depth valu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4) I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V is used to get reference samples to calculate IC paramet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blem stat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iscrepancy in rounding operations with respect to rounding offse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With offset: 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20024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Without offset: 1), 3), 4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05F4-4A5A-48F7-A054-E0B8C1B311A0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nification of DV rounding with rounding offs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E02-58CB-41DE-A624-CE4925A983ED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표 4" descr=""/>
          <p:cNvPicPr/>
          <p:nvPr/>
        </p:nvPicPr>
        <p:blipFill>
          <a:blip r:embed="rId1"/>
          <a:stretch/>
        </p:blipFill>
        <p:spPr>
          <a:xfrm>
            <a:off x="878040" y="1974960"/>
            <a:ext cx="8180280" cy="1054080"/>
          </a:xfrm>
          <a:prstGeom prst="rect">
            <a:avLst/>
          </a:prstGeom>
          <a:ln w="0">
            <a:noFill/>
          </a:ln>
        </p:spPr>
      </p:pic>
      <p:pic>
        <p:nvPicPr>
          <p:cNvPr id="135" name="표 5" descr=""/>
          <p:cNvPicPr/>
          <p:nvPr/>
        </p:nvPicPr>
        <p:blipFill>
          <a:blip r:embed="rId2"/>
          <a:stretch/>
        </p:blipFill>
        <p:spPr>
          <a:xfrm>
            <a:off x="878040" y="3591000"/>
            <a:ext cx="8180280" cy="9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52560" y="5143680"/>
          <a:ext cx="8035920" cy="785520"/>
        </p:xfrm>
        <a:graphic>
          <a:graphicData uri="http://schemas.openxmlformats.org/drawingml/2006/table">
            <a:tbl>
              <a:tblPr/>
              <a:tblGrid>
                <a:gridCol w="8035920"/>
              </a:tblGrid>
              <a:tr h="785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he reference layer luma location ( xRef, yRef ) is derived 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Ref = Clip3( 0, PicWidthInSamples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 – 1, xP + ( ( nPSW – 1 ) &gt;&gt; 1 ) + ( ( mvDisp[ 0 ] + 2 ) &gt;&gt; 2 ) )  (H‑1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yRef = Clip3( 0, PicHeightInSamples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 – 1, yP + ( ( nPSH – 1 ) &gt;&gt; 1 ) + ( ( mvDisp[ 1 ] + 2 ) &gt;&gt; 2 ))  (H‑1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7"/>
          <p:cNvSpPr/>
          <p:nvPr/>
        </p:nvSpPr>
        <p:spPr>
          <a:xfrm>
            <a:off x="1863720" y="166212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Draft modification of DoNBDV and B-VSP with rounding offset 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862280" y="325116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Draft modification of IC with rounding offset 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863720" y="478620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Draft modification of IVMP with rounding offset &gt; - no chan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66760" y="1042920"/>
          <a:ext cx="7572600" cy="238608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6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153-3823-4480-8663-B40BDCA9760E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1863720" y="64296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overall results for DV rounding offset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862280" y="355284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DV rounding offset for DoNBDV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66760" y="3971880"/>
          <a:ext cx="7572600" cy="238608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7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66760" y="1042920"/>
          <a:ext cx="7572600" cy="238608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C32-AB2D-4200-AAEA-9CF32947155E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1863720" y="64296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DV rounding offset for B-VSP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1862280" y="355284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DV rounding offset for IC parameters derivation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66760" y="3971880"/>
          <a:ext cx="7572600" cy="238608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6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se of rounding operation for disparity vector with rounding offse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TC: 0.1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t is recommended to adopt proposed method into 3D-HEV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DE4E-3013-47EF-9AC6-FD88A70D3782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1:46:56Z</dcterms:created>
  <dc:creator>남정학/선임연구원/Convergence(연)ATS팀(junghak.nam@lge.com)</dc:creator>
  <dc:description/>
  <dc:language>en-US</dc:language>
  <cp:lastModifiedBy>남정학/선임연구원/Convergence(연)ATS팀(junghak.nam@lge.com)</cp:lastModifiedBy>
  <dcterms:modified xsi:type="dcterms:W3CDTF">2013-04-17T04:30:32Z</dcterms:modified>
  <cp:revision>5</cp:revision>
  <dc:subject/>
  <dc:title>슬라이드 1</dc:title>
</cp:coreProperties>
</file>