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32B6-B570-434C-AF58-04E809B217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7D7D-CC29-48E3-806F-120D17683D07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815-1E18-4118-ADE5-A0E3EDF6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8DD-D753-4F12-AB67-05424A56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DE7-487F-40D5-843B-8C36809C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8F2-07EB-496C-AFEA-C5255EF4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2A3B-3EE6-4F95-94FE-39CA9090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0260-46C9-47EE-9C64-277CF341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73F9-67D5-44AC-AE5A-06647E00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5656-B45B-4D82-ADFF-3F111D7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FEE9-0B9B-4DE4-81D5-6EFC395F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D015-2204-407B-A388-4763C5CB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DECB-1124-4B68-BD39-B738805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7B1-7D9B-4177-B699-328156A6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5D8B-AB76-421D-AD9A-2CBF2F1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D49-860E-4E5C-BB31-05D0072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4A01-E3C2-4507-9579-C7968AC3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2B4F-D64F-4F2E-AC91-41F1B440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0F02-EF30-4B4D-B42B-3DAAE00B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3288-EB95-4F93-94E7-6643BDA4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A607-FE46-47A1-A707-017ECC7D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7997-4484-4B37-A580-ED2CAC32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F104-4DAB-4BB8-A8DA-D408FEBF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F518-0D21-4ABC-B1CE-016AF8DA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BB8-96C0-4E0F-A324-7D953FC1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975D-3F23-4490-A34B-798AA1E2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0ECC-4F8D-41BF-9B0E-631563A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0F97-9E14-4D2F-A43F-A6541C4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D082-835A-4CE2-9EC6-40FA6702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CA2B-A42C-4ED4-9EDA-2D418AA9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646E-847B-44D9-8BA3-AD43675A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E58C-AA24-483D-8857-50FAF9BF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6EB9-A9B5-4999-A9BB-1FBE1EB2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927A-EBA5-4691-BE6A-DD24258A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70AD2-AB4C-4BC6-8805-F864ACB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9E8-A5C8-454E-B85E-6C39C7A6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BD3F9-7DD0-4441-B39D-F0DE2992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52876-EC1E-4957-8FA0-D9393974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A338-34BA-4A17-BC17-8FEA255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F610-8B66-4276-B772-146A04AA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A3B3-6837-42E2-9371-9F144BF4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0CF26-4CB4-418C-AB11-5954517E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7B32-29DE-4A9D-A312-C29FC5DC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EBDA8-1305-403D-A605-19EA8126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3E8EF-9A56-41BF-B914-FAB1516B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5B75-CEB8-4CBE-8D39-F9837C28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648-54E3-4A1F-A35C-BBA29058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B9E33-46D5-49AD-8826-189E33A3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69A9-9838-42D5-9EB1-C622B86B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CA677-DAC6-43AE-9121-977CDA27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5AFC-190E-4AA4-BED8-6B8E8881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A6D0-59F9-480A-82AB-8C3ECFC6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85DE-2C5A-4215-98F0-AA30CCE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BC128-7683-49C0-A82F-9995537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5F343-D2C0-4E05-8372-5738430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0833-DFBC-4340-BE36-53C7C6D0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5E2E0-3C29-46A1-B777-653E71B8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4DB-FCBE-4ED1-BA36-232710CA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62267-C0F1-4FF2-9E29-E77E2756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C454D-93D3-47C7-B020-7B449D97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BDEDE-C4C4-45F2-999A-5A523152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D64A-F3C9-409B-8CE2-75A88E96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636A4-937B-4937-A84B-BFD46D52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AEE9D-AB3A-469E-AAC3-BF4E380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70193-5D99-46AD-B026-99DEB557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5274D-3F61-4D44-B4F2-5CB08A5C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A6EF5-2884-4B78-AE62-5DD20C38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147BA-E769-4B6F-B1EB-617C815F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FAE-7379-4D3E-94B8-4EB9CB53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BA2B7-1843-4737-A43E-BE8A3CE9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A4CB7-7088-42B5-BB58-A3BAE4AE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DDFE-B275-4C49-BFB2-7B9DC6FD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C442D-7BF4-4C5A-9520-8C07B2AD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EAA23-B4A8-445D-B647-0B208F60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99395-764D-49B6-81F2-19FBF51A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C2DE4-1E17-4687-910A-EEAE6060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45A92-04C2-49E2-B046-2681568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62C1A-E175-4C98-B489-9E7987EF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E7309-D3F1-4961-AB2D-771A79A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445-3855-4243-9DDF-7571C2B6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6D8BD-E17B-419F-9E43-D07B725A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FE32C-C978-41CF-A06E-C4E276F0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6AF1-FD06-49AE-9532-B224F8D0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0C8B4-9B3D-401F-A761-61543B47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EC494-2F12-4BD6-B3C9-A3099760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C27FE-1B8E-484E-B9B9-C1F2CB1C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E8D5C-2B6D-4D1E-83A8-4E44AED0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18055-DD9C-4AEE-B53B-F81B0DDC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2F29F-58D3-49AF-ACCA-753D4A48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DED1A-AF68-4B50-A9D2-BAAEF7B4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388-33CA-4C91-BCE1-25D0B8F1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AF3ED-72FF-446C-B8BF-4C9CE206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86E9B-93BD-4ACF-A732-578D9DA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770C7-05BB-4F4A-8A36-EF15735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9F080-1A20-4836-B3A4-38200972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9D13A-1A8F-4E98-828F-E3EE87AC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A1A4C-5BEF-4FF5-85F9-9217A144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AF77F-EC9C-4A3B-8ADC-6A924300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8C28-008D-4773-9410-EF28F7F767E2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2FA4-EF60-4717-BD87-86C6A303C2F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ohnChrisostomo\Desktop\71cc6ada1ee1f52fe8a3fc8772e90b0d.jpg"/>
          <p:cNvPicPr/>
          <p:nvPr/>
        </p:nvPicPr>
        <p:blipFill>
          <a:blip r:embed="rId3"/>
          <a:stretch/>
        </p:blipFill>
        <p:spPr>
          <a:xfrm>
            <a:off x="6156360" y="5646600"/>
            <a:ext cx="2735280" cy="112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CE4-7A6F-4FE2-B73E-B92AFB4EAE6C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0F7A-CB81-4A23-9182-90C18EA8435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2A99-6011-419A-B59B-23DCAAF17B5C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07192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B7E0-E77F-4FB9-B004-DC3FB0DB6307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3DFE-78CE-48E9-BFEC-4DBB61B49C49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3502-0E68-4DC5-882B-1430E5F4CBF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BCAB-BD12-47EF-821B-6B40F7A58D9B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1B00-1E87-4EB8-BC4F-BD673128242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17B3-5467-47F6-90CA-2A05FA3B8F20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6ADE-FC5A-49D5-A0CC-DB96D3F8264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672C-E11F-4894-B122-CCBDE2396A62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786D-725D-4033-898E-E5B0346DD41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E73B-FC76-4218-9B98-DA2CA856C454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259E-A1CA-40EA-8D1F-9B444C653A0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76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맑은 고딕"/>
              </a:rPr>
              <a:t>The rate control schemes for 3D multi-view video coding - JCT3V-D0111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W. Lim, H. Jo, J. Yoo, D. Sim and I.V. Bajić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EC00-807A-42BE-8441-C4DA9EA44D97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portant component of an end-to-end video communication system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trol the bitrate to fit the limited channel bandwidth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part of the standar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rate control is important for practical deployment of systems and services based on HEVC and its extensions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refers to the adjustment of coding parameter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zation Parameter (QP) on a Group-Of-Pictures (GOP), frame, or block-basis, with a goal towards controlling the encoder's output bitrate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important for end-to-end video communication system design in applications like broadcasting and streaming, because high fluctuation of bitrate may cause a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flow or underflow of buff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ong the communication path(s).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2310-4E86-4ED6-8D26-C6E8837AF1A7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for 3D 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ally, based on the existing rate control of HE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Q (Unified Rate-Quantization) model-based rate control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</a:t>
            </a:r>
            <a:r>
              <a:rPr b="0" lang="en-US" sz="1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th</a:t>
            </a: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JCT-VC meeting (San José, CA, USA), a rate control for HEVC was introduced, JCTVC-H0213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</a:t>
            </a:r>
            <a:r>
              <a:rPr b="0" lang="en-US" sz="1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th</a:t>
            </a: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JCT-VC meeting (Geneva, Switzerland), some improvement of the rate control was introduced, JCTVC-I0094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l-based rate control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</a:t>
            </a:r>
            <a:r>
              <a:rPr b="0" lang="en-US" sz="1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th</a:t>
            </a: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JCT-VC meeting (Shanghai, CH), R-</a:t>
            </a:r>
            <a:r>
              <a:rPr b="0" lang="el-GR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λ</a:t>
            </a: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model-based rate control scheme was proposed, JCT-VC-K0103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version of HTM was released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sed on HM10.0 software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plemented the rate control schemes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t yet verified the rate control performance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implemented rate control schemes are almost same with our implementation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6C9B-01F5-4994-B845-E840D82D196E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 of rate control for multi-view video coding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on HTM6.1 reference softwar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URQ and R-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l-based rate control schem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rate control scheme for all views (only for texture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implementation of view-wise target bit alloca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dditional algorithm for the extended view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99AB-4158-4C70-A9BA-0A2495A63C10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valuation of URQ model-based rate contro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rate accuracy of URQ model-based 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54BD-1EBB-4B5F-83CE-5450D8F1E585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755640" y="1584360"/>
          <a:ext cx="7588440" cy="4895640"/>
        </p:xfrm>
        <a:graphic>
          <a:graphicData uri="http://schemas.openxmlformats.org/drawingml/2006/table">
            <a:tbl>
              <a:tblPr/>
              <a:tblGrid>
                <a:gridCol w="952560"/>
                <a:gridCol w="666720"/>
                <a:gridCol w="666720"/>
                <a:gridCol w="666720"/>
                <a:gridCol w="647640"/>
                <a:gridCol w="647640"/>
                <a:gridCol w="648000"/>
                <a:gridCol w="645840"/>
                <a:gridCol w="644760"/>
                <a:gridCol w="645840"/>
                <a:gridCol w="756000"/>
              </a:tblGrid>
              <a:tr h="274680">
                <a:tc row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Target bitrates (kb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ctual generated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itrates (kb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 kbps accuracy for each View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 of total </a:t>
                      </a:r>
                      <a:r>
                        <a:rPr b="1" lang="ko-KR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 kbps accuracy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7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89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6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5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8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1.6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82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0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8.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0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0.9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9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6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3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4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8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3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1.5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61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7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1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8.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4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1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9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3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0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05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3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4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9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4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6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1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6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2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4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40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33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54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1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42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2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5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5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70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6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1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2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2.4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5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0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6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19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0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81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0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3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1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80.5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8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9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2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5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3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72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68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53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5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9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5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1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5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9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03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2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5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9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29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6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4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1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3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9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6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7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0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264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valuation of URQ model-based rate contro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NR degradation of URQ model-based 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A102-2AFA-46AC-89D9-6B4517DD16D2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755640" y="1584360"/>
          <a:ext cx="7588440" cy="4895640"/>
        </p:xfrm>
        <a:graphic>
          <a:graphicData uri="http://schemas.openxmlformats.org/drawingml/2006/table">
            <a:tbl>
              <a:tblPr/>
              <a:tblGrid>
                <a:gridCol w="952560"/>
                <a:gridCol w="666720"/>
                <a:gridCol w="666720"/>
                <a:gridCol w="666720"/>
                <a:gridCol w="647640"/>
                <a:gridCol w="647640"/>
                <a:gridCol w="648000"/>
                <a:gridCol w="645840"/>
                <a:gridCol w="644760"/>
                <a:gridCol w="645840"/>
                <a:gridCol w="756000"/>
              </a:tblGrid>
              <a:tr h="274680">
                <a:tc row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PSNR without rate control (d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PSNR with the URQ model-based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rate control (d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View-wise </a:t>
                      </a:r>
                      <a:r>
                        <a:rPr b="1" lang="ko-KR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Average o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9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8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4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3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3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3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3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1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1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1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1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4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8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3.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4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2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9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9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9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5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5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264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6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valuation of R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l-based rate contro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rate accuracy of R-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l-based 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51E7-B1E6-4C7D-BB86-631176787C8E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755640" y="1584360"/>
          <a:ext cx="7588440" cy="4895640"/>
        </p:xfrm>
        <a:graphic>
          <a:graphicData uri="http://schemas.openxmlformats.org/drawingml/2006/table">
            <a:tbl>
              <a:tblPr/>
              <a:tblGrid>
                <a:gridCol w="952560"/>
                <a:gridCol w="666720"/>
                <a:gridCol w="666720"/>
                <a:gridCol w="666720"/>
                <a:gridCol w="647640"/>
                <a:gridCol w="647640"/>
                <a:gridCol w="648000"/>
                <a:gridCol w="645840"/>
                <a:gridCol w="644760"/>
                <a:gridCol w="645840"/>
                <a:gridCol w="756000"/>
              </a:tblGrid>
              <a:tr h="274680">
                <a:tc row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Target bitrates (kb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ctual generated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itrates (kb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 kbps accuracy for each View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erage of total </a:t>
                      </a:r>
                      <a:r>
                        <a:rPr b="1" lang="ko-KR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 kbps accuracy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7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89.1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1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0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7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1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4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84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2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0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3.1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.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2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4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9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3.5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5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5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5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4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2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9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8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2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7.6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0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4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8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0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08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81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7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9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5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9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6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2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4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13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32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54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1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39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7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6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5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74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2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7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4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6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.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0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6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29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3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86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5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1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82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9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2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5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3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86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79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63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6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5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2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9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9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0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7.4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94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17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8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2.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9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30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5.4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4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17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3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3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6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7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45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.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2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264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valuation of R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l-based rate contro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NR degradation of R-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l-based 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3289-E658-42A1-B8EE-4F6043DAE1AE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55640" y="1584360"/>
          <a:ext cx="7588440" cy="4895640"/>
        </p:xfrm>
        <a:graphic>
          <a:graphicData uri="http://schemas.openxmlformats.org/drawingml/2006/table">
            <a:tbl>
              <a:tblPr/>
              <a:tblGrid>
                <a:gridCol w="952560"/>
                <a:gridCol w="666720"/>
                <a:gridCol w="666720"/>
                <a:gridCol w="666720"/>
                <a:gridCol w="647640"/>
                <a:gridCol w="647640"/>
                <a:gridCol w="648000"/>
                <a:gridCol w="645840"/>
                <a:gridCol w="644760"/>
                <a:gridCol w="645840"/>
                <a:gridCol w="756000"/>
              </a:tblGrid>
              <a:tr h="274680">
                <a:tc row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Seque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PSNR without rate control (d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PSNR with the URQ model-based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rate control (d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View-wise </a:t>
                      </a:r>
                      <a:r>
                        <a:rPr b="1" lang="ko-KR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Average o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9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4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Ke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12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Newspap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1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Gtf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1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Hall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4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PoznanStre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row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Danc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264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39240" marR="39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evaluation of the rate control performanc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new reference softwar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implementation of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-wise target bit alloca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ate control methods for the extended views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scribed in the document JCT3V-C0090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59B5-F659-404D-8557-C02472A3D9D4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ipsl</cp:lastModifiedBy>
  <cp:lastPrinted>2011-07-17T23:54:03Z</cp:lastPrinted>
  <dcterms:modified xsi:type="dcterms:W3CDTF">2013-04-20T02:58:19Z</dcterms:modified>
  <cp:revision>313</cp:revision>
  <dc:subject/>
  <dc:title>PowerPoint 프레젠테이션</dc:title>
</cp:coreProperties>
</file>