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0F2098B-C0E9-486E-B4CC-FE23C2186C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39DCF2C-B337-4323-B11E-F3CB1263C7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0B7B669-CB9D-4E74-8736-157C8C039B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3969CD9-4FEB-41E1-83CC-D01733CCED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26999A0-58AB-4422-81EB-561F19CCDD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D8622EB-AC63-497F-9044-B081521FF4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04FBC07-DC56-4C83-B553-1C86AC98C7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46030FE-5A78-4C26-9F41-4FD41F18E5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62944-12B0-44EE-A835-F16CC430C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610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769920"/>
            <a:ext cx="8610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B71D4-2697-4A73-A7F2-246E5185F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17080" y="114300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76992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17080" y="376992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9831E-9E37-4C4F-AC1B-C13522EBB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277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16240" y="1143000"/>
            <a:ext cx="277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27560" y="1143000"/>
            <a:ext cx="277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769920"/>
            <a:ext cx="277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16240" y="3769920"/>
            <a:ext cx="277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27560" y="3769920"/>
            <a:ext cx="277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1490D-F098-4BCE-8B03-43F35981D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1430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F56CA-C5CA-4A5D-A314-A15AB7474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33ACB-1F0F-468C-A901-9A7904EC7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42015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143000"/>
            <a:ext cx="42015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B5C55-52FE-46F0-A821-883A5BC03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DC8FD-B2D4-466D-90FC-4DA0D6F8D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2722320" y="142920"/>
            <a:ext cx="64213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5A39B-EB21-46A6-998F-0FF68ADB6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17080" y="1143000"/>
            <a:ext cx="42015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76992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0D40A-7BDB-4A52-A4EC-669C0CC61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42015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17080" y="114300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7080" y="376992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A9CE8-7497-41F0-946D-B5D9D2FF6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17080" y="114300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769920"/>
            <a:ext cx="8610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FBD2A-7802-49AB-8197-B08C266C4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2679840" y="0"/>
            <a:ext cx="6476760" cy="685800"/>
          </a:xfrm>
          <a:prstGeom prst="rect">
            <a:avLst/>
          </a:prstGeom>
          <a:solidFill>
            <a:srgbClr val="d630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2600" y="685800"/>
            <a:ext cx="2667240" cy="152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Picture 4" descr="sharplogo"/>
          <p:cNvPicPr/>
          <p:nvPr/>
        </p:nvPicPr>
        <p:blipFill>
          <a:blip r:embed="rId2"/>
          <a:stretch/>
        </p:blipFill>
        <p:spPr>
          <a:xfrm>
            <a:off x="5715000" y="2970360"/>
            <a:ext cx="1676520" cy="264960"/>
          </a:xfrm>
          <a:prstGeom prst="rect">
            <a:avLst/>
          </a:prstGeom>
          <a:ln w="0">
            <a:noFill/>
          </a:ln>
        </p:spPr>
      </p:pic>
      <p:sp>
        <p:nvSpPr>
          <p:cNvPr id="3" name="Rectangle 5"/>
          <p:cNvSpPr/>
          <p:nvPr/>
        </p:nvSpPr>
        <p:spPr>
          <a:xfrm>
            <a:off x="2679840" y="685800"/>
            <a:ext cx="6476760" cy="152280"/>
          </a:xfrm>
          <a:prstGeom prst="rect">
            <a:avLst/>
          </a:prstGeom>
          <a:solidFill>
            <a:srgbClr val="d5d1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d5d1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228600" y="458640"/>
            <a:ext cx="2340000" cy="2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LABORATORIES OF AMERICA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0" y="838080"/>
            <a:ext cx="9144000" cy="5715000"/>
          </a:xfrm>
          <a:prstGeom prst="rect">
            <a:avLst/>
          </a:prstGeom>
          <a:gradFill rotWithShape="0">
            <a:gsLst>
              <a:gs pos="0">
                <a:srgbClr val="e4e6f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304920" y="11430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c0504d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4f81bd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2860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552720"/>
            <a:ext cx="2895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ff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ahoma"/>
              </a:rPr>
              <a:t>Confidential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38720" y="655272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4D08D-8CE4-455C-B9C6-836DEC296C4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" name="Picture 14" descr=""/>
          <p:cNvPicPr/>
          <p:nvPr/>
        </p:nvPicPr>
        <p:blipFill>
          <a:blip r:embed="rId3"/>
          <a:stretch/>
        </p:blipFill>
        <p:spPr>
          <a:xfrm>
            <a:off x="500040" y="117360"/>
            <a:ext cx="1793880" cy="324000"/>
          </a:xfrm>
          <a:prstGeom prst="rect">
            <a:avLst/>
          </a:prstGeom>
          <a:ln w="0">
            <a:noFill/>
          </a:ln>
        </p:spPr>
      </p:pic>
      <p:sp>
        <p:nvSpPr>
          <p:cNvPr id="13" name="Text Box 15"/>
          <p:cNvSpPr/>
          <p:nvPr/>
        </p:nvSpPr>
        <p:spPr>
          <a:xfrm>
            <a:off x="5181480" y="6461280"/>
            <a:ext cx="990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7720" y="1676160"/>
            <a:ext cx="8001000" cy="1927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0212/ D0084: On Output Layer Sets Change Signa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914040" y="4038120"/>
            <a:ext cx="67057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chin Deshpan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arp Labs of Amer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Slide Number Placeholder 5"/>
          <p:cNvSpPr/>
          <p:nvPr/>
        </p:nvSpPr>
        <p:spPr>
          <a:xfrm>
            <a:off x="7039080" y="655308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53358-56DC-418A-8D9A-34E5F43E7CF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304920" y="91404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VC Draft Text 1 and MV-HEVC Draft Text 3 support signalin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yer dependency information using direct_dependency_flag[</a:t>
            </a: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][ </a:t>
            </a: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] in video parameter set (VPS) extension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utput layer sets information using </a:t>
            </a: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num_output_layer_sets, output_layer_set_idx[ i ] and output_layer_flag[ lsIdx ][  j ] i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PS extension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yer dependency change with respect to layer dependency signaled in an active VPS can also be signaled using a layer dependency change SEI message in SHVC and MV-HEVC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is asserted that as the layer dependency changes the output layer sets could change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 an example layer dependency change could require fewer layers to be decoded to decode a particular target layer (e.g. a view in MV-HEVC). Thus a decoder could decode and output a layer (e.g. and additional view) after a layer dependency change that it previously could not due to its hardware limitation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rrently no mechanism exists to allow signaling a change in the output layer sets without sending a new video parameter se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7039080" y="655308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63763-D169-45C9-9BC6-18AE8DEC91F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posals – Summ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304920" y="99036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document proposes an output layer sets change SEI message. 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The proposed SEI message supports adding new output layer sets, deleting existing output layer sets and changing existing output layer sets’ target output lay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Additionally we also propose derivation of target output layers and target decoded layers based on the output layer se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Slide Number Placeholder 5"/>
          <p:cNvSpPr/>
          <p:nvPr/>
        </p:nvSpPr>
        <p:spPr>
          <a:xfrm>
            <a:off x="7039080" y="655308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78DBF-4BC7-42D6-82A3-6F20B5F3E97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utput Layer Sets Change SEI Proposal (1/3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5181480" y="762120"/>
            <a:ext cx="37339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400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um_deleted_output_layer_set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pecifies the number of output layer sets which are deleted and so are no longer present. The value of num_deleted_output_layer_sets shall be in the range of 0 to num_output_layer_sets, inclusive. When not present, the value of num_deleted_output_layer_sets is inferred to be equal to 0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400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leted_output_layer_sets_idx_entr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[ i ]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dentifies the index entry in the list of output layer set entries which is indicated to be deleted and so no longer present. The value of deleted_output_layer_set_idx_entry[ i ] should be in the range of 0 to num_output_layer_sets, inclusive. deleted_output_layer_sets_index_entry[ i ] shall not be equal to deleted_output_layer_sets_index_entry[ j ] for any j not equal to 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400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451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451"/>
              </a:spcBef>
              <a:buClr>
                <a:srgbClr val="00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Slide Number Placeholder 5"/>
          <p:cNvSpPr/>
          <p:nvPr/>
        </p:nvSpPr>
        <p:spPr>
          <a:xfrm>
            <a:off x="7039080" y="655308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4EC87-CF7E-4CBE-8983-C592D5CD339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" name="Picture 10" descr=""/>
          <p:cNvPicPr/>
          <p:nvPr/>
        </p:nvPicPr>
        <p:blipFill>
          <a:blip r:embed="rId1"/>
          <a:stretch/>
        </p:blipFill>
        <p:spPr>
          <a:xfrm>
            <a:off x="228600" y="1295280"/>
            <a:ext cx="4849920" cy="3886200"/>
          </a:xfrm>
          <a:prstGeom prst="rect">
            <a:avLst/>
          </a:prstGeom>
          <a:ln w="0">
            <a:noFill/>
          </a:ln>
        </p:spPr>
      </p:pic>
      <p:sp>
        <p:nvSpPr>
          <p:cNvPr id="70" name="Right Brace 13"/>
          <p:cNvSpPr/>
          <p:nvPr/>
        </p:nvSpPr>
        <p:spPr>
          <a:xfrm>
            <a:off x="5105520" y="1650960"/>
            <a:ext cx="304560" cy="482760"/>
          </a:xfrm>
          <a:custGeom>
            <a:avLst/>
            <a:gdLst>
              <a:gd name="textAreaLeft" fmla="*/ 0 w 304560"/>
              <a:gd name="textAreaRight" fmla="*/ 109800 w 304560"/>
              <a:gd name="textAreaTop" fmla="*/ 7920 h 482760"/>
              <a:gd name="textAreaBottom" fmla="*/ 474840 h 482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569"/>
                  <a:pt x="10800" y="1138"/>
                </a:cubicBezTo>
                <a:lnTo>
                  <a:pt x="10800" y="9662"/>
                </a:lnTo>
                <a:cubicBezTo>
                  <a:pt x="10800" y="10231"/>
                  <a:pt x="16200" y="10800"/>
                  <a:pt x="21600" y="10800"/>
                </a:cubicBezTo>
                <a:cubicBezTo>
                  <a:pt x="16200" y="10800"/>
                  <a:pt x="10800" y="11369"/>
                  <a:pt x="10800" y="11938"/>
                </a:cubicBezTo>
                <a:lnTo>
                  <a:pt x="10800" y="20462"/>
                </a:lnTo>
                <a:cubicBezTo>
                  <a:pt x="10800" y="21031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utput Layer Sets Change SEI Proposal (2/3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5181480" y="761760"/>
            <a:ext cx="37339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300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m_changed_output_layer_set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fies the number of changed output layer sets for which output layers are specified in vps extension section of the active video parameter set identified by active_vps_id. The value of num_changed_output_layer_sets should be in the range of 0 to num_output_layer_sets - num_deleted_output_layer_sets, inclusive. When not present, the value of num_changed_output_layer_sets is inferred to be equal to 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300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hanged_output_ layer_sets_idx_entr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 i ]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ntifies the index entry in the list of output layer set entries in the vps extension identified by active_vps_id for which output_layer_flag[ clsIdx ][ j ] change applies to. The value of changed_output_layer_set_idx_entry[ i ] should be in the range of 0 to num_output_layer_sets-num_deleted_output_layer_sets, inclusive. changed_output_layer_sets_idx_entry[ i ] shall not be equal to changed_output_layer_sets_idx_entry[ j ] for any j not equal to 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300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200" spc="-1" strike="noStrike">
                <a:solidFill>
                  <a:srgbClr val="000000"/>
                </a:solidFill>
                <a:latin typeface="Arial"/>
              </a:rPr>
              <a:t>output_layer_flag</a:t>
            </a: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[ clsIdx ][ j ] equal to 1 specifies that the layer with nuh_layer_id equal to j is a target output layer of the clsIdx-th layer set. A value of output_layer_flag[ clsIdx ][ j ] equal to 0 specifies that the layer with nuh_layer_id equal to j is not a target output layer of the clsIdx-th layer se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300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00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Slide Number Placeholder 5"/>
          <p:cNvSpPr/>
          <p:nvPr/>
        </p:nvSpPr>
        <p:spPr>
          <a:xfrm>
            <a:off x="7039080" y="655308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1CE2E-EFB6-4D07-B0F4-938EE8E3B7C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4" name="Picture 10" descr=""/>
          <p:cNvPicPr/>
          <p:nvPr/>
        </p:nvPicPr>
        <p:blipFill>
          <a:blip r:embed="rId1"/>
          <a:stretch/>
        </p:blipFill>
        <p:spPr>
          <a:xfrm>
            <a:off x="228600" y="1295280"/>
            <a:ext cx="4849920" cy="3886200"/>
          </a:xfrm>
          <a:prstGeom prst="rect">
            <a:avLst/>
          </a:prstGeom>
          <a:ln w="0">
            <a:noFill/>
          </a:ln>
        </p:spPr>
      </p:pic>
      <p:sp>
        <p:nvSpPr>
          <p:cNvPr id="75" name="Right Brace 6"/>
          <p:cNvSpPr/>
          <p:nvPr/>
        </p:nvSpPr>
        <p:spPr>
          <a:xfrm>
            <a:off x="5105520" y="2133720"/>
            <a:ext cx="304560" cy="1295280"/>
          </a:xfrm>
          <a:custGeom>
            <a:avLst/>
            <a:gdLst>
              <a:gd name="textAreaLeft" fmla="*/ 0 w 304560"/>
              <a:gd name="textAreaRight" fmla="*/ 109800 w 304560"/>
              <a:gd name="textAreaTop" fmla="*/ 7920 h 1295280"/>
              <a:gd name="textAreaBottom" fmla="*/ 128736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12"/>
                  <a:pt x="10800" y="424"/>
                </a:cubicBezTo>
                <a:lnTo>
                  <a:pt x="10800" y="10376"/>
                </a:lnTo>
                <a:cubicBezTo>
                  <a:pt x="10800" y="10588"/>
                  <a:pt x="16200" y="10800"/>
                  <a:pt x="21600" y="10800"/>
                </a:cubicBezTo>
                <a:cubicBezTo>
                  <a:pt x="16200" y="10800"/>
                  <a:pt x="10800" y="11012"/>
                  <a:pt x="10800" y="11224"/>
                </a:cubicBezTo>
                <a:lnTo>
                  <a:pt x="10800" y="21176"/>
                </a:lnTo>
                <a:cubicBezTo>
                  <a:pt x="10800" y="21388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utput Layer Sets Change SEI Proposal (3/3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5181480" y="914040"/>
            <a:ext cx="37339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74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num_addl_output_layer_sets </a:t>
            </a:r>
            <a:r>
              <a:rPr b="0" lang="en-CA" sz="1500" spc="-1" strike="noStrike">
                <a:solidFill>
                  <a:srgbClr val="000000"/>
                </a:solidFill>
                <a:latin typeface="Arial"/>
              </a:rPr>
              <a:t>specifies the number of additional layer sets for which output layers are specified with addl_output_layer_set_idx[ i ] and output_layer_flag[ addllsIdx ][ j ]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. When not present, the value of num_addl_output_layer_sets is inferred to be equal to 0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ddl_output_ layer_sets_idx[ i</a:t>
            </a:r>
            <a:r>
              <a:rPr b="1" i="1" lang="en-CA" sz="15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1" i="1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1500" spc="-1" strike="noStrike">
                <a:solidFill>
                  <a:srgbClr val="000000"/>
                </a:solidFill>
                <a:latin typeface="Arial"/>
              </a:rPr>
              <a:t>specifies the index addllsIdx of the layer set for which output_layer_flag[</a:t>
            </a:r>
            <a:r>
              <a:rPr b="1" i="1" lang="en-CA" sz="15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CA" sz="1500" spc="-1" strike="noStrike">
                <a:solidFill>
                  <a:srgbClr val="000000"/>
                </a:solidFill>
                <a:latin typeface="Arial"/>
              </a:rPr>
              <a:t>addllsIdx</a:t>
            </a:r>
            <a:r>
              <a:rPr b="1" i="1" lang="en-CA" sz="15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CA" sz="1500" spc="-1" strike="noStrike">
                <a:solidFill>
                  <a:srgbClr val="000000"/>
                </a:solidFill>
                <a:latin typeface="Arial"/>
              </a:rPr>
              <a:t>][</a:t>
            </a:r>
            <a:r>
              <a:rPr b="1" i="1" lang="en-CA" sz="1500" spc="-1" strike="noStrike">
                <a:solidFill>
                  <a:srgbClr val="000000"/>
                </a:solidFill>
                <a:latin typeface="Arial"/>
              </a:rPr>
              <a:t>  </a:t>
            </a:r>
            <a:r>
              <a:rPr b="0" lang="en-CA" sz="15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1" i="1" lang="en-CA" sz="15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CA" sz="1500" spc="-1" strike="noStrike">
                <a:solidFill>
                  <a:srgbClr val="000000"/>
                </a:solidFill>
                <a:latin typeface="Arial"/>
              </a:rPr>
              <a:t>] is present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500" spc="-1" strike="noStrike">
                <a:solidFill>
                  <a:srgbClr val="000000"/>
                </a:solidFill>
                <a:latin typeface="Arial"/>
              </a:rPr>
              <a:t>output_layer_flag</a:t>
            </a:r>
            <a:r>
              <a:rPr b="0" lang="en-CA" sz="1500" spc="-1" strike="noStrike">
                <a:solidFill>
                  <a:srgbClr val="000000"/>
                </a:solidFill>
                <a:latin typeface="Arial"/>
              </a:rPr>
              <a:t>[ addllsIdx ][ j ] equal to 1 specifies that the layer with nuh_layer_id equal to j is a target output layer of the addllsIdx-th layer set. A value of output_layer_flag[ addllsIdx ][ j ] equal to 0 specifies that the layer with nuh_layer_id equal to j is not a target output layer of the addllsIdx-th layer set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Slide Number Placeholder 5"/>
          <p:cNvSpPr/>
          <p:nvPr/>
        </p:nvSpPr>
        <p:spPr>
          <a:xfrm>
            <a:off x="7039080" y="655308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FA87F-1581-4F4E-93E1-F3DB8E0D8BD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9" name="Picture 10" descr=""/>
          <p:cNvPicPr/>
          <p:nvPr/>
        </p:nvPicPr>
        <p:blipFill>
          <a:blip r:embed="rId1"/>
          <a:stretch/>
        </p:blipFill>
        <p:spPr>
          <a:xfrm>
            <a:off x="228600" y="1295280"/>
            <a:ext cx="4849920" cy="3886200"/>
          </a:xfrm>
          <a:prstGeom prst="rect">
            <a:avLst/>
          </a:prstGeom>
          <a:ln w="0">
            <a:noFill/>
          </a:ln>
        </p:spPr>
      </p:pic>
      <p:sp>
        <p:nvSpPr>
          <p:cNvPr id="80" name="Right Brace 5"/>
          <p:cNvSpPr/>
          <p:nvPr/>
        </p:nvSpPr>
        <p:spPr>
          <a:xfrm>
            <a:off x="5105520" y="3457440"/>
            <a:ext cx="304560" cy="1295640"/>
          </a:xfrm>
          <a:custGeom>
            <a:avLst/>
            <a:gdLst>
              <a:gd name="textAreaLeft" fmla="*/ 0 w 304560"/>
              <a:gd name="textAreaRight" fmla="*/ 109800 w 304560"/>
              <a:gd name="textAreaTop" fmla="*/ 7920 h 1295640"/>
              <a:gd name="textAreaBottom" fmla="*/ 128772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12"/>
                  <a:pt x="10800" y="424"/>
                </a:cubicBezTo>
                <a:lnTo>
                  <a:pt x="10800" y="10376"/>
                </a:lnTo>
                <a:cubicBezTo>
                  <a:pt x="10800" y="10588"/>
                  <a:pt x="16200" y="10800"/>
                  <a:pt x="21600" y="10800"/>
                </a:cubicBezTo>
                <a:cubicBezTo>
                  <a:pt x="16200" y="10800"/>
                  <a:pt x="10800" y="11012"/>
                  <a:pt x="10800" y="11224"/>
                </a:cubicBezTo>
                <a:lnTo>
                  <a:pt x="10800" y="21176"/>
                </a:lnTo>
                <a:cubicBezTo>
                  <a:pt x="10800" y="21388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Proposal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304920" y="91404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We also propose derivation of target output layers and target decoded layers based on the output layer sets. The proposed text below could be added to the SHVC and MV-HEVC Draft tex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Slide Number Placeholder 5"/>
          <p:cNvSpPr/>
          <p:nvPr/>
        </p:nvSpPr>
        <p:spPr>
          <a:xfrm>
            <a:off x="7039080" y="655308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3C205-FABD-4ABB-A9EA-5C304ECA866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4" name="Picture 4" descr=""/>
          <p:cNvPicPr/>
          <p:nvPr/>
        </p:nvPicPr>
        <p:blipFill>
          <a:blip r:embed="rId1"/>
          <a:stretch/>
        </p:blipFill>
        <p:spPr>
          <a:xfrm>
            <a:off x="1981080" y="1905120"/>
            <a:ext cx="5410440" cy="44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document proposes syntax and semantics for output layer sets change signaling using a SEI messag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Additionally it also proposes derivation of target output layers and target decoded layers based on the output layer sets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propose to adopt the SEI message and the 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derivation of target output layers and target decoded layers based on the output layer sets in SHVC and MV-HEVC draft text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Slide Number Placeholder 4"/>
          <p:cNvSpPr/>
          <p:nvPr/>
        </p:nvSpPr>
        <p:spPr>
          <a:xfrm>
            <a:off x="7039080" y="655308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D0C82-2F0B-4191-9F6B-2870D179CBA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0T17:14:55Z</dcterms:created>
  <dc:creator>lkerofsky</dc:creator>
  <dc:description/>
  <dc:language>en-US</dc:language>
  <cp:lastModifiedBy>Sachin Deshpande</cp:lastModifiedBy>
  <dcterms:modified xsi:type="dcterms:W3CDTF">2013-04-12T23:50:31Z</dcterms:modified>
  <cp:revision>1176</cp:revision>
  <dc:subject/>
  <dc:title>Slide 1</dc:title>
</cp:coreProperties>
</file>