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9C465C-DAF2-474D-9256-40D3B1750F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8FFF75-2C76-4BAC-B916-473099B2F1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D244BC-DE9D-41C7-85F2-540922D926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BA9FA9-5B2A-4ADB-A5C9-73CA45E44D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81160" y="696960"/>
            <a:ext cx="4648320" cy="3486240"/>
          </a:xfrm>
          <a:prstGeom prst="rect">
            <a:avLst/>
          </a:prstGeom>
          <a:ln w="0">
            <a:noFill/>
          </a:ln>
        </p:spPr>
      </p:sp>
      <p:sp>
        <p:nvSpPr>
          <p:cNvPr id="1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A42359-5327-4A41-B671-187C15C014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7A2E40-6BEE-4475-87E6-F6CEE885326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A9BE00-0203-4275-AA96-3B1F5F84D3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D598A1-F86E-43CB-8DC9-51CF0BAE8B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14EAD3-30D7-47C8-AF41-38EB19159C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BF6D2D-02B0-430D-9249-CB14271B875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3C9DD-EC7F-4CE0-B206-8F8235F1B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EB435-92F1-4833-8F65-625B8C45E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6946E-42EB-456A-940C-DEE06BEE5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541F6-DFBD-41D2-9215-EAB902A93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D0FF-1067-442E-91B8-7842DCFCE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18D81-221D-4689-B483-070ACE3D8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394DF-D1FC-42B4-A56A-131017AD5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935E2-EC94-4D33-A1ED-DB3DCDDC7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ED6E0-29C9-4A48-9B55-523DCC9AB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29647-91C4-41E0-9D86-A64B43B35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2807E-AEF3-4695-879E-8888B7278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C2F7-AFE9-403C-94EE-D11FE02AF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e4e6f6"/>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606E-59B1-4753-BAC8-BD231A1BE2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676160"/>
            <a:ext cx="80010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0210/ D0083: On Signaling DPB Parameters and DPB Operation</a:t>
            </a:r>
            <a:endParaRPr b="1" lang="en-US" sz="3200" spc="-1" strike="noStrike">
              <a:solidFill>
                <a:srgbClr val="ffffff"/>
              </a:solidFill>
              <a:latin typeface="Arial"/>
            </a:endParaRPr>
          </a:p>
        </p:txBody>
      </p:sp>
      <p:sp>
        <p:nvSpPr>
          <p:cNvPr id="58" name="PlaceHolder 2"/>
          <p:cNvSpPr>
            <a:spLocks noGrp="1"/>
          </p:cNvSpPr>
          <p:nvPr>
            <p:ph type="subTitle"/>
          </p:nvPr>
        </p:nvSpPr>
        <p:spPr>
          <a:xfrm>
            <a:off x="914040" y="4038120"/>
            <a:ext cx="6705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in Deshpand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Labs of America</a:t>
            </a:r>
            <a:endParaRPr b="0" lang="en-US" sz="20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2E7A-2B7D-4A17-8CE5-4593DAD77B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a:t>
            </a:r>
            <a:endParaRPr b="1" lang="en-US" sz="2400" spc="-1" strike="noStrike">
              <a:solidFill>
                <a:srgbClr val="ffffff"/>
              </a:solidFill>
              <a:latin typeface="Arial"/>
            </a:endParaRPr>
          </a:p>
        </p:txBody>
      </p:sp>
      <p:sp>
        <p:nvSpPr>
          <p:cNvPr id="90"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proposes signaling</a:t>
            </a:r>
            <a:r>
              <a:rPr b="1" lang="en-US" sz="2000" spc="-1" strike="noStrike">
                <a:solidFill>
                  <a:srgbClr val="000000"/>
                </a:solidFill>
                <a:latin typeface="Arial"/>
              </a:rPr>
              <a:t> </a:t>
            </a:r>
            <a:r>
              <a:rPr b="0" lang="en-US" sz="2000" spc="-1" strike="noStrike">
                <a:solidFill>
                  <a:srgbClr val="000000"/>
                </a:solidFill>
                <a:latin typeface="Arial"/>
              </a:rPr>
              <a:t>vps_max_dec_pic_buffering_minus1, vps_max_num_reorder_pics, vps_max_latency_increase_plus1 parameters for sub-layers for the CVS for operation points in VPS extension. In a variant proposal these parameters could be signaled in VPS extension for the output layer sets instead of for operation points. We propose to adopt one of these two signaling approaches in </a:t>
            </a:r>
            <a:r>
              <a:rPr b="0" lang="en-CA" sz="2000" spc="-1" strike="noStrike">
                <a:solidFill>
                  <a:srgbClr val="000000"/>
                </a:solidFill>
                <a:latin typeface="Arial"/>
              </a:rPr>
              <a:t>SHVC and MV-HEVC draft tex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ument also proposes the operation and bumping process for output order DPB to use the above parameters from VPS extension if they are signaled for the selected operation point (or output layer set in the variant proposal)</a:t>
            </a:r>
            <a:r>
              <a:rPr b="0" lang="en-CA" sz="2000" spc="-1" strike="noStrike">
                <a:solidFill>
                  <a:srgbClr val="000000"/>
                </a:solidFill>
                <a:latin typeface="Arial"/>
              </a:rPr>
              <a:t>. Otherwise the SPS level parameters are used. We propose to adopt this in SHVC and MV-HEVC working drafts.</a:t>
            </a:r>
            <a:endParaRPr b="0" lang="en-US" sz="2000" spc="-1" strike="noStrike">
              <a:solidFill>
                <a:srgbClr val="000000"/>
              </a:solidFill>
              <a:latin typeface="Arial"/>
            </a:endParaRPr>
          </a:p>
        </p:txBody>
      </p:sp>
      <p:sp>
        <p:nvSpPr>
          <p:cNvPr id="91"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55A5-F017-4A71-A301-9C71FFF232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61" name=""/>
          <p:cNvSpPr txBox="1"/>
          <p:nvPr/>
        </p:nvSpPr>
        <p:spPr>
          <a:xfrm>
            <a:off x="304920" y="914040"/>
            <a:ext cx="81532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contains two proposals.</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1: This document proposes signaling</a:t>
            </a:r>
            <a:r>
              <a:rPr b="1" lang="en-US" sz="1800" spc="-1" strike="noStrike">
                <a:solidFill>
                  <a:srgbClr val="000000"/>
                </a:solidFill>
                <a:latin typeface="Arial"/>
              </a:rPr>
              <a:t> </a:t>
            </a:r>
            <a:r>
              <a:rPr b="0" lang="en-US" sz="1800" spc="-1" strike="noStrike">
                <a:solidFill>
                  <a:srgbClr val="000000"/>
                </a:solidFill>
                <a:latin typeface="Arial"/>
              </a:rPr>
              <a:t>vps_max_dec_pic_buffering_minus1, vps_max_num_reorder_pics, vps_max_latency_increase_plus1 parameters for sub-layers for the operation points in VPS extension for SHVC and MV-HEVC. </a:t>
            </a:r>
            <a:endParaRPr b="0" lang="en-US" sz="18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variant proposal these parameters are signaled in VPS extension for the output layer sets instead of for operation points. </a:t>
            </a: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2: The document also proposes the operation and bumping process for output order DPB of SHVC and MV-HEVC to use the above parameters from VPS extension if they are signaled for the selected operation point (or output layer set in the variant proposal)</a:t>
            </a:r>
            <a:r>
              <a:rPr b="0" lang="en-CA" sz="1800" spc="-1" strike="noStrike">
                <a:solidFill>
                  <a:srgbClr val="000000"/>
                </a:solidFill>
                <a:latin typeface="Arial"/>
              </a:rPr>
              <a:t>. Otherwise the SPS level parameters are used.</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5127-DC58-46D1-9E46-0DF53FC7572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1/5)</a:t>
            </a:r>
            <a:endParaRPr b="1" lang="en-US" sz="2400" spc="-1" strike="noStrike">
              <a:solidFill>
                <a:srgbClr val="ffffff"/>
              </a:solidFill>
              <a:latin typeface="Arial"/>
            </a:endParaRPr>
          </a:p>
        </p:txBody>
      </p:sp>
      <p:sp>
        <p:nvSpPr>
          <p:cNvPr id="64" name=""/>
          <p:cNvSpPr txBox="1"/>
          <p:nvPr/>
        </p:nvSpPr>
        <p:spPr>
          <a:xfrm>
            <a:off x="304560" y="914040"/>
            <a:ext cx="83818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document proposes signaling</a:t>
            </a:r>
            <a:r>
              <a:rPr b="1" lang="en-GB" sz="1800" spc="-1" strike="noStrike">
                <a:solidFill>
                  <a:srgbClr val="000000"/>
                </a:solidFill>
                <a:latin typeface="Arial"/>
              </a:rPr>
              <a:t> </a:t>
            </a:r>
            <a:r>
              <a:rPr b="0" lang="en-GB" sz="1800" spc="-1" strike="noStrike">
                <a:solidFill>
                  <a:srgbClr val="000000"/>
                </a:solidFill>
                <a:latin typeface="Arial"/>
              </a:rPr>
              <a:t>vps_max_dec_pic_buffering_minus1, vps_max_num_reorder_pics, vps_max_latency_increase_plus1 parameters for sub-layers for the CVS for one or more operation points in VPS extension. It is asserted that this allows defining these parameters to allow bumping of pictures depending upon the particular set of layers included in the operation point under test.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so it is asserted that signalling these syntax elements in VPS extension can help in session negotiation. For example vps_max_dec_pic_buffering_minus1[ id ][  j ] specifies the maximum required size of the decoded picture buffer for the CVS for layer with nuh_layer_id equal to id in units of picture storage buffers when HighestTid is equal to j. This information is useful for the decoder in terms of session negotiation based on its available DPB size in determining if it can select to operate at a certain operation point and the associated layer set.</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 variant proposal vps_max_dec_pic_buffering_minus1, vps_max_num_reorder_pics, vps_max_latency_increase_plus1 parameters could be signaled in VPS extension for the output layer sets instead of for operation points.</a:t>
            </a:r>
            <a:endParaRPr b="0" lang="en-US" sz="18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B45E-84FE-4B26-B7A2-DFD9BF84750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2/5)</a:t>
            </a:r>
            <a:endParaRPr b="1" lang="en-US" sz="2400" spc="-1" strike="noStrike">
              <a:solidFill>
                <a:srgbClr val="ffffff"/>
              </a:solidFill>
              <a:latin typeface="Arial"/>
            </a:endParaRPr>
          </a:p>
        </p:txBody>
      </p:sp>
      <p:sp>
        <p:nvSpPr>
          <p:cNvPr id="67" name=""/>
          <p:cNvSpPr txBox="1"/>
          <p:nvPr/>
        </p:nvSpPr>
        <p:spPr>
          <a:xfrm>
            <a:off x="5638680" y="837720"/>
            <a:ext cx="3276720" cy="5257800"/>
          </a:xfrm>
          <a:prstGeom prst="rect">
            <a:avLst/>
          </a:prstGeom>
          <a:noFill/>
          <a:ln w="0">
            <a:noFill/>
          </a:ln>
        </p:spPr>
        <p:txBody>
          <a:bodyPr anchor="t">
            <a:normAutofit fontScale="95000"/>
          </a:bodyPr>
          <a:p>
            <a:pPr marL="325800" indent="-32580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_op_dpb_info_parameters</a:t>
            </a:r>
            <a:r>
              <a:rPr b="0" lang="en-US" sz="1400" spc="-1" strike="noStrike">
                <a:solidFill>
                  <a:srgbClr val="000000"/>
                </a:solidFill>
                <a:latin typeface="Arial"/>
              </a:rPr>
              <a:t> specifies the number of op_dpb_parameters( ) syntax structures present in the VPS extension RBSP. num_op_dpb_info_parameters decoders shall be in the range of 0 to vps_num_layer_sets_minus1, inclusive.</a:t>
            </a:r>
            <a:endParaRPr b="0" lang="en-US" sz="1400" spc="-1" strike="noStrike">
              <a:solidFill>
                <a:srgbClr val="000000"/>
              </a:solidFill>
              <a:latin typeface="Arial"/>
            </a:endParaRPr>
          </a:p>
          <a:p>
            <a:pPr marL="325800" indent="-32580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_point_layer_set_idx</a:t>
            </a:r>
            <a:r>
              <a:rPr b="0" lang="en-US" sz="1400" spc="-1" strike="noStrike">
                <a:solidFill>
                  <a:srgbClr val="000000"/>
                </a:solidFill>
                <a:latin typeface="Arial"/>
              </a:rPr>
              <a:t>[ i ] specifies the index, into the list of layer sets defined by operation points to which the i‑th op_dpb_info_parameters( ) syntax structure in the VPS extension applies. The value of operation_point_layer_set_idx[ i ] should be in the range of 0 to vps_num_layer_sets_minus1, inclusive. </a:t>
            </a:r>
            <a:r>
              <a:rPr b="0" lang="en-CA" sz="1400" spc="-1" strike="noStrike">
                <a:solidFill>
                  <a:srgbClr val="000000"/>
                </a:solidFill>
                <a:latin typeface="Arial"/>
              </a:rPr>
              <a:t>It is requirement of bitstream conformance that </a:t>
            </a:r>
            <a:r>
              <a:rPr b="0" lang="en-US" sz="1400" spc="-1" strike="noStrike">
                <a:solidFill>
                  <a:srgbClr val="000000"/>
                </a:solidFill>
                <a:latin typeface="Arial"/>
              </a:rPr>
              <a:t>operation_point_layer_set_idx[ i ] shall not be equal to operation_point_layer_set_idx[ j ] for any j not equal to i.</a:t>
            </a:r>
            <a:endParaRPr b="0" lang="en-US" sz="1400" spc="-1" strike="noStrike">
              <a:solidFill>
                <a:srgbClr val="000000"/>
              </a:solidFill>
              <a:latin typeface="Arial"/>
            </a:endParaRPr>
          </a:p>
          <a:p>
            <a:pPr lvl="1" marL="705600" indent="-2714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8D8D-65E8-44FE-BF68-6D83D9693EE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9" name="Picture 6" descr=""/>
          <p:cNvPicPr/>
          <p:nvPr/>
        </p:nvPicPr>
        <p:blipFill>
          <a:blip r:embed="rId1"/>
          <a:srcRect l="7516" t="0" r="7516" b="0"/>
          <a:stretch/>
        </p:blipFill>
        <p:spPr>
          <a:xfrm>
            <a:off x="304920" y="1066680"/>
            <a:ext cx="5168880" cy="500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3/5)</a:t>
            </a:r>
            <a:endParaRPr b="1" lang="en-US" sz="2400" spc="-1" strike="noStrike">
              <a:solidFill>
                <a:srgbClr val="ffffff"/>
              </a:solidFill>
              <a:latin typeface="Arial"/>
            </a:endParaRPr>
          </a:p>
        </p:txBody>
      </p:sp>
      <p:sp>
        <p:nvSpPr>
          <p:cNvPr id="71" name=""/>
          <p:cNvSpPr txBox="1"/>
          <p:nvPr/>
        </p:nvSpPr>
        <p:spPr>
          <a:xfrm>
            <a:off x="533160" y="3123720"/>
            <a:ext cx="8381880" cy="2971800"/>
          </a:xfrm>
          <a:prstGeom prst="rect">
            <a:avLst/>
          </a:prstGeom>
          <a:noFill/>
          <a:ln w="0">
            <a:noFill/>
          </a:ln>
        </p:spPr>
        <p:txBody>
          <a:bodyPr anchor="t">
            <a:normAutofit/>
          </a:bodyPr>
          <a:p>
            <a:pPr marL="343080" indent="-34308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s_max_sub_layers_minus1</a:t>
            </a:r>
            <a:r>
              <a:rPr b="0" lang="en-US" sz="1400" spc="-1" strike="noStrike">
                <a:solidFill>
                  <a:srgbClr val="000000"/>
                </a:solidFill>
                <a:latin typeface="Arial"/>
              </a:rPr>
              <a:t>[ id ] [ j ] plus 1 specifies the maximum number of temporal sub-layers that may be present in the CVS for layer with nuh_layer_id equal to j for the operation point associated with index id. The value of vps_max_sub_layers_minus1[ id ] [ j ] shall be in the range of 0 to 6, inclusive.</a:t>
            </a:r>
            <a:endParaRPr b="0" lang="en-US" sz="1400" spc="-1" strike="noStrike">
              <a:solidFill>
                <a:srgbClr val="000000"/>
              </a:solidFill>
              <a:latin typeface="Arial"/>
            </a:endParaRPr>
          </a:p>
          <a:p>
            <a:pPr marL="343080" indent="-34308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s_sub_layer_ordering_info_present_flag</a:t>
            </a:r>
            <a:r>
              <a:rPr b="0" lang="en-US" sz="1400" spc="-1" strike="noStrike">
                <a:solidFill>
                  <a:srgbClr val="000000"/>
                </a:solidFill>
                <a:latin typeface="Arial"/>
              </a:rPr>
              <a:t>[ id ] [ j ] equal to 1 specifies that vps_max_dec_pic_buffering_minus1[ id ][ j ][ k ], vps_max_num_reorder_pics[ id ][ j ][ k ], and vps_max_latency_increase_plus1[ id ][ j ][ k ] are present for layer with nuh_layer_id equal to j for the operation point associated with index id for vps_max_sub_layers_minus1[ id ][ j ] + 1 sub-layers. vps_sub_layer_ordering_info_present_flag[ id ][ j ] equal to 0 specifies that the values of vps_max_dec_pic_buffering_minus1[ id ][ j ][ vps_max_sub_layers_minus1[ id ][ j ] ], vps_max_num_reorder_pics[ id ][ j ][ vps_max_sub_layers_minus1[ id ][ j ] ], and vps_max_latency_increase_plus1[ id ][ j ][ vps_max_sub_layers_minus1[ id ][ j ] ] apply to all sub-layers for layer with nuh_layer_id equal to j for the operation point associated with index id.</a:t>
            </a:r>
            <a:endParaRPr b="0" lang="en-US" sz="14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4ECF-33AC-4BA2-9049-02D2159AC2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3" name="Picture 5" descr=""/>
          <p:cNvPicPr/>
          <p:nvPr/>
        </p:nvPicPr>
        <p:blipFill>
          <a:blip r:embed="rId1"/>
          <a:stretch/>
        </p:blipFill>
        <p:spPr>
          <a:xfrm>
            <a:off x="1066680" y="1066680"/>
            <a:ext cx="6083280" cy="208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4/5)</a:t>
            </a:r>
            <a:endParaRPr b="1" lang="en-US" sz="2400" spc="-1" strike="noStrike">
              <a:solidFill>
                <a:srgbClr val="ffffff"/>
              </a:solidFill>
              <a:latin typeface="Arial"/>
            </a:endParaRPr>
          </a:p>
        </p:txBody>
      </p:sp>
      <p:sp>
        <p:nvSpPr>
          <p:cNvPr id="75" name=""/>
          <p:cNvSpPr txBox="1"/>
          <p:nvPr/>
        </p:nvSpPr>
        <p:spPr>
          <a:xfrm>
            <a:off x="533160" y="990360"/>
            <a:ext cx="8381880" cy="5105160"/>
          </a:xfrm>
          <a:prstGeom prst="rect">
            <a:avLst/>
          </a:prstGeom>
          <a:noFill/>
          <a:ln w="0">
            <a:noFill/>
          </a:ln>
        </p:spPr>
        <p:txBody>
          <a:bodyPr anchor="t">
            <a:normAutofit fontScale="96000"/>
          </a:bodyPr>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ps_max_dec_pic_buffering_minus1</a:t>
            </a:r>
            <a:r>
              <a:rPr b="0" lang="en-US" sz="1200" spc="-1" strike="noStrike">
                <a:solidFill>
                  <a:srgbClr val="000000"/>
                </a:solidFill>
                <a:latin typeface="Arial"/>
              </a:rPr>
              <a:t>[ id ][ j ][ k ] plus 1 specifies the maximum required size of the decoded picture buffer for the CVS for layer with nuh_layer_id equal to j for the operation point associated with index id in units of picture storage buffers when HighestTid is equal to k. The value of vps_max_dec_pic_buffering_minus1[ id ][ j ][ k ] shall be in the range of 0 to MaxDpbSize − 1 (as specified in subclause A.4), inclusive. When k is greater than 0, vps_max_dec_pic_buffering_minus1[ id ][ j ][ k ] shall be greater than or equal to vps_max_dec_pic_buffering_minus1[ id ][ j ][ k − 1 ]. When vps_max_dec_pic_buffering_minus1[ id ][ j ][ k ] is not present for k in the range of 0 to vps_max_sub_layers_minus1[ id ][ j ] − 1, inclusive, due to vps_sub_layer_ordering_info_present_flag[ id ][ j ] being equal to 0, it is inferred to be equal to vps_max_dec_pic_buffering_minus1[ id ][ j ][ vps_max_sub_layers_minus1[ id ][ j ] ].</a:t>
            </a:r>
            <a:endParaRPr b="0" lang="en-US" sz="1200" spc="-1" strike="noStrike">
              <a:solidFill>
                <a:srgbClr val="000000"/>
              </a:solidFill>
              <a:latin typeface="Arial"/>
            </a:endParaRPr>
          </a:p>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ps_max_num_reorder_pics</a:t>
            </a:r>
            <a:r>
              <a:rPr b="0" lang="en-US" sz="1200" spc="-1" strike="noStrike">
                <a:solidFill>
                  <a:srgbClr val="000000"/>
                </a:solidFill>
                <a:latin typeface="Arial"/>
              </a:rPr>
              <a:t>[ id ][ j ][ k ] indicates the maximum allowed number of pictures that can precede any picture in the CVS for layer with nuh_layer_id equal to j for the operation point associated with index id in decoding order and follow that picture in output order when HighestTid is equal to k. The value of vps_max_num_reorder_pics[ id ][ j ][ k ] shall be in the range of 0 to vps_max_dec_pic_buffering_minus1[ id ][ j ][ k ], inclusive. When k is greater than 0, vps_max_num_reorder_pics[ id ][ j ][ k ] shall be greater than or equal to vps_max_num_reorder_pics[ id ][ j ][ k − 1 ]. When vps_max_num_reorder_pics[ id ][ j ][ k ] is not present for k in the range of 0 to vps_max_sub_layers_minus1[ id ][ j ] − 1, inclusive, due to vps_sub_layer_ordering_info_present_flag[ id ][ j ] being equal to 0, it is inferred to be equal to vps_max_num_reorder_pics[ id ][ j ][ vps_max_sub_layers_minus1[ id ][ j ] ].</a:t>
            </a:r>
            <a:endParaRPr b="0" lang="en-US" sz="1200" spc="-1" strike="noStrike">
              <a:solidFill>
                <a:srgbClr val="000000"/>
              </a:solidFill>
              <a:latin typeface="Arial"/>
            </a:endParaRPr>
          </a:p>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ps_max_latency_increase_plus1</a:t>
            </a:r>
            <a:r>
              <a:rPr b="0" lang="en-US" sz="1200" spc="-1" strike="noStrike">
                <a:solidFill>
                  <a:srgbClr val="000000"/>
                </a:solidFill>
                <a:latin typeface="Arial"/>
              </a:rPr>
              <a:t>[ id ] [ j ][ k ] not equal to 0 is used to compute the value of VpsMaxLatencyPictures[ id ][ j ][ k ], which specifies the maximum number of pictures that can precede any picture in the CVS for layer with nuh_layer_id equal to j for the operation point associated with index id in output order and follow that picture in decoding order when HighestTid is equal to k. When vps_max_latency_increase_plus1[ id ][ j ][ k ] is not equal to 0, the value of VpsMaxLatencyPictures[ id ][ j ][ k ] is specified as follows:</a:t>
            </a:r>
            <a:endParaRPr b="0" lang="en-US" sz="1200" spc="-1" strike="noStrike">
              <a:solidFill>
                <a:srgbClr val="000000"/>
              </a:solidFill>
              <a:latin typeface="Arial"/>
            </a:endParaRPr>
          </a:p>
          <a:p>
            <a:pPr marL="329040" indent="-3290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psMaxLatencyPictures[ id ][ j ][ k ] = vps_max_num_reorder_pics[ id ][ j ][ k ] + vps_max_latency_increase_plus1[ id ][ j ][ k ] − 1</a:t>
            </a:r>
            <a:endParaRPr b="0" lang="en-US" sz="1100" spc="-1" strike="noStrike">
              <a:solidFill>
                <a:srgbClr val="000000"/>
              </a:solidFill>
              <a:latin typeface="Arial"/>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vps_max_latency_increase_plus1[ id ][ j ][ k ] is equal to 0, no corresponding limit is expressed.</a:t>
            </a:r>
            <a:endParaRPr b="0" lang="en-US" sz="1200" spc="-1" strike="noStrike">
              <a:solidFill>
                <a:srgbClr val="000000"/>
              </a:solidFill>
              <a:latin typeface="Arial"/>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alue of vps_max_latency_increase_plus1[ id ][ j ][ k ] shall be in the range of 0 to 2</a:t>
            </a:r>
            <a:r>
              <a:rPr b="0" lang="en-US" sz="1200" spc="-1" strike="noStrike" baseline="30000">
                <a:solidFill>
                  <a:srgbClr val="000000"/>
                </a:solidFill>
                <a:latin typeface="Arial"/>
              </a:rPr>
              <a:t>32</a:t>
            </a:r>
            <a:r>
              <a:rPr b="0" lang="en-US" sz="1200" spc="-1" strike="noStrike">
                <a:solidFill>
                  <a:srgbClr val="000000"/>
                </a:solidFill>
                <a:latin typeface="Arial"/>
              </a:rPr>
              <a:t> − 2, inclusive. When vps_max_latency_increase_plus1[ id ][ j ][ k] is not present for k in the range of 0 to vps_max_sub_layers_minus1[ id ][ j ] − 1, inclusive, due to vps_sub_layer_ordering_info_present_flag[ id ][ j ] being equal to 0, it is inferred to be equal to vps_max_latency_increase_plus1[ id ][ j ][ vps_max_sub_layers_minus1[ id ][ j ] ].</a:t>
            </a:r>
            <a:endParaRPr b="0" lang="en-US" sz="1200" spc="-1" strike="noStrike">
              <a:solidFill>
                <a:srgbClr val="000000"/>
              </a:solidFill>
              <a:latin typeface="Arial"/>
            </a:endParaRPr>
          </a:p>
          <a:p>
            <a:pPr lvl="1" marL="713160" indent="-274320">
              <a:spcBef>
                <a:spcPts val="275"/>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53E8-5AD3-41E0-BA79-3299A0A81B2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5/5)</a:t>
            </a:r>
            <a:endParaRPr b="1" lang="en-US" sz="2400" spc="-1" strike="noStrike">
              <a:solidFill>
                <a:srgbClr val="ffffff"/>
              </a:solidFill>
              <a:latin typeface="Arial"/>
            </a:endParaRPr>
          </a:p>
        </p:txBody>
      </p:sp>
      <p:sp>
        <p:nvSpPr>
          <p:cNvPr id="78" name=""/>
          <p:cNvSpPr txBox="1"/>
          <p:nvPr/>
        </p:nvSpPr>
        <p:spPr>
          <a:xfrm>
            <a:off x="5409720" y="914040"/>
            <a:ext cx="3505320" cy="525780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osal 1 Variant A:</a:t>
            </a:r>
            <a:endParaRPr b="0" lang="en-US" sz="16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case the parameters vps_max_dec_pic_buffering_minus1, vps_max_num_reorder_pics, vps_max_latency_increase_plus1 parameters are signaled in the VPS extension for output layer sets instead of for operation points.</a:t>
            </a:r>
            <a:endParaRPr b="0" lang="en-US" sz="1400" spc="-1" strike="noStrike">
              <a:solidFill>
                <a:srgbClr val="000000"/>
              </a:solidFill>
              <a:latin typeface="Arial"/>
            </a:endParaRPr>
          </a:p>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_dpb_info_parameters</a:t>
            </a:r>
            <a:r>
              <a:rPr b="0" lang="en-US" sz="1200" spc="-1" strike="noStrike">
                <a:solidFill>
                  <a:srgbClr val="000000"/>
                </a:solidFill>
                <a:latin typeface="Arial"/>
              </a:rPr>
              <a:t> specifies the number of oop_dpb_parameters( ) syntax structures present in the VPS extension RBSP. num_dpb_info_parameters decoders shall be in the range of 0 to num_output_layer_sets, inclusive.</a:t>
            </a:r>
            <a:endParaRPr b="0" lang="en-US" sz="1200" spc="-1" strike="noStrike">
              <a:solidFill>
                <a:srgbClr val="000000"/>
              </a:solidFill>
              <a:latin typeface="Arial"/>
            </a:endParaRPr>
          </a:p>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_point_layer_set_idx</a:t>
            </a:r>
            <a:r>
              <a:rPr b="0" lang="en-US" sz="1200" spc="-1" strike="noStrike">
                <a:solidFill>
                  <a:srgbClr val="000000"/>
                </a:solidFill>
                <a:latin typeface="Arial"/>
              </a:rPr>
              <a:t>[ i ] specifies the index, into the list of target output layer sets to which the i‑th oop_dpb_info_parameters( ) syntax structure in the VPS extension applies.  The value of output_point_layer_set_idx[ i ] should be in the range of 0 to num_output_layer_sets, inclusive. </a:t>
            </a:r>
            <a:r>
              <a:rPr b="0" lang="en-CA" sz="1200" spc="-1" strike="noStrike">
                <a:solidFill>
                  <a:srgbClr val="000000"/>
                </a:solidFill>
                <a:latin typeface="Arial"/>
              </a:rPr>
              <a:t>It is requirement of bitstream conformance that </a:t>
            </a:r>
            <a:r>
              <a:rPr b="0" lang="en-US" sz="1200" spc="-1" strike="noStrike">
                <a:solidFill>
                  <a:srgbClr val="000000"/>
                </a:solidFill>
                <a:latin typeface="Arial"/>
              </a:rPr>
              <a:t>output_point_layer_set_idx[ i ] shall not be equal to output_point_layer_set_idx[ j ] for any j not equal to i.</a:t>
            </a:r>
            <a:endParaRPr b="0" lang="en-US" sz="12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71BD-C02B-419C-A54A-47384A9D579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0" name="Picture 6" descr=""/>
          <p:cNvPicPr/>
          <p:nvPr/>
        </p:nvPicPr>
        <p:blipFill>
          <a:blip r:embed="rId1"/>
          <a:srcRect l="3251" t="0" r="3251" b="0"/>
          <a:stretch/>
        </p:blipFill>
        <p:spPr>
          <a:xfrm>
            <a:off x="152280" y="990720"/>
            <a:ext cx="5261040" cy="553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1/2)</a:t>
            </a:r>
            <a:endParaRPr b="1" lang="en-US" sz="2400" spc="-1" strike="noStrike">
              <a:solidFill>
                <a:srgbClr val="ffffff"/>
              </a:solidFill>
              <a:latin typeface="Arial"/>
            </a:endParaRPr>
          </a:p>
        </p:txBody>
      </p:sp>
      <p:sp>
        <p:nvSpPr>
          <p:cNvPr id="82" name=""/>
          <p:cNvSpPr txBox="1"/>
          <p:nvPr/>
        </p:nvSpPr>
        <p:spPr>
          <a:xfrm>
            <a:off x="304920" y="914040"/>
            <a:ext cx="86104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dditionally this document proposes the operation and bumping process for output order DPB to use the above signaled DPB buffering related parameters from VPS extension if they are signaled for the selected operation point (or output layer set in variant A proposal). Otherwise the SPS level parameters from the active SPS (when layer_id of the current layer is equal to 0) or from the active layer SPS depending upon the layer_id of the current layer are used.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ed changes are highlighted below compared to SHVC Draft Text 1 and are also applicable to MV-HEVC Draft Text 3</a:t>
            </a:r>
            <a:r>
              <a:rPr b="0" lang="en-C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265E-44B1-4079-8D86-31B491DF8F1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2/2)</a:t>
            </a:r>
            <a:endParaRPr b="1" lang="en-US" sz="2400" spc="-1" strike="noStrike">
              <a:solidFill>
                <a:srgbClr val="ffffff"/>
              </a:solidFill>
              <a:latin typeface="Arial"/>
            </a:endParaRPr>
          </a:p>
        </p:txBody>
      </p:sp>
      <p:sp>
        <p:nvSpPr>
          <p:cNvPr id="85"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F1F8-F653-42D6-B882-B188E89136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6" name="Picture 15" descr=""/>
          <p:cNvPicPr/>
          <p:nvPr/>
        </p:nvPicPr>
        <p:blipFill>
          <a:blip r:embed="rId1"/>
          <a:stretch/>
        </p:blipFill>
        <p:spPr>
          <a:xfrm>
            <a:off x="228600" y="914400"/>
            <a:ext cx="3724200" cy="5499000"/>
          </a:xfrm>
          <a:prstGeom prst="rect">
            <a:avLst/>
          </a:prstGeom>
          <a:ln w="0">
            <a:noFill/>
          </a:ln>
        </p:spPr>
      </p:pic>
      <p:pic>
        <p:nvPicPr>
          <p:cNvPr id="87" name="" descr=""/>
          <p:cNvPicPr/>
          <p:nvPr/>
        </p:nvPicPr>
        <p:blipFill>
          <a:blip r:embed="rId2"/>
          <a:stretch/>
        </p:blipFill>
        <p:spPr>
          <a:xfrm>
            <a:off x="304920" y="1143000"/>
            <a:ext cx="8610480" cy="5029200"/>
          </a:xfrm>
          <a:prstGeom prst="rect">
            <a:avLst/>
          </a:prstGeom>
          <a:ln w="0">
            <a:noFill/>
          </a:ln>
        </p:spPr>
      </p:pic>
      <p:pic>
        <p:nvPicPr>
          <p:cNvPr id="88" name="Picture 17" descr=""/>
          <p:cNvPicPr/>
          <p:nvPr/>
        </p:nvPicPr>
        <p:blipFill>
          <a:blip r:embed="rId3"/>
          <a:stretch/>
        </p:blipFill>
        <p:spPr>
          <a:xfrm>
            <a:off x="4800600" y="914400"/>
            <a:ext cx="38196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21:56:46Z</dcterms:created>
  <dc:creator>lkerofsky</dc:creator>
  <dc:description/>
  <dc:language>en-US</dc:language>
  <cp:lastModifiedBy>Sachin Deshpande</cp:lastModifiedBy>
  <dcterms:modified xsi:type="dcterms:W3CDTF">2013-04-12T23:50:17Z</dcterms:modified>
  <cp:revision>1204</cp:revision>
  <dc:subject/>
  <dc:title>Slide 1</dc:title>
</cp:coreProperties>
</file>