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E01B36-294E-41C6-8628-F0015B6C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A2B214-8857-4B1D-A7FE-917541AF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57D62F-65F8-4237-BCCA-3D7F778F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B81D9F-DD59-4131-BE75-0807243F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AC8C12-4990-4BA8-8BD7-E437F41EC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41AFFC-4002-46E8-BFAA-A26FF801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F664B7-95EA-4D25-9B9A-85018AA8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2A7666-CB4D-446D-B915-305C27DD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5C5-112A-49C4-A963-6D7CC0CB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705-3D0F-4813-AE17-4A245CA0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597-38DC-45DC-AF64-B38AC5FF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B01-4EE1-4900-AE37-F715FC29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ACF-BF93-482C-BB32-BE6E3C1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E4C-CA09-43C9-A378-F1095861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15D-12CC-4A49-9C94-B4D27799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76C-883E-45AF-A44F-F61A7C8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53E-3C63-4F27-8E49-EAAADB4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99B-F85C-4CDA-99C0-958582EA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E22-B404-4B47-BF5A-E83CEAB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9DD-0C3E-469B-8626-B07630D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A9F-C14E-4301-8148-283BA64EC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0209/ D0082: On Design for Signal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-layer Predi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4A6-6D14-4413-AA15-5E0DB5C19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9140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“strawman” design for signaling of inter-layer prediction indication was discussed during 1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JCTV-VC mee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syntax and semantics for this design considered for signaling inter-layer prediction indication was described in JCTVC-L04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document proposes following additions to the design considered for signaling inter-layer predi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posal 1: A change to the marking process for sub-layer non-reference pictures not needed for inter-layer prediction is propos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posal 2: A change to the decoding of inter-layer reference picture set and reference picture list construction is propo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E19-EE57-4106-A82C-7C8E8142A6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032" t="0" r="15032" b="5560"/>
          <a:stretch/>
        </p:blipFill>
        <p:spPr>
          <a:xfrm>
            <a:off x="4572000" y="1447920"/>
            <a:ext cx="4254480" cy="3106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653720" y="4724280"/>
            <a:ext cx="404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CTVC-L0449: Design Considered for Signaling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-layer Prediction Indi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1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change to the marking process for sub-layer non-reference pictures  not needed for inter-layer predi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using the proposed change in the marking process sub-layer non-reference pictures of target layers could be marked “unused for reference” based on the VPS signalling regarding use of sub-layer and RAP pictures of various layers for inter-layer predi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is asserted that this proposed approach has the advantage that additional sub-layer non-reference pictures of target layers could be marked “unused for reference”. Thus DPB size / memory could be re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9FB9-0BF4-429B-B736-6F071AC567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1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1404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changes are highlighted compared to JCTVC-L1008 SHVC draft text 1 and JCTVC-C1004 MV-HEVC draft text 3 and using syntax defined in JCTVC-L04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724E-A6E7-4DB2-8B0E-7E10D6DDF2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5486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change to the decoding of inter-layer reference picture set and reference picture list construction is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using our proposed change in the decoding process for inter-layer reference picture set an additional check is performed regarding the TemporalId of the inter-layer pictures for pictures with nuh_layer_id values corresponding to the layers which are direct reference layers for the current layer with picture order count equal to the current pic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f the value of the TemporalId for the said inter-layer picture is greater than max_sublayer_for_ilp_plus1[i]-1 then those inter-layer pictures are not added to the inter-layer reference picture s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dditionally if the value of max_sublayer_for_ilp_plus1[i] is zero then the said inter-layer picture is not added to the inter-layer reference picture set unless it is a RAP pic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inter-layer reference picture set is then used for reference picture list co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276-ADD3-493B-B478-2E7F5FBC2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1B3C-983A-49A8-A5FF-238F618DB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1430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osed changes are highlighted compared to JCTVC-L1008 SHVC draft text 1 and JCTVC-C1004 MV-HEVC draft text 3 and using syntax defined in JCTVC-L044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1"/>
          <a:stretch/>
        </p:blipFill>
        <p:spPr>
          <a:xfrm>
            <a:off x="228600" y="2103480"/>
            <a:ext cx="5029200" cy="414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2"/>
          <a:stretch/>
        </p:blipFill>
        <p:spPr>
          <a:xfrm>
            <a:off x="5410080" y="2103480"/>
            <a:ext cx="35514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2 (3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684-DFD3-4797-B01C-41465C0E7C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2743200" y="977760"/>
            <a:ext cx="38149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“strawman” design for signalling of inter-layer prediction indication was discussed during 12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JCTV-VC meeting and was described in JCTVC-L044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document proposes additions to the design considered for signaling inter-layer predi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al 1: A change to the marking process for sub-layer non-reference pictures  not needed for inter-layer predi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al 2: A change to the decoding of inter-layer reference picture set and reference picture list construction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JCTVC-L0449 and our two proposal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 SHVC and MV-HEVC draft 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E4C3-51B4-439A-8B59-3225C7709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20:37:11Z</dcterms:created>
  <dc:creator>lkerofsky</dc:creator>
  <dc:description/>
  <dc:language>en-US</dc:language>
  <cp:lastModifiedBy>Sachin Deshpande</cp:lastModifiedBy>
  <dcterms:modified xsi:type="dcterms:W3CDTF">2013-04-12T23:50:01Z</dcterms:modified>
  <cp:revision>1193</cp:revision>
  <dc:subject/>
  <dc:title>Slide 1</dc:title>
</cp:coreProperties>
</file>