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2DC03F-C9BF-404C-B36E-A56B4A18081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3DEB16-15EC-49B2-BD1E-0CA39096FF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46191B-379D-403D-958C-4D8A6B31A6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A808DC-3A21-4ECC-B2BD-521A220CDD3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FB5540-4C71-4682-A770-D63DFEA392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FD88C7-F6BE-4691-B292-8D415C46C05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FB54C7-D957-410F-AB08-9B4A46E591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783E8C-1AA3-42AD-B59E-27C045006B6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C40733-E2E9-4AD0-8AE9-24557019C85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96194-0D1E-46E8-A653-A200D9907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D9A70-3A36-436E-8B57-4063541C1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B7D84-B951-435A-9F06-CC1BCA347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BA526-0190-47B6-A36F-61929E728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CA968-46DD-4CBE-8A9F-237579EA9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15DD7-FFB9-4AAC-9F2E-D97C07667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62DE9-846C-4EEA-9864-F7FFD49A5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62E38-C3EF-4E3E-80FF-2BBE55ED0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D6694-5311-4E64-828E-68E9D9CDD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3BA2B-12F8-46FF-8271-0839AA98E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99B36-E8FF-4ECB-B0D7-F363FE470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2BDC0-2C95-472C-8474-3FFEC599D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e4e6f6"/>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A51A-CC79-4000-92E7-961EA8FC210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676160"/>
            <a:ext cx="80010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0208/ D0081: Comments on SHVC and MV-HEVC</a:t>
            </a:r>
            <a:endParaRPr b="1" lang="en-US" sz="3200" spc="-1" strike="noStrike">
              <a:solidFill>
                <a:srgbClr val="ffffff"/>
              </a:solidFill>
              <a:latin typeface="Arial"/>
            </a:endParaRPr>
          </a:p>
        </p:txBody>
      </p:sp>
      <p:sp>
        <p:nvSpPr>
          <p:cNvPr id="58" name="PlaceHolder 2"/>
          <p:cNvSpPr>
            <a:spLocks noGrp="1"/>
          </p:cNvSpPr>
          <p:nvPr>
            <p:ph type="subTitle"/>
          </p:nvPr>
        </p:nvSpPr>
        <p:spPr>
          <a:xfrm>
            <a:off x="914040" y="4038120"/>
            <a:ext cx="6705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in Deshpand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Labs of America</a:t>
            </a:r>
            <a:endParaRPr b="0" lang="en-US" sz="20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A54E-F1D6-4596-BDE2-8CA87F375B2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61" name=""/>
          <p:cNvSpPr txBox="1"/>
          <p:nvPr/>
        </p:nvSpPr>
        <p:spPr>
          <a:xfrm>
            <a:off x="304920" y="914040"/>
            <a:ext cx="86104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proposes comments on SHVC Draft Text 1 and MV-HEVC Draft Text 3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proposed:</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posal 1: A restriction on inter-layer reference picture set RefPicSetInterLayer of a random access decodable leading (RADL) picture is proposed. </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2: A restriction on the IDR and BLA NAL unit types for pictures with the same PicrOrderCntVal value is relaxed to apply to individual groups of layers considering the layer dependency.</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posal 3: A change in the restriction on the </a:t>
            </a:r>
            <a:r>
              <a:rPr b="0" lang="en-US" sz="1800" spc="-1" strike="noStrike">
                <a:solidFill>
                  <a:srgbClr val="000000"/>
                </a:solidFill>
                <a:latin typeface="Arial"/>
              </a:rPr>
              <a:t>NumPocTotalCurr </a:t>
            </a:r>
            <a:r>
              <a:rPr b="0" lang="en-CA" sz="1800" spc="-1" strike="noStrike">
                <a:solidFill>
                  <a:srgbClr val="000000"/>
                </a:solidFill>
                <a:latin typeface="Arial"/>
              </a:rPr>
              <a:t>value of CRA pictures is proposed.</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3D99-E973-4A61-B0E9-44C40703F03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1/2)</a:t>
            </a:r>
            <a:endParaRPr b="1" lang="en-US" sz="2400" spc="-1" strike="noStrike">
              <a:solidFill>
                <a:srgbClr val="ffffff"/>
              </a:solidFill>
              <a:latin typeface="Arial"/>
            </a:endParaRPr>
          </a:p>
        </p:txBody>
      </p:sp>
      <p:sp>
        <p:nvSpPr>
          <p:cNvPr id="64" name=""/>
          <p:cNvSpPr txBox="1"/>
          <p:nvPr/>
        </p:nvSpPr>
        <p:spPr>
          <a:xfrm>
            <a:off x="304920" y="914040"/>
            <a:ext cx="8610480" cy="5257800"/>
          </a:xfrm>
          <a:prstGeom prst="rect">
            <a:avLst/>
          </a:prstGeom>
          <a:noFill/>
          <a:ln w="0">
            <a:noFill/>
          </a:ln>
        </p:spPr>
        <p:txBody>
          <a:bodyPr anchor="t">
            <a:normAutofit fontScale="98000"/>
          </a:bodyPr>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pictures with the same value of PicOrderCntVal if a RASL picture exists at a lower layer which is a direct reference layer for the current layer and a RADL picture occurs at the current layer then the RADL picture at the current layer will not be decodable with the current RPS restrictions which apply only to RefPicSetStCurrBefore, RefPicSetCurrAfter and RefPicSetLtCurr when a random access is performed at the associated IRAP picture of the RADL picture. </a:t>
            </a: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this case currently using the steps from “G.8.1.1 - The decoding process for inter-layer reference picture set” in [1-2] the RASL picture of the lower layer which is a direct reference layer for the current layer will be included in the RefPicSetInterLayer of RADL picture of current layer which can make the RADL picture at the current layer un-decodable when random access is performed at the associated IRAP picture of the RADL picture. </a:t>
            </a: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propose following restriction on the inter-layer reference picture set RefPicSetInterLayer of a random access decodable leading (RADL) picture :</a:t>
            </a:r>
            <a:endParaRPr b="0" lang="en-US" sz="18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en the current picture is a RADL picture, there shall be no picture included in RefPicSetStInterLayer that is any of the following:</a:t>
            </a:r>
            <a:endParaRPr b="0" lang="en-US" sz="1600" spc="-1" strike="noStrike">
              <a:solidFill>
                <a:srgbClr val="000000"/>
              </a:solidFill>
              <a:latin typeface="Arial"/>
            </a:endParaRPr>
          </a:p>
          <a:p>
            <a:pPr lvl="1" marL="727920" indent="-28008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 RASL picture</a:t>
            </a:r>
            <a:endParaRPr b="0" lang="en-US" sz="1400" spc="-1" strike="noStrike">
              <a:solidFill>
                <a:srgbClr val="000000"/>
              </a:solidFill>
              <a:latin typeface="Arial"/>
            </a:endParaRPr>
          </a:p>
          <a:p>
            <a:pPr lvl="1" marL="727920" indent="-28008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 picture that was generated by the decoding process for generating unavailable reference pictures as specified in subclause 8.3.3</a:t>
            </a:r>
            <a:endParaRPr b="0" lang="en-US" sz="14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5626-5C89-4402-A9C0-33BBC328004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1 (2/2)</a:t>
            </a:r>
            <a:endParaRPr b="1" lang="en-US" sz="2400" spc="-1" strike="noStrike">
              <a:solidFill>
                <a:srgbClr val="ffffff"/>
              </a:solidFill>
              <a:latin typeface="Arial"/>
            </a:endParaRPr>
          </a:p>
        </p:txBody>
      </p:sp>
      <p:sp>
        <p:nvSpPr>
          <p:cNvPr id="67" name=""/>
          <p:cNvSpPr txBox="1"/>
          <p:nvPr/>
        </p:nvSpPr>
        <p:spPr>
          <a:xfrm>
            <a:off x="5715000" y="914040"/>
            <a:ext cx="320040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nd/or alternatively the decoding process for inter-layer reference picture set could be modified as shown below.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4572-B6CC-44FE-AE91-BA7AD6CD24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69" name="Picture 5" descr=""/>
          <p:cNvPicPr/>
          <p:nvPr/>
        </p:nvPicPr>
        <p:blipFill>
          <a:blip r:embed="rId1"/>
          <a:stretch/>
        </p:blipFill>
        <p:spPr>
          <a:xfrm>
            <a:off x="541440" y="914400"/>
            <a:ext cx="448776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2 (1/3)</a:t>
            </a:r>
            <a:endParaRPr b="1" lang="en-US" sz="2400" spc="-1" strike="noStrike">
              <a:solidFill>
                <a:srgbClr val="ffffff"/>
              </a:solidFill>
              <a:latin typeface="Arial"/>
            </a:endParaRPr>
          </a:p>
        </p:txBody>
      </p:sp>
      <p:sp>
        <p:nvSpPr>
          <p:cNvPr id="71" name=""/>
          <p:cNvSpPr txBox="1"/>
          <p:nvPr/>
        </p:nvSpPr>
        <p:spPr>
          <a:xfrm>
            <a:off x="304920" y="914040"/>
            <a:ext cx="86104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t>
            </a:r>
            <a:r>
              <a:rPr b="0" lang="en-US" sz="1800" spc="-1" strike="noStrike">
                <a:solidFill>
                  <a:srgbClr val="000000"/>
                </a:solidFill>
                <a:latin typeface="Arial"/>
              </a:rPr>
              <a:t>SHVC Draft Text 1 and MV-HEVC Draft Text 3 </a:t>
            </a:r>
            <a:r>
              <a:rPr b="0" lang="en-CA" sz="1800" spc="-1" strike="noStrike">
                <a:solidFill>
                  <a:srgbClr val="000000"/>
                </a:solidFill>
                <a:latin typeface="Arial"/>
              </a:rPr>
              <a:t>following restriction exists: </a:t>
            </a:r>
            <a:endParaRPr b="0" lang="en-US" sz="18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When the nal_unit_type value nalUnitTypeA is equal to IDR_W_DLP, IDR_N_LP, BLA_W_LP, BLA_W_DLP or BLA_N_LP for a coded picture with a particular PicOrderCntVal value and within a particular CVS, the nal_unit_type value shall be equal to nalUnitTypeA for all VCL NAL units of all coded pictures with the same particular PicOrderCntVal value and within the same particular CVS.</a:t>
            </a: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propose to relax this restriction considering the direct_dependency_flag[i][j] values signalled in VPS extension for a layer.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posed new restriction follows the design intent of the original restriction while providing more flexibility in the placement of IDR and BLA pictures across layers of all coded pictures with the same particular PicOrderCntVal value when simulcast is used.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roposed approach the restriction on the IDR and BLA NAL unit types for the pictures with the same PicrOrderCntVal value is relaxed to apply to individual groups of layers considering the layer dependency.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posed restriction allows different IDR/ BLA frequency to be selected when using simulcas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9F06-082D-440D-8F67-3F076AE08A3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2 (2/3)</a:t>
            </a:r>
            <a:endParaRPr b="1" lang="en-US" sz="2400" spc="-1" strike="noStrike">
              <a:solidFill>
                <a:srgbClr val="ffffff"/>
              </a:solidFill>
              <a:latin typeface="Arial"/>
            </a:endParaRPr>
          </a:p>
        </p:txBody>
      </p:sp>
      <p:sp>
        <p:nvSpPr>
          <p:cNvPr id="74" name=""/>
          <p:cNvSpPr txBox="1"/>
          <p:nvPr/>
        </p:nvSpPr>
        <p:spPr>
          <a:xfrm>
            <a:off x="304920" y="914040"/>
            <a:ext cx="8610480" cy="1600200"/>
          </a:xfrm>
          <a:prstGeom prst="rect">
            <a:avLst/>
          </a:prstGeom>
          <a:noFill/>
          <a:ln w="0">
            <a:noFill/>
          </a:ln>
        </p:spPr>
        <p:txBody>
          <a:bodyPr anchor="t">
            <a:normAutofit/>
          </a:bodyPr>
          <a:p>
            <a:pPr marL="343080" indent="-34308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original restriction in JCTVC-L1008 all layers must encode an IDR/ BLA picture for PicOrderCntVal PicOrderCntValB in the figure. </a:t>
            </a:r>
            <a:endParaRPr b="0" lang="en-US" sz="1400" spc="-1" strike="noStrike">
              <a:solidFill>
                <a:srgbClr val="000000"/>
              </a:solidFill>
              <a:latin typeface="Arial"/>
            </a:endParaRPr>
          </a:p>
          <a:p>
            <a:pPr marL="343080" indent="-343080">
              <a:spcBef>
                <a:spcPts val="34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proposed restriction the IDR/ BLA frequency can be different in each set of simulcast layers. </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D2CC-2B76-4F4F-A627-7128DE2808E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6" name="Picture 4" descr="idrshvc4.png"/>
          <p:cNvPicPr/>
          <p:nvPr/>
        </p:nvPicPr>
        <p:blipFill>
          <a:blip r:embed="rId1"/>
          <a:stretch/>
        </p:blipFill>
        <p:spPr>
          <a:xfrm>
            <a:off x="865080" y="2057400"/>
            <a:ext cx="7364520" cy="44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2 (3/3)</a:t>
            </a:r>
            <a:endParaRPr b="1" lang="en-US" sz="2400" spc="-1" strike="noStrike">
              <a:solidFill>
                <a:srgbClr val="ffffff"/>
              </a:solidFill>
              <a:latin typeface="Arial"/>
            </a:endParaRPr>
          </a:p>
        </p:txBody>
      </p:sp>
      <p:sp>
        <p:nvSpPr>
          <p:cNvPr id="78" name=""/>
          <p:cNvSpPr txBox="1"/>
          <p:nvPr/>
        </p:nvSpPr>
        <p:spPr>
          <a:xfrm>
            <a:off x="304920" y="914040"/>
            <a:ext cx="86104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text is proposed compared to JCTVC-L1008. The proposed changes are highlighted.</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0119-0AA7-424C-BF30-9BCB070FE3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0" name="Picture 4" descr=""/>
          <p:cNvPicPr/>
          <p:nvPr/>
        </p:nvPicPr>
        <p:blipFill>
          <a:blip r:embed="rId1"/>
          <a:stretch/>
        </p:blipFill>
        <p:spPr>
          <a:xfrm>
            <a:off x="1066680" y="1981080"/>
            <a:ext cx="7467840" cy="37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 3</a:t>
            </a:r>
            <a:endParaRPr b="1" lang="en-US" sz="2400" spc="-1" strike="noStrike">
              <a:solidFill>
                <a:srgbClr val="ffffff"/>
              </a:solidFill>
              <a:latin typeface="Arial"/>
            </a:endParaRPr>
          </a:p>
        </p:txBody>
      </p:sp>
      <p:sp>
        <p:nvSpPr>
          <p:cNvPr id="82" name=""/>
          <p:cNvSpPr txBox="1"/>
          <p:nvPr/>
        </p:nvSpPr>
        <p:spPr>
          <a:xfrm>
            <a:off x="304920" y="914040"/>
            <a:ext cx="8610480" cy="5257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t>
            </a:r>
            <a:r>
              <a:rPr b="0" lang="en-US" sz="1800" spc="-1" strike="noStrike">
                <a:solidFill>
                  <a:srgbClr val="000000"/>
                </a:solidFill>
                <a:latin typeface="Arial"/>
              </a:rPr>
              <a:t>SHVC Draft Text 1 [1] and MV-HEVC Draft Text 3 [2] </a:t>
            </a:r>
            <a:r>
              <a:rPr b="0" lang="en-CA" sz="1800" spc="-1" strike="noStrike">
                <a:solidFill>
                  <a:srgbClr val="000000"/>
                </a:solidFill>
                <a:latin typeface="Arial"/>
              </a:rPr>
              <a:t>following restriction exists: </a:t>
            </a:r>
            <a:endParaRPr b="0" lang="en-US" sz="18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f the current picture is a BLA or CRA picture, the value of NumPocTotalCurr shall be equal to 0.</a:t>
            </a: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propose a change in the above restriction on the </a:t>
            </a:r>
            <a:r>
              <a:rPr b="0" lang="en-US" sz="1800" spc="-1" strike="noStrike">
                <a:solidFill>
                  <a:srgbClr val="000000"/>
                </a:solidFill>
                <a:latin typeface="Arial"/>
              </a:rPr>
              <a:t>NumPocTotalCurr </a:t>
            </a:r>
            <a:r>
              <a:rPr b="0" lang="en-CA" sz="1800" spc="-1" strike="noStrike">
                <a:solidFill>
                  <a:srgbClr val="000000"/>
                </a:solidFill>
                <a:latin typeface="Arial"/>
              </a:rPr>
              <a:t>value of CRA pictures with nuh_layer_id greater than zero. </a:t>
            </a:r>
            <a:endParaRPr b="0" lang="en-US" sz="1800" spc="-1" strike="noStrike">
              <a:solidFill>
                <a:srgbClr val="000000"/>
              </a:solidFill>
              <a:latin typeface="Arial"/>
            </a:endParaRPr>
          </a:p>
          <a:p>
            <a:pPr lvl="1" marL="743040" indent="-285840">
              <a:spcBef>
                <a:spcPts val="3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This is because inter-layer prediction is allowed for CRA NAL units with nuh_layer_id greater than zero, while inter prediction is disallowed. </a:t>
            </a:r>
            <a:endParaRPr b="0" lang="en-US" sz="14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ince NumPocTotalCurr is calculated as described in G.7.4.7.2 to include the number of pictures in inter-layer reference picture set, we propose following change in the restriction on the NumPocTotalCurr value of CRA pictures.</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posed change with respect to the text in JCTVC-L1008 and JCTVC-C1004 is shown highlighted below:</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2CA7-BCAC-4832-B727-4AF587DC456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4" name="Picture 4" descr=""/>
          <p:cNvPicPr/>
          <p:nvPr/>
        </p:nvPicPr>
        <p:blipFill>
          <a:blip r:embed="rId1"/>
          <a:stretch/>
        </p:blipFill>
        <p:spPr>
          <a:xfrm>
            <a:off x="1752480" y="4419720"/>
            <a:ext cx="609624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a:t>
            </a:r>
            <a:endParaRPr b="1" lang="en-US" sz="2400" spc="-1" strike="noStrike">
              <a:solidFill>
                <a:srgbClr val="ffffff"/>
              </a:solidFill>
              <a:latin typeface="Arial"/>
            </a:endParaRPr>
          </a:p>
        </p:txBody>
      </p:sp>
      <p:sp>
        <p:nvSpPr>
          <p:cNvPr id="86"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proposes the following changes to SHVC Draft Text 1 and MV-HEVC Draft Text 3 :</a:t>
            </a:r>
            <a:endParaRPr b="0" lang="en-US" sz="20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posal 1: A restriction on inter-layer reference picture set RefPicSetInterLayer of a random access decodable leading (RADL) picture is proposed. </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 2: A restriction on the IDR and BLA NAL unit types for the pictures with the same PicrOrderCntVal value is relaxed to apply to individual groups of layers considering the layer dependency.</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roposal 3: A change in the restriction on the </a:t>
            </a:r>
            <a:r>
              <a:rPr b="0" lang="en-US" sz="1800" spc="-1" strike="noStrike">
                <a:solidFill>
                  <a:srgbClr val="000000"/>
                </a:solidFill>
                <a:latin typeface="Arial"/>
              </a:rPr>
              <a:t>NumPocTotalCurr </a:t>
            </a:r>
            <a:r>
              <a:rPr b="0" lang="en-CA" sz="1800" spc="-1" strike="noStrike">
                <a:solidFill>
                  <a:srgbClr val="000000"/>
                </a:solidFill>
                <a:latin typeface="Arial"/>
              </a:rPr>
              <a:t>value of CRA pictures is proposed.</a:t>
            </a:r>
            <a:endParaRPr b="0" lang="en-US" sz="18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e propose to adopt the proposed changes in SHVC and MV-HEVC draft tex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F0E1-ADFB-4073-8090-86AC4A00AA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17:53:05Z</dcterms:created>
  <dc:creator>lkerofsky</dc:creator>
  <dc:description/>
  <dc:language>en-US</dc:language>
  <cp:lastModifiedBy>Sachin Deshpande</cp:lastModifiedBy>
  <dcterms:modified xsi:type="dcterms:W3CDTF">2013-04-12T23:49:18Z</dcterms:modified>
  <cp:revision>1190</cp:revision>
  <dc:subject/>
  <dc:title>Slide 1</dc:title>
</cp:coreProperties>
</file>