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80E-7CAE-451A-B7E7-1DD0F3A2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70D-1EC5-47CB-B1DB-441F5563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6A9-1893-4205-98BF-CD15E313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E32-C2EC-474C-B812-DE9577BF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4C9-D6E2-4DAB-8E92-F9531D16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B905-B10C-4EA2-ADFB-EEC7C3DA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D4B7-5062-48D9-B1D9-A9DC6BF3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8F1-DE0A-4211-B9C0-26B6C736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B12F-AE7F-4912-9A15-B2CE72D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3106-AD7C-47A8-A8D2-B15726FE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69D1-4826-46A8-AD99-D3FA6C6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925-3DBD-4911-BC40-E481CCE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847B-986C-4C29-9D48-2A80E632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B49-32FB-429C-940B-CC0B8B0D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9A9F-994C-4D04-B1A1-31B6B476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AEB8-79EB-453F-8698-C4394898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FA70-6A48-4E74-B851-28AA8FE5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C75-9336-4D82-B93E-230E63EF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A2E-E3BC-4DD3-AABD-42BAD580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C0E-1DD0-4D09-8FE3-B5C7251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FAC-7CE5-4F7D-8E23-1318EBF4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C83-E7C5-439E-A7DA-8817068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9BB-BA5A-4D47-BD20-D30B99C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89E-D5EA-425D-ABEF-51189EB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185-2F2A-4FAF-9256-7421304583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97B6-6B58-43BD-8BA7-303BCDFA4C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7696080" cy="238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0066"/>
                </a:solidFill>
                <a:latin typeface="Arial"/>
              </a:rPr>
              <a:t>CE6.H related: Results on Modified Binarization for Region Boundary Chain Coding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en-CA" sz="4000" spc="-1" strike="noStrike">
                <a:solidFill>
                  <a:srgbClr val="0000ff"/>
                </a:solidFill>
                <a:latin typeface="Arial"/>
              </a:rPr>
              <a:t>JCT3V-D0076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)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76160" y="434340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 Lu and Lu Yu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l@zju.edu.c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</a:t>
            </a: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tat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undary chain coding, the syntax el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ge_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used to derive the edg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, truncated unary binarization is applied for the syntax el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ge_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600200" y="3276720"/>
          <a:ext cx="5562720" cy="3429000"/>
        </p:xfrm>
        <a:graphic>
          <a:graphicData uri="http://schemas.openxmlformats.org/drawingml/2006/table">
            <a:tbl>
              <a:tblPr/>
              <a:tblGrid>
                <a:gridCol w="1911240"/>
                <a:gridCol w="1825560"/>
                <a:gridCol w="1825920"/>
              </a:tblGrid>
              <a:tr h="43020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dge_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dge di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n 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3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3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</a:t>
            </a: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tat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statistical analysis shows that the occurring probabilities of the edge direction differ important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relative edge directions have smaller occurring prob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ge directions with the same absolute value but different sign have similar occurring prob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228600" y="7621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Proposed metho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method of binarization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2286000"/>
          <a:ext cx="6324480" cy="4343400"/>
        </p:xfrm>
        <a:graphic>
          <a:graphicData uri="http://schemas.openxmlformats.org/drawingml/2006/table">
            <a:tbl>
              <a:tblPr/>
              <a:tblGrid>
                <a:gridCol w="2173320"/>
                <a:gridCol w="2074680"/>
                <a:gridCol w="2076480"/>
              </a:tblGrid>
              <a:tr h="54612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dge_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dge di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n 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3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3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矩形 10"/>
          <p:cNvSpPr/>
          <p:nvPr/>
        </p:nvSpPr>
        <p:spPr>
          <a:xfrm>
            <a:off x="5105520" y="2590920"/>
            <a:ext cx="457200" cy="3962160"/>
          </a:xfrm>
          <a:prstGeom prst="rect">
            <a:avLst/>
          </a:prstGeom>
          <a:solidFill>
            <a:srgbClr val="ffff00">
              <a:alpha val="21000"/>
            </a:srgbClr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5638680" y="3200400"/>
            <a:ext cx="457200" cy="3352680"/>
          </a:xfrm>
          <a:prstGeom prst="rect">
            <a:avLst/>
          </a:prstGeom>
          <a:solidFill>
            <a:srgbClr val="ffff00">
              <a:alpha val="21000"/>
            </a:srgbClr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"/>
          <p:cNvSpPr/>
          <p:nvPr/>
        </p:nvSpPr>
        <p:spPr>
          <a:xfrm>
            <a:off x="6095880" y="3200400"/>
            <a:ext cx="457200" cy="3352680"/>
          </a:xfrm>
          <a:prstGeom prst="rect">
            <a:avLst/>
          </a:prstGeom>
          <a:solidFill>
            <a:srgbClr val="ffff00">
              <a:alpha val="21000"/>
            </a:srgbClr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6"/>
          <p:cNvSpPr/>
          <p:nvPr/>
        </p:nvSpPr>
        <p:spPr>
          <a:xfrm>
            <a:off x="6553080" y="4343400"/>
            <a:ext cx="457200" cy="2209680"/>
          </a:xfrm>
          <a:prstGeom prst="rect">
            <a:avLst/>
          </a:prstGeom>
          <a:solidFill>
            <a:srgbClr val="ffff00">
              <a:alpha val="21000"/>
            </a:srgbClr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28600" y="7621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Proposed metho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binarization makes the probablity distribution sharper as this table sh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mode is used for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 and 3 CABAC contexts are used for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,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 and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2514600"/>
          <a:ext cx="5029200" cy="2819520"/>
        </p:xfrm>
        <a:graphic>
          <a:graphicData uri="http://schemas.openxmlformats.org/drawingml/2006/table">
            <a:tbl>
              <a:tblPr/>
              <a:tblGrid>
                <a:gridCol w="2571840"/>
                <a:gridCol w="2457360"/>
              </a:tblGrid>
              <a:tr h="74304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in id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robablity of bein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≈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6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≈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marL="503280" indent="-503280"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≈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28600" y="7621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Experimental Resul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 PSNR / total b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宋体"/>
              </a:rPr>
              <a:t>Common test condition (C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宋体"/>
              </a:rPr>
              <a:t>0.1% BD-rate g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ll I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宋体"/>
              </a:rPr>
              <a:t>0.005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宋体"/>
              </a:rPr>
              <a:t>BD-rate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PSNR / depth b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宋体"/>
              </a:rPr>
              <a:t>Common test condition (C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宋体"/>
              </a:rPr>
              <a:t>% BD-rate g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ll I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.1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宋体"/>
              </a:rPr>
              <a:t>% BD-rate g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posal modifies the binarization and CABAC context of the syntax el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ge_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gion boundary chain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roposal achieves 0.1% and 0.005% BD-rate gains compared to 3D-HTM6.0 under the common test condition (CTC) and all intra test condition with the same encoding/decodi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s concludes my presentation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35:24Z</dcterms:created>
  <dc:creator>Yin Zhao</dc:creator>
  <dc:description/>
  <dc:language>en-US</dc:language>
  <cp:lastModifiedBy>lvpeng</cp:lastModifiedBy>
  <dcterms:modified xsi:type="dcterms:W3CDTF">2013-04-20T07:03:54Z</dcterms:modified>
  <cp:revision>2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