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CAB2-7EF9-4678-9E31-E83221BAD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18240-D940-4259-AB1E-8F686E5A8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DA85-1258-4C14-A845-8FF576427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AC781-9BC3-47DE-A05D-1F0BA291B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AA16F-5625-4B8E-A915-DEE9456DC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A64B-9152-40C4-AC0E-E29E6DC27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22CE-6999-432F-823C-B29BE290A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0BF8-007F-4122-83BE-070A1F304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2680-549A-4531-9704-A2680ADD9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5981-D8B7-4B7D-822C-989C6C4DA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8849-E802-47D0-B19A-BFCA84980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A91E-03FA-411B-BA92-B30A7C2BC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F307-4BA8-4923-B1CF-AD5DD1F62B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3V-C0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3V-C0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ode dependent advanced inter-view residual predi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1295280" y="38862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cheng An, Kai Zhang, Jian-Liang Lin, and Shawmin 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4800600" y="5621400"/>
            <a:ext cx="40338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Presented b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an-Liang 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10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MPEG Meeting in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Gene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17-23 Jan.,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-Dependent Advanced IVR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26760" y="1123560"/>
            <a:ext cx="80550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 of C0138 and C004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-Dependent IVRP (C013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IVRP only when the temporal inter-view merging candidate of merge or skip mode is selected with 2Nx2N partition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IVRP (C00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ference residual is not the actually coded residual in base view but generated by the motion compensation of the reference block in base 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tion information of the reference block is copied from those of current 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10A2-4C52-41C1-8469-AA8FA2977E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imental Results of MDAIVRP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HTM5.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F6A1-3E31-4137-9492-F855A5FA1EB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hanced Spatial Merge (ESM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patial merging candid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elected for a 2Nx2N PU, not only the motion information, but also the IVRP information is mer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corresponding neighboring block uses IVRP, then current PU will also use IVR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V used for IVRP for current PU will following that of the neighboring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DA22-66BF-4E1F-85E8-57281327E52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imental Results of E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HTM5.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A0C4-CA06-49C5-950E-EEA29D5E395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7000" y="2057400"/>
            <a:ext cx="91058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ed with C004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is similar with that of C00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interpolation filter used. (C0049 used tw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encoder RDO process, only 1 time in PU level. (C0049 needs to try 3 ti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ing problem solved totally. (C0049 has parsing dependency with reference picture 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灯片编号占位符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D419-AFA2-4083-B291-6C169F5778D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 of C0138 and C00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ing problem 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en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% encoding time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BD-rate gain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%, 2.7% gain for V1, V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% gain for C&amp;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picture buffer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motion compensation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und 10% decoding time incr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861C-8D98-4D28-82EB-9C8532FF73D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9600" y="267336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s for your attention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tk02478</cp:lastModifiedBy>
  <dcterms:modified xsi:type="dcterms:W3CDTF">2013-01-18T18:50:02Z</dcterms:modified>
  <cp:revision>294</cp:revision>
  <dc:subject/>
  <dc:title>In slice head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82850293</vt:r8>
  </property>
  <property fmtid="{D5CDD505-2E9C-101B-9397-08002B2CF9AE}" pid="3" name="_AuthorEmail">
    <vt:lpwstr>jl.lin@mediatek.com</vt:lpwstr>
  </property>
  <property fmtid="{D5CDD505-2E9C-101B-9397-08002B2CF9AE}" pid="4" name="_AuthorEmailDisplayName">
    <vt:lpwstr>JL Lin (林建良)</vt:lpwstr>
  </property>
  <property fmtid="{D5CDD505-2E9C-101B-9397-08002B2CF9AE}" pid="5" name="_EmailSubject">
    <vt:lpwstr>JCT3V-C0139.ppt</vt:lpwstr>
  </property>
  <property fmtid="{D5CDD505-2E9C-101B-9397-08002B2CF9AE}" pid="6" name="_NewReviewCycle">
    <vt:lpwstr/>
  </property>
</Properties>
</file>