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3BB4-A5FE-4D98-A432-B652ED920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917C-DF55-4845-971B-BC0B8BA8B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DD1F-EA80-4350-BB58-C10DC191A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751F-9668-4C0A-8542-D30254F29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C667-F996-4FBE-A63C-3E10046CC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1581-EAFC-45C9-9CB4-D9BFFCDE3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90D9-2A84-4BEA-B44E-C641677A2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4D54-0F16-4CC8-9DFC-F0923EE9E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03AB-A961-4D2F-8565-BC30702B9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17AD-3E1B-4F48-B3A9-8894AF45E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ECAD-A18D-456E-B203-C90CF013F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A1E3-2834-4D29-89DE-BE04228AF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53B6-9382-42CF-90E9-EDBC83E7D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12C5-2931-4078-82A6-6DFA2B843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BAC3-A96E-4F9C-8850-8130B0724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4B1-0635-48D9-982C-45A08D56F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C0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C0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al of parsing dependency of inter-view residu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295280" y="3886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800600" y="5621400"/>
            <a:ext cx="4033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an-Liang 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0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MPEG Meeting in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7-23 Jan.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 1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the removal of parsing dependency and the removal of residual interpo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79F-5D8A-4E46-8FEE-46FEF42E9E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6320" y="2308320"/>
            <a:ext cx="89899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of parsing dependency of inter-view residual prediction (IV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VRP when inter-view merging candidate of merge or skip mode is selected with 2Nx2N par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e parsing dependency of IVRP in HTM5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ding loss (0.1%,0.2% coding gain for V1, V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encoder complexity. (6% encoding time re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of residual interpo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bi-linear interpolation in IV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ding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C7A-FE05-473B-9C33-E20B0723C8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9600" y="267336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of parsing dependency in inter-view residual prediction (IV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VRP when temporal inter-view merging candidate is selected with 2Nx2N par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e parsing dependency of IVRP in HTM5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ding loss (0.1%,0.2% coding gain for V1, V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encoder complexity. (6% encoding time re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6DB-9857-41DA-843F-3704D4690A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IV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6760" y="1123560"/>
            <a:ext cx="8055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VRP, the residual block in the reference view referenced by the disparity vector is used for predicting the residual of the current 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998-FC78-410D-8D74-BA64DF88CC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2362320" y="2743200"/>
          <a:ext cx="48607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4860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RP CU Level On/off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rol the usage of the IVRP, an IVRP enable flag i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onditionally signal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ding unit (CU) level when all the following conditions are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CU is a texture CU in dependent view, and the current slice is not an I-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CU has at least one PU using motion-compensated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eds to check the prediction type of every PU=&gt;pars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more transform units (TUs) covered or partially covered by the reference block in the reference view are non-intra coded and contain at least one nonzero coded block flag (C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parsing of IVRP enable flag depends on the information (coding type, and CBF) of the reference view=&gt;pars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A64A-16C2-47C5-B2DD-97B95285F4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RP PU Level On/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U where the inter-view residual flag is true, each PU has to determine whether to enable the IVRP or not according to the prediction typ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U only uses motion-compensated prediction, the IVRP is enabled in the 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U only uses disparity-compensated prediction, the IVRP is disabled in the 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urrent PU is bi-prediction and one direction is motion compensated prediction and the other direction is disparity-compensated prediction, the IVRP is enabled, but the reference residual used in IVRP is multiplied by 1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91F-E364-4D18-AC6F-198E8F390A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oposed Removal of parsing dependenc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2171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on/off control flag for the IV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e parsing problem tota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he IVRP to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Nx2N Merge/Sk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mporal inter-view merging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encoder RDO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try IVRP on/off twice for a 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%, 0.2% gain for V1, V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9C2-E6D2-4953-9B99-ADF556B72A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of parsing dependency of inter-view residual prediction  based on HTM5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D588-EE3C-4344-86D9-FE94D34788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28600" y="2308320"/>
            <a:ext cx="89154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al of Residual Interpo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 HTM 5.0.1, the residual prediction signal is obtained by interpolating the residual samples of the reference view using a bi-linear fi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o remove the residual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45F7-CF43-4B54-8EA0-AE0187DA8C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of residual interpolation based on HTM5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B49-9219-4862-9924-B008A164DA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2308320"/>
            <a:ext cx="92566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tk02478</cp:lastModifiedBy>
  <dcterms:modified xsi:type="dcterms:W3CDTF">2013-01-18T11:00:59Z</dcterms:modified>
  <cp:revision>281</cp:revision>
  <dc:subject/>
  <dc:title>In slice header</dc:title>
</cp:coreProperties>
</file>